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DF48E-B1B6-41B4-AACE-7D991B328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6F4FC-C315-4517-9185-CDB6479D1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F273F-38A1-439B-814D-3C7F41EC1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E38FE-799F-4E88-BC0D-69BD3E9FA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A6A8A-EC28-4A7A-A565-DA7B97C60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6E316-84F8-434A-B693-32FDFF28A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3C623-5A9C-4F3B-975F-9EBD421A9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3EF10-5152-4E32-806E-1C67044C8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DECBD-DEC2-4E1D-9BAF-B9FE05F8B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9F4B5-FD2C-494E-8FB0-30D26E40D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50601-0A68-4A63-9340-17C7FA1F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04F69-F56D-47D7-B230-EFB4E9476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45D3A-4317-47D7-A9F8-D33FBFE3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08258-7AB0-481A-A3AE-970301DE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47950-A4FD-4113-80AB-D46EDEE95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79961-8D77-424B-9EAD-B19CB7EFF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8B6A7-2092-4B39-BD09-B4DA97793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6453B-2A87-4B59-B141-B986B313B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1F7EE-98AD-4EFE-9CA1-DC5B4D85B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2AF87-0DFF-4232-A1C7-DAB145F53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4F978-EB29-4722-8EE2-8BEE1C0B3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69A37-49C9-43ED-ACB3-D15CA860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E7693-E65A-4652-9239-7242FB3A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9CB66-A322-47B7-BA83-9BCFC693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6b6b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b6b6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64646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7070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94949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94949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717171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868686"/>
                </a:gs>
                <a:gs pos="100000">
                  <a:srgbClr val="eaeae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17171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66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66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F9667-DDAC-46F7-B340-F25AB1368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7171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b6b6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64646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7070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94949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94949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717171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868686"/>
                </a:gs>
                <a:gs pos="100000">
                  <a:srgbClr val="eaeae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17171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b5b5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b5b5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b5b5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5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868686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868686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b5b5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E5BA3-859A-49D4-A4A9-FEA8571C6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6b6b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day, December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1752480" y="1905120"/>
            <a:ext cx="5867640" cy="185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24 Ga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6b6b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Arial"/>
              </a:rPr>
              <a:t>Lesson 5.2</a:t>
            </a:r>
            <a:br>
              <a:rPr sz="8500"/>
            </a:br>
            <a:r>
              <a:rPr b="0" lang="en-US" sz="8500" spc="-1" strike="noStrike">
                <a:solidFill>
                  <a:srgbClr val="000000"/>
                </a:solidFill>
                <a:latin typeface="Arial"/>
              </a:rPr>
              <a:t>part three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6b6b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rify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2362320" y="1371600"/>
          <a:ext cx="449568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371600"/>
                    <a:ext cx="449568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9" name=""/>
          <p:cNvSpPr/>
          <p:nvPr/>
        </p:nvSpPr>
        <p:spPr>
          <a:xfrm>
            <a:off x="625320" y="5724360"/>
            <a:ext cx="27000" cy="27000"/>
          </a:xfrm>
          <a:custGeom>
            <a:avLst/>
            <a:gdLst/>
            <a:ahLst/>
            <a:rect l="l" t="t" r="r" b="b"/>
            <a:pathLst>
              <a:path w="76" h="75">
                <a:moveTo>
                  <a:pt x="1736" y="15925"/>
                </a:moveTo>
                <a:cubicBezTo>
                  <a:pt x="1779" y="15882"/>
                  <a:pt x="1801" y="15932"/>
                  <a:pt x="1811" y="1597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599000" y="1204920"/>
            <a:ext cx="849240" cy="1778040"/>
          </a:xfrm>
          <a:custGeom>
            <a:avLst/>
            <a:gdLst/>
            <a:ahLst/>
            <a:rect l="l" t="t" r="r" b="b"/>
            <a:pathLst>
              <a:path w="2358" h="4937">
                <a:moveTo>
                  <a:pt x="12973" y="3522"/>
                </a:moveTo>
                <a:cubicBezTo>
                  <a:pt x="12973" y="3478"/>
                  <a:pt x="12980" y="3473"/>
                  <a:pt x="12998" y="3448"/>
                </a:cubicBezTo>
                <a:cubicBezTo>
                  <a:pt x="13024" y="3412"/>
                  <a:pt x="13051" y="3388"/>
                  <a:pt x="13072" y="3373"/>
                </a:cubicBezTo>
                <a:cubicBezTo>
                  <a:pt x="13096" y="3356"/>
                  <a:pt x="13162" y="3326"/>
                  <a:pt x="13196" y="3349"/>
                </a:cubicBezTo>
                <a:cubicBezTo>
                  <a:pt x="13208" y="3357"/>
                  <a:pt x="13247" y="3399"/>
                  <a:pt x="13271" y="3423"/>
                </a:cubicBezTo>
                <a:cubicBezTo>
                  <a:pt x="13309" y="3462"/>
                  <a:pt x="13331" y="3501"/>
                  <a:pt x="13345" y="3547"/>
                </a:cubicBezTo>
                <a:cubicBezTo>
                  <a:pt x="13361" y="3599"/>
                  <a:pt x="13349" y="3640"/>
                  <a:pt x="13345" y="3671"/>
                </a:cubicBezTo>
                <a:cubicBezTo>
                  <a:pt x="13336" y="3731"/>
                  <a:pt x="13309" y="3768"/>
                  <a:pt x="13271" y="3820"/>
                </a:cubicBezTo>
                <a:cubicBezTo>
                  <a:pt x="13222" y="3886"/>
                  <a:pt x="13188" y="3898"/>
                  <a:pt x="13122" y="3944"/>
                </a:cubicBezTo>
                <a:cubicBezTo>
                  <a:pt x="13082" y="3972"/>
                  <a:pt x="13041" y="3976"/>
                  <a:pt x="12998" y="3994"/>
                </a:cubicBezTo>
                <a:cubicBezTo>
                  <a:pt x="12923" y="4025"/>
                  <a:pt x="12917" y="4014"/>
                  <a:pt x="12849" y="3994"/>
                </a:cubicBezTo>
                <a:cubicBezTo>
                  <a:pt x="12811" y="3983"/>
                  <a:pt x="12819" y="3971"/>
                  <a:pt x="12799" y="3944"/>
                </a:cubicBezTo>
                <a:cubicBezTo>
                  <a:pt x="12778" y="3916"/>
                  <a:pt x="12764" y="3868"/>
                  <a:pt x="12799" y="3845"/>
                </a:cubicBezTo>
                <a:cubicBezTo>
                  <a:pt x="12848" y="3813"/>
                  <a:pt x="12883" y="3795"/>
                  <a:pt x="12948" y="3795"/>
                </a:cubicBezTo>
                <a:cubicBezTo>
                  <a:pt x="13010" y="3795"/>
                  <a:pt x="13068" y="3783"/>
                  <a:pt x="13122" y="3820"/>
                </a:cubicBezTo>
                <a:cubicBezTo>
                  <a:pt x="13169" y="3852"/>
                  <a:pt x="13201" y="3850"/>
                  <a:pt x="13246" y="3894"/>
                </a:cubicBezTo>
                <a:cubicBezTo>
                  <a:pt x="13272" y="3919"/>
                  <a:pt x="13291" y="3959"/>
                  <a:pt x="13295" y="3994"/>
                </a:cubicBezTo>
                <a:cubicBezTo>
                  <a:pt x="13299" y="4029"/>
                  <a:pt x="13300" y="4004"/>
                  <a:pt x="13271" y="3994"/>
                </a:cubicBezTo>
              </a:path>
              <a:path w="2358" h="4937">
                <a:moveTo>
                  <a:pt x="15131" y="3944"/>
                </a:moveTo>
                <a:cubicBezTo>
                  <a:pt x="15065" y="3928"/>
                  <a:pt x="15022" y="3901"/>
                  <a:pt x="14957" y="3894"/>
                </a:cubicBezTo>
                <a:cubicBezTo>
                  <a:pt x="14839" y="3881"/>
                  <a:pt x="14720" y="3899"/>
                  <a:pt x="14610" y="3919"/>
                </a:cubicBezTo>
                <a:cubicBezTo>
                  <a:pt x="14529" y="3934"/>
                  <a:pt x="14465" y="3943"/>
                  <a:pt x="14387" y="3969"/>
                </a:cubicBezTo>
                <a:cubicBezTo>
                  <a:pt x="14336" y="3986"/>
                  <a:pt x="14275" y="3988"/>
                  <a:pt x="14238" y="4043"/>
                </a:cubicBezTo>
                <a:cubicBezTo>
                  <a:pt x="14219" y="4071"/>
                  <a:pt x="14218" y="4106"/>
                  <a:pt x="14213" y="4142"/>
                </a:cubicBezTo>
                <a:cubicBezTo>
                  <a:pt x="14178" y="4398"/>
                  <a:pt x="14206" y="4681"/>
                  <a:pt x="14188" y="4936"/>
                </a:cubicBezTo>
                <a:cubicBezTo>
                  <a:pt x="14179" y="5070"/>
                  <a:pt x="14168" y="5202"/>
                  <a:pt x="14139" y="5333"/>
                </a:cubicBezTo>
                <a:cubicBezTo>
                  <a:pt x="14109" y="5467"/>
                  <a:pt x="14090" y="5596"/>
                  <a:pt x="14064" y="5730"/>
                </a:cubicBezTo>
                <a:cubicBezTo>
                  <a:pt x="14034" y="5881"/>
                  <a:pt x="14013" y="6027"/>
                  <a:pt x="13990" y="6176"/>
                </a:cubicBezTo>
                <a:cubicBezTo>
                  <a:pt x="13967" y="6326"/>
                  <a:pt x="13935" y="6472"/>
                  <a:pt x="13915" y="6623"/>
                </a:cubicBezTo>
                <a:cubicBezTo>
                  <a:pt x="13887" y="6831"/>
                  <a:pt x="13891" y="7033"/>
                  <a:pt x="13891" y="7243"/>
                </a:cubicBezTo>
                <a:cubicBezTo>
                  <a:pt x="13891" y="7370"/>
                  <a:pt x="13881" y="7491"/>
                  <a:pt x="13866" y="7615"/>
                </a:cubicBezTo>
                <a:cubicBezTo>
                  <a:pt x="13853" y="7726"/>
                  <a:pt x="13816" y="7828"/>
                  <a:pt x="13791" y="7938"/>
                </a:cubicBezTo>
                <a:cubicBezTo>
                  <a:pt x="13776" y="8002"/>
                  <a:pt x="13749" y="8097"/>
                  <a:pt x="13742" y="8161"/>
                </a:cubicBezTo>
                <a:cubicBezTo>
                  <a:pt x="13738" y="8202"/>
                  <a:pt x="13744" y="8244"/>
                  <a:pt x="13742" y="8285"/>
                </a:cubicBezTo>
                <a:cubicBezTo>
                  <a:pt x="13777" y="8276"/>
                  <a:pt x="13803" y="8270"/>
                  <a:pt x="13841" y="8260"/>
                </a:cubicBezTo>
                <a:cubicBezTo>
                  <a:pt x="13937" y="8236"/>
                  <a:pt x="14069" y="8216"/>
                  <a:pt x="14163" y="8210"/>
                </a:cubicBezTo>
                <a:cubicBezTo>
                  <a:pt x="14300" y="8202"/>
                  <a:pt x="14485" y="8209"/>
                  <a:pt x="14585" y="818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483240" y="1285920"/>
            <a:ext cx="963720" cy="1751040"/>
          </a:xfrm>
          <a:custGeom>
            <a:avLst/>
            <a:gdLst/>
            <a:ahLst/>
            <a:rect l="l" t="t" r="r" b="b"/>
            <a:pathLst>
              <a:path w="2680" h="4863">
                <a:moveTo>
                  <a:pt x="19918" y="3721"/>
                </a:moveTo>
                <a:cubicBezTo>
                  <a:pt x="19893" y="3721"/>
                  <a:pt x="19885" y="3721"/>
                  <a:pt x="19893" y="3746"/>
                </a:cubicBezTo>
                <a:cubicBezTo>
                  <a:pt x="19893" y="3715"/>
                  <a:pt x="19901" y="3679"/>
                  <a:pt x="19918" y="3671"/>
                </a:cubicBezTo>
                <a:cubicBezTo>
                  <a:pt x="19966" y="3647"/>
                  <a:pt x="19988" y="3631"/>
                  <a:pt x="20042" y="3597"/>
                </a:cubicBezTo>
                <a:cubicBezTo>
                  <a:pt x="20082" y="3571"/>
                  <a:pt x="20091" y="3572"/>
                  <a:pt x="20141" y="3572"/>
                </a:cubicBezTo>
                <a:cubicBezTo>
                  <a:pt x="20193" y="3572"/>
                  <a:pt x="20204" y="3583"/>
                  <a:pt x="20241" y="3621"/>
                </a:cubicBezTo>
                <a:cubicBezTo>
                  <a:pt x="20282" y="3662"/>
                  <a:pt x="20306" y="3701"/>
                  <a:pt x="20340" y="3746"/>
                </a:cubicBezTo>
                <a:cubicBezTo>
                  <a:pt x="20378" y="3796"/>
                  <a:pt x="20404" y="3857"/>
                  <a:pt x="20414" y="3919"/>
                </a:cubicBezTo>
                <a:cubicBezTo>
                  <a:pt x="20425" y="3985"/>
                  <a:pt x="20407" y="4043"/>
                  <a:pt x="20365" y="4093"/>
                </a:cubicBezTo>
                <a:cubicBezTo>
                  <a:pt x="20334" y="4131"/>
                  <a:pt x="20261" y="4181"/>
                  <a:pt x="20216" y="4192"/>
                </a:cubicBezTo>
                <a:cubicBezTo>
                  <a:pt x="20153" y="4208"/>
                  <a:pt x="20114" y="4183"/>
                  <a:pt x="20067" y="4167"/>
                </a:cubicBezTo>
                <a:cubicBezTo>
                  <a:pt x="20046" y="4160"/>
                  <a:pt x="19983" y="4163"/>
                  <a:pt x="19993" y="4118"/>
                </a:cubicBezTo>
                <a:cubicBezTo>
                  <a:pt x="20001" y="4082"/>
                  <a:pt x="20031" y="4076"/>
                  <a:pt x="20067" y="4068"/>
                </a:cubicBezTo>
                <a:cubicBezTo>
                  <a:pt x="20144" y="4052"/>
                  <a:pt x="20221" y="4089"/>
                  <a:pt x="20290" y="4118"/>
                </a:cubicBezTo>
                <a:cubicBezTo>
                  <a:pt x="20373" y="4153"/>
                  <a:pt x="20418" y="4195"/>
                  <a:pt x="20489" y="4242"/>
                </a:cubicBezTo>
                <a:cubicBezTo>
                  <a:pt x="20525" y="4266"/>
                  <a:pt x="20743" y="4344"/>
                  <a:pt x="20662" y="4390"/>
                </a:cubicBezTo>
                <a:cubicBezTo>
                  <a:pt x="20654" y="4390"/>
                  <a:pt x="20646" y="4390"/>
                  <a:pt x="20638" y="4390"/>
                </a:cubicBezTo>
              </a:path>
              <a:path w="2680" h="4863">
                <a:moveTo>
                  <a:pt x="18008" y="3646"/>
                </a:moveTo>
                <a:cubicBezTo>
                  <a:pt x="18067" y="3639"/>
                  <a:pt x="18106" y="3646"/>
                  <a:pt x="18157" y="3646"/>
                </a:cubicBezTo>
                <a:cubicBezTo>
                  <a:pt x="18306" y="3646"/>
                  <a:pt x="18456" y="3657"/>
                  <a:pt x="18604" y="3671"/>
                </a:cubicBezTo>
                <a:cubicBezTo>
                  <a:pt x="18728" y="3682"/>
                  <a:pt x="18855" y="3699"/>
                  <a:pt x="18976" y="3721"/>
                </a:cubicBezTo>
                <a:cubicBezTo>
                  <a:pt x="19054" y="3735"/>
                  <a:pt x="19112" y="3751"/>
                  <a:pt x="19174" y="3795"/>
                </a:cubicBezTo>
                <a:cubicBezTo>
                  <a:pt x="19219" y="3827"/>
                  <a:pt x="19212" y="3810"/>
                  <a:pt x="19224" y="3870"/>
                </a:cubicBezTo>
                <a:cubicBezTo>
                  <a:pt x="19233" y="3917"/>
                  <a:pt x="19194" y="3928"/>
                  <a:pt x="19199" y="3969"/>
                </a:cubicBezTo>
                <a:cubicBezTo>
                  <a:pt x="19206" y="4029"/>
                  <a:pt x="19221" y="4061"/>
                  <a:pt x="19224" y="4118"/>
                </a:cubicBezTo>
                <a:cubicBezTo>
                  <a:pt x="19235" y="4334"/>
                  <a:pt x="19222" y="4548"/>
                  <a:pt x="19248" y="4762"/>
                </a:cubicBezTo>
                <a:cubicBezTo>
                  <a:pt x="19260" y="4863"/>
                  <a:pt x="19271" y="4956"/>
                  <a:pt x="19273" y="5060"/>
                </a:cubicBezTo>
                <a:cubicBezTo>
                  <a:pt x="19275" y="5179"/>
                  <a:pt x="19292" y="5292"/>
                  <a:pt x="19298" y="5407"/>
                </a:cubicBezTo>
                <a:cubicBezTo>
                  <a:pt x="19316" y="5721"/>
                  <a:pt x="19291" y="6040"/>
                  <a:pt x="19273" y="6350"/>
                </a:cubicBezTo>
                <a:cubicBezTo>
                  <a:pt x="19265" y="6478"/>
                  <a:pt x="19294" y="6596"/>
                  <a:pt x="19298" y="6722"/>
                </a:cubicBezTo>
                <a:cubicBezTo>
                  <a:pt x="19307" y="7044"/>
                  <a:pt x="19304" y="7376"/>
                  <a:pt x="19323" y="7689"/>
                </a:cubicBezTo>
                <a:cubicBezTo>
                  <a:pt x="19334" y="7869"/>
                  <a:pt x="19334" y="8070"/>
                  <a:pt x="19348" y="8235"/>
                </a:cubicBezTo>
                <a:cubicBezTo>
                  <a:pt x="19352" y="8283"/>
                  <a:pt x="19365" y="8321"/>
                  <a:pt x="19372" y="8359"/>
                </a:cubicBezTo>
                <a:cubicBezTo>
                  <a:pt x="19372" y="8367"/>
                  <a:pt x="19372" y="8376"/>
                  <a:pt x="19372" y="8384"/>
                </a:cubicBezTo>
                <a:cubicBezTo>
                  <a:pt x="19097" y="8384"/>
                  <a:pt x="18824" y="8402"/>
                  <a:pt x="18554" y="8409"/>
                </a:cubicBezTo>
                <a:cubicBezTo>
                  <a:pt x="18501" y="8410"/>
                  <a:pt x="18422" y="8431"/>
                  <a:pt x="18405" y="8434"/>
                </a:cubicBezTo>
                <a:cubicBezTo>
                  <a:pt x="18380" y="8438"/>
                  <a:pt x="18403" y="8424"/>
                  <a:pt x="18380" y="843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276720" y="3313080"/>
            <a:ext cx="3019320" cy="1009800"/>
          </a:xfrm>
          <a:custGeom>
            <a:avLst/>
            <a:gdLst/>
            <a:ahLst/>
            <a:rect l="l" t="t" r="r" b="b"/>
            <a:pathLst>
              <a:path w="8385" h="2803">
                <a:moveTo>
                  <a:pt x="9153" y="10988"/>
                </a:moveTo>
                <a:cubicBezTo>
                  <a:pt x="9153" y="11093"/>
                  <a:pt x="9143" y="11184"/>
                  <a:pt x="9128" y="11286"/>
                </a:cubicBezTo>
                <a:cubicBezTo>
                  <a:pt x="9106" y="11442"/>
                  <a:pt x="9132" y="11613"/>
                  <a:pt x="9103" y="11757"/>
                </a:cubicBezTo>
                <a:cubicBezTo>
                  <a:pt x="9082" y="11862"/>
                  <a:pt x="9088" y="11803"/>
                  <a:pt x="9103" y="11782"/>
                </a:cubicBezTo>
                <a:cubicBezTo>
                  <a:pt x="9141" y="11729"/>
                  <a:pt x="9171" y="11714"/>
                  <a:pt x="9203" y="11658"/>
                </a:cubicBezTo>
              </a:path>
              <a:path w="8385" h="2803">
                <a:moveTo>
                  <a:pt x="9996" y="11013"/>
                </a:moveTo>
                <a:cubicBezTo>
                  <a:pt x="9965" y="11085"/>
                  <a:pt x="9951" y="11157"/>
                  <a:pt x="9947" y="11237"/>
                </a:cubicBezTo>
                <a:cubicBezTo>
                  <a:pt x="9943" y="11317"/>
                  <a:pt x="9926" y="11384"/>
                  <a:pt x="9922" y="11460"/>
                </a:cubicBezTo>
                <a:cubicBezTo>
                  <a:pt x="9919" y="11520"/>
                  <a:pt x="9922" y="11732"/>
                  <a:pt x="9922" y="11708"/>
                </a:cubicBezTo>
                <a:cubicBezTo>
                  <a:pt x="9922" y="11660"/>
                  <a:pt x="9919" y="11658"/>
                  <a:pt x="9897" y="11609"/>
                </a:cubicBezTo>
              </a:path>
              <a:path w="8385" h="2803">
                <a:moveTo>
                  <a:pt x="9699" y="11361"/>
                </a:moveTo>
                <a:cubicBezTo>
                  <a:pt x="9785" y="11361"/>
                  <a:pt x="9844" y="11380"/>
                  <a:pt x="9922" y="11385"/>
                </a:cubicBezTo>
                <a:cubicBezTo>
                  <a:pt x="9979" y="11389"/>
                  <a:pt x="10067" y="11393"/>
                  <a:pt x="10120" y="11410"/>
                </a:cubicBezTo>
                <a:cubicBezTo>
                  <a:pt x="10191" y="11432"/>
                  <a:pt x="10242" y="11435"/>
                  <a:pt x="10319" y="11435"/>
                </a:cubicBezTo>
                <a:cubicBezTo>
                  <a:pt x="10335" y="11435"/>
                  <a:pt x="10352" y="11435"/>
                  <a:pt x="10368" y="11435"/>
                </a:cubicBezTo>
              </a:path>
              <a:path w="8385" h="2803">
                <a:moveTo>
                  <a:pt x="10790" y="11336"/>
                </a:moveTo>
                <a:cubicBezTo>
                  <a:pt x="10798" y="11352"/>
                  <a:pt x="10807" y="11369"/>
                  <a:pt x="10815" y="11385"/>
                </a:cubicBezTo>
                <a:cubicBezTo>
                  <a:pt x="10810" y="11364"/>
                  <a:pt x="10794" y="11296"/>
                  <a:pt x="10765" y="11311"/>
                </a:cubicBezTo>
                <a:cubicBezTo>
                  <a:pt x="10723" y="11332"/>
                  <a:pt x="10718" y="11380"/>
                  <a:pt x="10691" y="11410"/>
                </a:cubicBezTo>
                <a:cubicBezTo>
                  <a:pt x="10676" y="11427"/>
                  <a:pt x="10622" y="11489"/>
                  <a:pt x="10616" y="11509"/>
                </a:cubicBezTo>
                <a:cubicBezTo>
                  <a:pt x="10596" y="11577"/>
                  <a:pt x="10605" y="11598"/>
                  <a:pt x="10616" y="11658"/>
                </a:cubicBezTo>
                <a:cubicBezTo>
                  <a:pt x="10625" y="11706"/>
                  <a:pt x="10636" y="11756"/>
                  <a:pt x="10691" y="11782"/>
                </a:cubicBezTo>
                <a:cubicBezTo>
                  <a:pt x="10779" y="11824"/>
                  <a:pt x="10816" y="11797"/>
                  <a:pt x="10889" y="11782"/>
                </a:cubicBezTo>
                <a:cubicBezTo>
                  <a:pt x="10950" y="11770"/>
                  <a:pt x="10944" y="11777"/>
                  <a:pt x="10988" y="11733"/>
                </a:cubicBezTo>
              </a:path>
              <a:path w="8385" h="2803">
                <a:moveTo>
                  <a:pt x="11137" y="11435"/>
                </a:moveTo>
                <a:cubicBezTo>
                  <a:pt x="11137" y="11495"/>
                  <a:pt x="11116" y="11549"/>
                  <a:pt x="11112" y="11609"/>
                </a:cubicBezTo>
                <a:cubicBezTo>
                  <a:pt x="11108" y="11670"/>
                  <a:pt x="11111" y="11708"/>
                  <a:pt x="11137" y="11757"/>
                </a:cubicBezTo>
                <a:cubicBezTo>
                  <a:pt x="11179" y="11835"/>
                  <a:pt x="11173" y="11809"/>
                  <a:pt x="11237" y="11832"/>
                </a:cubicBezTo>
                <a:cubicBezTo>
                  <a:pt x="11293" y="11852"/>
                  <a:pt x="11334" y="11848"/>
                  <a:pt x="11385" y="11807"/>
                </a:cubicBezTo>
                <a:cubicBezTo>
                  <a:pt x="11459" y="11747"/>
                  <a:pt x="11477" y="11720"/>
                  <a:pt x="11509" y="11633"/>
                </a:cubicBezTo>
                <a:cubicBezTo>
                  <a:pt x="11540" y="11548"/>
                  <a:pt x="11516" y="11540"/>
                  <a:pt x="11509" y="11460"/>
                </a:cubicBezTo>
                <a:cubicBezTo>
                  <a:pt x="11506" y="11427"/>
                  <a:pt x="11469" y="11376"/>
                  <a:pt x="11435" y="11361"/>
                </a:cubicBezTo>
                <a:cubicBezTo>
                  <a:pt x="11377" y="11336"/>
                  <a:pt x="11389" y="11343"/>
                  <a:pt x="11336" y="11361"/>
                </a:cubicBezTo>
                <a:cubicBezTo>
                  <a:pt x="11293" y="11376"/>
                  <a:pt x="11272" y="11400"/>
                  <a:pt x="11237" y="11435"/>
                </a:cubicBezTo>
                <a:cubicBezTo>
                  <a:pt x="11212" y="11461"/>
                  <a:pt x="11191" y="11499"/>
                  <a:pt x="11187" y="11534"/>
                </a:cubicBezTo>
                <a:cubicBezTo>
                  <a:pt x="11182" y="11583"/>
                  <a:pt x="11208" y="11619"/>
                  <a:pt x="11237" y="11658"/>
                </a:cubicBezTo>
                <a:cubicBezTo>
                  <a:pt x="11259" y="11681"/>
                  <a:pt x="11264" y="11689"/>
                  <a:pt x="11286" y="11683"/>
                </a:cubicBezTo>
              </a:path>
              <a:path w="8385" h="2803">
                <a:moveTo>
                  <a:pt x="12055" y="11336"/>
                </a:moveTo>
                <a:cubicBezTo>
                  <a:pt x="12032" y="11325"/>
                  <a:pt x="11990" y="11317"/>
                  <a:pt x="11956" y="11336"/>
                </a:cubicBezTo>
                <a:cubicBezTo>
                  <a:pt x="11917" y="11358"/>
                  <a:pt x="11867" y="11380"/>
                  <a:pt x="11857" y="11410"/>
                </a:cubicBezTo>
                <a:cubicBezTo>
                  <a:pt x="11896" y="11440"/>
                  <a:pt x="11943" y="11434"/>
                  <a:pt x="11981" y="11460"/>
                </a:cubicBezTo>
                <a:cubicBezTo>
                  <a:pt x="12028" y="11492"/>
                  <a:pt x="12097" y="11540"/>
                  <a:pt x="12129" y="11584"/>
                </a:cubicBezTo>
                <a:cubicBezTo>
                  <a:pt x="12164" y="11632"/>
                  <a:pt x="12183" y="11682"/>
                  <a:pt x="12204" y="11733"/>
                </a:cubicBezTo>
                <a:cubicBezTo>
                  <a:pt x="12237" y="11815"/>
                  <a:pt x="12225" y="11790"/>
                  <a:pt x="12204" y="11832"/>
                </a:cubicBezTo>
                <a:cubicBezTo>
                  <a:pt x="12187" y="11867"/>
                  <a:pt x="12178" y="11857"/>
                  <a:pt x="12129" y="11857"/>
                </a:cubicBezTo>
                <a:cubicBezTo>
                  <a:pt x="12070" y="11857"/>
                  <a:pt x="12051" y="11848"/>
                  <a:pt x="12005" y="11832"/>
                </a:cubicBezTo>
                <a:cubicBezTo>
                  <a:pt x="11969" y="11820"/>
                  <a:pt x="11910" y="11789"/>
                  <a:pt x="11906" y="11757"/>
                </a:cubicBezTo>
                <a:cubicBezTo>
                  <a:pt x="11898" y="11691"/>
                  <a:pt x="11911" y="11685"/>
                  <a:pt x="11956" y="11633"/>
                </a:cubicBezTo>
              </a:path>
              <a:path w="8385" h="2803">
                <a:moveTo>
                  <a:pt x="12402" y="11311"/>
                </a:moveTo>
                <a:cubicBezTo>
                  <a:pt x="12402" y="11358"/>
                  <a:pt x="12419" y="11374"/>
                  <a:pt x="12427" y="11410"/>
                </a:cubicBezTo>
                <a:cubicBezTo>
                  <a:pt x="12443" y="11486"/>
                  <a:pt x="12469" y="11521"/>
                  <a:pt x="12526" y="11584"/>
                </a:cubicBezTo>
                <a:cubicBezTo>
                  <a:pt x="12573" y="11635"/>
                  <a:pt x="12606" y="11684"/>
                  <a:pt x="12650" y="11733"/>
                </a:cubicBezTo>
                <a:cubicBezTo>
                  <a:pt x="12695" y="11784"/>
                  <a:pt x="12751" y="11810"/>
                  <a:pt x="12799" y="11857"/>
                </a:cubicBezTo>
                <a:cubicBezTo>
                  <a:pt x="12825" y="11882"/>
                  <a:pt x="12905" y="11911"/>
                  <a:pt x="12898" y="11832"/>
                </a:cubicBezTo>
                <a:cubicBezTo>
                  <a:pt x="12890" y="11824"/>
                  <a:pt x="12882" y="11815"/>
                  <a:pt x="12874" y="11807"/>
                </a:cubicBezTo>
              </a:path>
              <a:path w="8385" h="2803">
                <a:moveTo>
                  <a:pt x="12774" y="11460"/>
                </a:moveTo>
                <a:cubicBezTo>
                  <a:pt x="12747" y="11498"/>
                  <a:pt x="12726" y="11542"/>
                  <a:pt x="12700" y="11584"/>
                </a:cubicBezTo>
                <a:cubicBezTo>
                  <a:pt x="12665" y="11642"/>
                  <a:pt x="12619" y="11705"/>
                  <a:pt x="12576" y="11757"/>
                </a:cubicBezTo>
                <a:cubicBezTo>
                  <a:pt x="12511" y="11836"/>
                  <a:pt x="12433" y="11874"/>
                  <a:pt x="12353" y="11931"/>
                </a:cubicBezTo>
                <a:cubicBezTo>
                  <a:pt x="12326" y="11950"/>
                  <a:pt x="12302" y="11982"/>
                  <a:pt x="12278" y="12005"/>
                </a:cubicBezTo>
                <a:cubicBezTo>
                  <a:pt x="12287" y="11969"/>
                  <a:pt x="12299" y="11960"/>
                  <a:pt x="12328" y="11931"/>
                </a:cubicBezTo>
              </a:path>
              <a:path w="8385" h="2803">
                <a:moveTo>
                  <a:pt x="13370" y="10393"/>
                </a:moveTo>
                <a:cubicBezTo>
                  <a:pt x="13514" y="10393"/>
                  <a:pt x="13655" y="10386"/>
                  <a:pt x="13791" y="10418"/>
                </a:cubicBezTo>
                <a:cubicBezTo>
                  <a:pt x="13823" y="10426"/>
                  <a:pt x="13896" y="10378"/>
                  <a:pt x="13866" y="10393"/>
                </a:cubicBezTo>
                <a:cubicBezTo>
                  <a:pt x="13843" y="10416"/>
                  <a:pt x="13839" y="10424"/>
                  <a:pt x="13816" y="10418"/>
                </a:cubicBezTo>
              </a:path>
              <a:path w="8385" h="2803">
                <a:moveTo>
                  <a:pt x="13395" y="10592"/>
                </a:moveTo>
                <a:cubicBezTo>
                  <a:pt x="13449" y="10592"/>
                  <a:pt x="13488" y="10613"/>
                  <a:pt x="13543" y="10616"/>
                </a:cubicBezTo>
                <a:cubicBezTo>
                  <a:pt x="13630" y="10621"/>
                  <a:pt x="13717" y="10627"/>
                  <a:pt x="13791" y="10641"/>
                </a:cubicBezTo>
                <a:cubicBezTo>
                  <a:pt x="13845" y="10651"/>
                  <a:pt x="13910" y="10641"/>
                  <a:pt x="13965" y="10641"/>
                </a:cubicBezTo>
              </a:path>
              <a:path w="8385" h="2803">
                <a:moveTo>
                  <a:pt x="15156" y="9699"/>
                </a:moveTo>
                <a:cubicBezTo>
                  <a:pt x="15156" y="9723"/>
                  <a:pt x="15156" y="9731"/>
                  <a:pt x="15180" y="9723"/>
                </a:cubicBezTo>
                <a:cubicBezTo>
                  <a:pt x="15194" y="9716"/>
                  <a:pt x="15198" y="9670"/>
                  <a:pt x="15156" y="9649"/>
                </a:cubicBezTo>
                <a:cubicBezTo>
                  <a:pt x="15124" y="9633"/>
                  <a:pt x="15096" y="9624"/>
                  <a:pt x="15056" y="9624"/>
                </a:cubicBezTo>
                <a:cubicBezTo>
                  <a:pt x="15013" y="9624"/>
                  <a:pt x="14994" y="9662"/>
                  <a:pt x="14957" y="9674"/>
                </a:cubicBezTo>
                <a:cubicBezTo>
                  <a:pt x="14933" y="9682"/>
                  <a:pt x="14889" y="9712"/>
                  <a:pt x="14883" y="9723"/>
                </a:cubicBezTo>
                <a:cubicBezTo>
                  <a:pt x="14855" y="9778"/>
                  <a:pt x="14866" y="9773"/>
                  <a:pt x="14883" y="9823"/>
                </a:cubicBezTo>
                <a:cubicBezTo>
                  <a:pt x="14900" y="9872"/>
                  <a:pt x="14964" y="9884"/>
                  <a:pt x="15007" y="9922"/>
                </a:cubicBezTo>
                <a:cubicBezTo>
                  <a:pt x="15055" y="9966"/>
                  <a:pt x="15106" y="9969"/>
                  <a:pt x="15156" y="9996"/>
                </a:cubicBezTo>
                <a:cubicBezTo>
                  <a:pt x="15201" y="10020"/>
                  <a:pt x="15237" y="10076"/>
                  <a:pt x="15280" y="10096"/>
                </a:cubicBezTo>
                <a:cubicBezTo>
                  <a:pt x="15304" y="10096"/>
                  <a:pt x="15312" y="10096"/>
                  <a:pt x="15304" y="10120"/>
                </a:cubicBezTo>
                <a:cubicBezTo>
                  <a:pt x="15256" y="10169"/>
                  <a:pt x="15250" y="10170"/>
                  <a:pt x="15180" y="10170"/>
                </a:cubicBezTo>
                <a:cubicBezTo>
                  <a:pt x="15114" y="10170"/>
                  <a:pt x="15059" y="10153"/>
                  <a:pt x="15007" y="10145"/>
                </a:cubicBezTo>
                <a:cubicBezTo>
                  <a:pt x="14948" y="10136"/>
                  <a:pt x="14892" y="10120"/>
                  <a:pt x="14833" y="10120"/>
                </a:cubicBezTo>
                <a:cubicBezTo>
                  <a:pt x="14781" y="10120"/>
                  <a:pt x="14815" y="10094"/>
                  <a:pt x="14833" y="10071"/>
                </a:cubicBezTo>
              </a:path>
              <a:path w="8385" h="2803">
                <a:moveTo>
                  <a:pt x="15503" y="9699"/>
                </a:moveTo>
                <a:cubicBezTo>
                  <a:pt x="15503" y="9797"/>
                  <a:pt x="15513" y="9879"/>
                  <a:pt x="15528" y="9971"/>
                </a:cubicBezTo>
                <a:cubicBezTo>
                  <a:pt x="15536" y="10021"/>
                  <a:pt x="15526" y="10074"/>
                  <a:pt x="15553" y="10120"/>
                </a:cubicBezTo>
                <a:cubicBezTo>
                  <a:pt x="15568" y="10145"/>
                  <a:pt x="15577" y="10217"/>
                  <a:pt x="15577" y="10170"/>
                </a:cubicBezTo>
                <a:cubicBezTo>
                  <a:pt x="15577" y="10112"/>
                  <a:pt x="15577" y="10054"/>
                  <a:pt x="15577" y="9996"/>
                </a:cubicBezTo>
              </a:path>
              <a:path w="8385" h="2803">
                <a:moveTo>
                  <a:pt x="15627" y="9451"/>
                </a:moveTo>
                <a:cubicBezTo>
                  <a:pt x="15654" y="9415"/>
                  <a:pt x="15644" y="9412"/>
                  <a:pt x="15677" y="9401"/>
                </a:cubicBezTo>
              </a:path>
              <a:path w="8385" h="2803">
                <a:moveTo>
                  <a:pt x="15776" y="9947"/>
                </a:moveTo>
                <a:cubicBezTo>
                  <a:pt x="15776" y="10030"/>
                  <a:pt x="15776" y="10112"/>
                  <a:pt x="15776" y="10195"/>
                </a:cubicBezTo>
                <a:cubicBezTo>
                  <a:pt x="15776" y="10097"/>
                  <a:pt x="15786" y="10013"/>
                  <a:pt x="15801" y="9922"/>
                </a:cubicBezTo>
                <a:cubicBezTo>
                  <a:pt x="15812" y="9858"/>
                  <a:pt x="15804" y="9806"/>
                  <a:pt x="15825" y="9748"/>
                </a:cubicBezTo>
                <a:cubicBezTo>
                  <a:pt x="15844" y="9693"/>
                  <a:pt x="15894" y="9643"/>
                  <a:pt x="15949" y="9624"/>
                </a:cubicBezTo>
                <a:cubicBezTo>
                  <a:pt x="16001" y="9607"/>
                  <a:pt x="16105" y="9622"/>
                  <a:pt x="16148" y="9649"/>
                </a:cubicBezTo>
                <a:cubicBezTo>
                  <a:pt x="16197" y="9679"/>
                  <a:pt x="16222" y="9774"/>
                  <a:pt x="16247" y="9823"/>
                </a:cubicBezTo>
                <a:cubicBezTo>
                  <a:pt x="16279" y="9886"/>
                  <a:pt x="16270" y="9961"/>
                  <a:pt x="16297" y="10021"/>
                </a:cubicBezTo>
                <a:cubicBezTo>
                  <a:pt x="16317" y="10065"/>
                  <a:pt x="16321" y="10093"/>
                  <a:pt x="16321" y="10145"/>
                </a:cubicBezTo>
                <a:cubicBezTo>
                  <a:pt x="16321" y="10178"/>
                  <a:pt x="16321" y="10195"/>
                  <a:pt x="16321" y="10220"/>
                </a:cubicBezTo>
                <a:cubicBezTo>
                  <a:pt x="16355" y="10186"/>
                  <a:pt x="16374" y="10158"/>
                  <a:pt x="16396" y="10120"/>
                </a:cubicBezTo>
                <a:cubicBezTo>
                  <a:pt x="16418" y="10077"/>
                  <a:pt x="16422" y="10065"/>
                  <a:pt x="16446" y="10046"/>
                </a:cubicBezTo>
              </a:path>
              <a:path w="8385" h="2803">
                <a:moveTo>
                  <a:pt x="16520" y="9327"/>
                </a:moveTo>
                <a:cubicBezTo>
                  <a:pt x="16542" y="9272"/>
                  <a:pt x="16558" y="9216"/>
                  <a:pt x="16619" y="9203"/>
                </a:cubicBezTo>
                <a:cubicBezTo>
                  <a:pt x="16667" y="9193"/>
                  <a:pt x="16736" y="9214"/>
                  <a:pt x="16768" y="9252"/>
                </a:cubicBezTo>
                <a:cubicBezTo>
                  <a:pt x="16823" y="9316"/>
                  <a:pt x="16779" y="9325"/>
                  <a:pt x="16768" y="9376"/>
                </a:cubicBezTo>
                <a:cubicBezTo>
                  <a:pt x="16748" y="9470"/>
                  <a:pt x="16667" y="9467"/>
                  <a:pt x="16619" y="9550"/>
                </a:cubicBezTo>
                <a:cubicBezTo>
                  <a:pt x="16619" y="9575"/>
                  <a:pt x="16619" y="9583"/>
                  <a:pt x="16619" y="9599"/>
                </a:cubicBezTo>
                <a:cubicBezTo>
                  <a:pt x="16684" y="9599"/>
                  <a:pt x="16708" y="9609"/>
                  <a:pt x="16768" y="9624"/>
                </a:cubicBezTo>
                <a:cubicBezTo>
                  <a:pt x="16789" y="9629"/>
                  <a:pt x="16820" y="9624"/>
                  <a:pt x="16842" y="9624"/>
                </a:cubicBezTo>
              </a:path>
              <a:path w="8385" h="2803">
                <a:moveTo>
                  <a:pt x="16991" y="9649"/>
                </a:moveTo>
                <a:cubicBezTo>
                  <a:pt x="17012" y="9698"/>
                  <a:pt x="17020" y="9757"/>
                  <a:pt x="17041" y="9798"/>
                </a:cubicBezTo>
                <a:cubicBezTo>
                  <a:pt x="17069" y="9855"/>
                  <a:pt x="17125" y="9922"/>
                  <a:pt x="17165" y="9971"/>
                </a:cubicBezTo>
                <a:cubicBezTo>
                  <a:pt x="17228" y="10047"/>
                  <a:pt x="17315" y="10122"/>
                  <a:pt x="17388" y="10170"/>
                </a:cubicBezTo>
                <a:cubicBezTo>
                  <a:pt x="17440" y="10205"/>
                  <a:pt x="17438" y="10171"/>
                  <a:pt x="17438" y="10120"/>
                </a:cubicBezTo>
              </a:path>
              <a:path w="8385" h="2803">
                <a:moveTo>
                  <a:pt x="17388" y="9624"/>
                </a:moveTo>
                <a:cubicBezTo>
                  <a:pt x="17310" y="9686"/>
                  <a:pt x="17263" y="9759"/>
                  <a:pt x="17190" y="9823"/>
                </a:cubicBezTo>
                <a:cubicBezTo>
                  <a:pt x="17128" y="9878"/>
                  <a:pt x="17076" y="9922"/>
                  <a:pt x="17016" y="9971"/>
                </a:cubicBezTo>
                <a:cubicBezTo>
                  <a:pt x="16955" y="10021"/>
                  <a:pt x="16881" y="10049"/>
                  <a:pt x="16818" y="10096"/>
                </a:cubicBezTo>
                <a:cubicBezTo>
                  <a:pt x="16789" y="10124"/>
                  <a:pt x="16776" y="10132"/>
                  <a:pt x="16743" y="10120"/>
                </a:cubicBezTo>
              </a:path>
              <a:path w="8385" h="2803">
                <a:moveTo>
                  <a:pt x="15180" y="10294"/>
                </a:moveTo>
                <a:cubicBezTo>
                  <a:pt x="15210" y="10309"/>
                  <a:pt x="15218" y="10308"/>
                  <a:pt x="15280" y="10319"/>
                </a:cubicBezTo>
                <a:cubicBezTo>
                  <a:pt x="15349" y="10331"/>
                  <a:pt x="15406" y="10344"/>
                  <a:pt x="15478" y="10344"/>
                </a:cubicBezTo>
                <a:cubicBezTo>
                  <a:pt x="15745" y="10344"/>
                  <a:pt x="16009" y="10350"/>
                  <a:pt x="16272" y="10368"/>
                </a:cubicBezTo>
                <a:cubicBezTo>
                  <a:pt x="16438" y="10379"/>
                  <a:pt x="16604" y="10381"/>
                  <a:pt x="16768" y="10393"/>
                </a:cubicBezTo>
                <a:cubicBezTo>
                  <a:pt x="16918" y="10404"/>
                  <a:pt x="17062" y="10418"/>
                  <a:pt x="17214" y="10418"/>
                </a:cubicBezTo>
                <a:cubicBezTo>
                  <a:pt x="17302" y="10418"/>
                  <a:pt x="17390" y="10430"/>
                  <a:pt x="17462" y="10393"/>
                </a:cubicBezTo>
                <a:cubicBezTo>
                  <a:pt x="17524" y="10362"/>
                  <a:pt x="17465" y="10384"/>
                  <a:pt x="17462" y="10393"/>
                </a:cubicBezTo>
                <a:cubicBezTo>
                  <a:pt x="17462" y="10401"/>
                  <a:pt x="17462" y="10410"/>
                  <a:pt x="17462" y="10418"/>
                </a:cubicBezTo>
              </a:path>
              <a:path w="8385" h="2803">
                <a:moveTo>
                  <a:pt x="13122" y="10294"/>
                </a:moveTo>
                <a:cubicBezTo>
                  <a:pt x="13204" y="10335"/>
                  <a:pt x="13242" y="10379"/>
                  <a:pt x="13320" y="10418"/>
                </a:cubicBezTo>
                <a:cubicBezTo>
                  <a:pt x="13456" y="10486"/>
                  <a:pt x="13580" y="10572"/>
                  <a:pt x="13717" y="10641"/>
                </a:cubicBezTo>
                <a:cubicBezTo>
                  <a:pt x="13862" y="10714"/>
                  <a:pt x="13991" y="10796"/>
                  <a:pt x="14139" y="10864"/>
                </a:cubicBezTo>
                <a:cubicBezTo>
                  <a:pt x="14325" y="10950"/>
                  <a:pt x="14484" y="11057"/>
                  <a:pt x="14660" y="11162"/>
                </a:cubicBezTo>
                <a:cubicBezTo>
                  <a:pt x="14716" y="11195"/>
                  <a:pt x="14759" y="11218"/>
                  <a:pt x="14808" y="11261"/>
                </a:cubicBezTo>
                <a:cubicBezTo>
                  <a:pt x="14792" y="11245"/>
                  <a:pt x="14763" y="11216"/>
                  <a:pt x="14734" y="11187"/>
                </a:cubicBezTo>
                <a:cubicBezTo>
                  <a:pt x="14726" y="11179"/>
                  <a:pt x="14717" y="11170"/>
                  <a:pt x="14709" y="11162"/>
                </a:cubicBezTo>
              </a:path>
              <a:path w="8385" h="2803">
                <a:moveTo>
                  <a:pt x="14486" y="10145"/>
                </a:moveTo>
                <a:cubicBezTo>
                  <a:pt x="14462" y="10169"/>
                  <a:pt x="14407" y="10237"/>
                  <a:pt x="14362" y="10269"/>
                </a:cubicBezTo>
                <a:cubicBezTo>
                  <a:pt x="14289" y="10321"/>
                  <a:pt x="14228" y="10378"/>
                  <a:pt x="14163" y="10443"/>
                </a:cubicBezTo>
                <a:cubicBezTo>
                  <a:pt x="14063" y="10543"/>
                  <a:pt x="13947" y="10606"/>
                  <a:pt x="13841" y="10691"/>
                </a:cubicBezTo>
                <a:cubicBezTo>
                  <a:pt x="13730" y="10780"/>
                  <a:pt x="13617" y="10840"/>
                  <a:pt x="13494" y="10914"/>
                </a:cubicBezTo>
                <a:cubicBezTo>
                  <a:pt x="13401" y="10970"/>
                  <a:pt x="13314" y="11062"/>
                  <a:pt x="13221" y="11112"/>
                </a:cubicBezTo>
                <a:cubicBezTo>
                  <a:pt x="13148" y="11151"/>
                  <a:pt x="13111" y="11182"/>
                  <a:pt x="13047" y="11237"/>
                </a:cubicBezTo>
                <a:cubicBezTo>
                  <a:pt x="13024" y="11257"/>
                  <a:pt x="13025" y="11248"/>
                  <a:pt x="12998" y="1128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125880" y="3348000"/>
            <a:ext cx="1438200" cy="438120"/>
          </a:xfrm>
          <a:custGeom>
            <a:avLst/>
            <a:gdLst/>
            <a:ahLst/>
            <a:rect l="l" t="t" r="r" b="b"/>
            <a:pathLst>
              <a:path w="3994" h="1216">
                <a:moveTo>
                  <a:pt x="8806" y="9302"/>
                </a:moveTo>
                <a:cubicBezTo>
                  <a:pt x="8818" y="9340"/>
                  <a:pt x="8830" y="9323"/>
                  <a:pt x="8830" y="9376"/>
                </a:cubicBezTo>
                <a:cubicBezTo>
                  <a:pt x="8830" y="9422"/>
                  <a:pt x="8813" y="9440"/>
                  <a:pt x="8806" y="9475"/>
                </a:cubicBezTo>
                <a:cubicBezTo>
                  <a:pt x="8752" y="9734"/>
                  <a:pt x="8561" y="10318"/>
                  <a:pt x="8806" y="10220"/>
                </a:cubicBezTo>
                <a:cubicBezTo>
                  <a:pt x="8830" y="10220"/>
                  <a:pt x="8838" y="10220"/>
                  <a:pt x="8830" y="10195"/>
                </a:cubicBezTo>
              </a:path>
              <a:path w="3994" h="1216">
                <a:moveTo>
                  <a:pt x="9029" y="9872"/>
                </a:moveTo>
                <a:cubicBezTo>
                  <a:pt x="9112" y="9884"/>
                  <a:pt x="9127" y="9897"/>
                  <a:pt x="9227" y="9897"/>
                </a:cubicBezTo>
                <a:cubicBezTo>
                  <a:pt x="9376" y="9897"/>
                  <a:pt x="9525" y="9897"/>
                  <a:pt x="9674" y="9897"/>
                </a:cubicBezTo>
              </a:path>
              <a:path w="3994" h="1216">
                <a:moveTo>
                  <a:pt x="10443" y="9798"/>
                </a:moveTo>
                <a:cubicBezTo>
                  <a:pt x="10400" y="9784"/>
                  <a:pt x="10427" y="9743"/>
                  <a:pt x="10368" y="9723"/>
                </a:cubicBezTo>
                <a:cubicBezTo>
                  <a:pt x="10338" y="9713"/>
                  <a:pt x="10288" y="9735"/>
                  <a:pt x="10269" y="9748"/>
                </a:cubicBezTo>
                <a:cubicBezTo>
                  <a:pt x="10229" y="9774"/>
                  <a:pt x="10173" y="9834"/>
                  <a:pt x="10145" y="9872"/>
                </a:cubicBezTo>
                <a:cubicBezTo>
                  <a:pt x="10103" y="9930"/>
                  <a:pt x="10063" y="10002"/>
                  <a:pt x="10046" y="10071"/>
                </a:cubicBezTo>
                <a:cubicBezTo>
                  <a:pt x="10039" y="10100"/>
                  <a:pt x="10078" y="10172"/>
                  <a:pt x="10096" y="10195"/>
                </a:cubicBezTo>
                <a:cubicBezTo>
                  <a:pt x="10141" y="10252"/>
                  <a:pt x="10162" y="10224"/>
                  <a:pt x="10220" y="10244"/>
                </a:cubicBezTo>
                <a:cubicBezTo>
                  <a:pt x="10264" y="10259"/>
                  <a:pt x="10342" y="10290"/>
                  <a:pt x="10393" y="10269"/>
                </a:cubicBezTo>
                <a:cubicBezTo>
                  <a:pt x="10444" y="10247"/>
                  <a:pt x="10488" y="10226"/>
                  <a:pt x="10542" y="10195"/>
                </a:cubicBezTo>
              </a:path>
              <a:path w="3994" h="1216">
                <a:moveTo>
                  <a:pt x="10790" y="9847"/>
                </a:moveTo>
                <a:cubicBezTo>
                  <a:pt x="10790" y="9893"/>
                  <a:pt x="10770" y="9906"/>
                  <a:pt x="10765" y="9947"/>
                </a:cubicBezTo>
                <a:cubicBezTo>
                  <a:pt x="10756" y="10030"/>
                  <a:pt x="10744" y="10015"/>
                  <a:pt x="10765" y="10096"/>
                </a:cubicBezTo>
                <a:cubicBezTo>
                  <a:pt x="10780" y="10154"/>
                  <a:pt x="10768" y="10139"/>
                  <a:pt x="10815" y="10170"/>
                </a:cubicBezTo>
                <a:cubicBezTo>
                  <a:pt x="10871" y="10208"/>
                  <a:pt x="10908" y="10200"/>
                  <a:pt x="10964" y="10170"/>
                </a:cubicBezTo>
                <a:cubicBezTo>
                  <a:pt x="11007" y="10147"/>
                  <a:pt x="11061" y="10114"/>
                  <a:pt x="11088" y="10071"/>
                </a:cubicBezTo>
                <a:cubicBezTo>
                  <a:pt x="11120" y="10021"/>
                  <a:pt x="11112" y="9979"/>
                  <a:pt x="11112" y="9922"/>
                </a:cubicBezTo>
                <a:cubicBezTo>
                  <a:pt x="11112" y="9874"/>
                  <a:pt x="11117" y="9822"/>
                  <a:pt x="11063" y="9798"/>
                </a:cubicBezTo>
                <a:cubicBezTo>
                  <a:pt x="10990" y="9766"/>
                  <a:pt x="10984" y="9748"/>
                  <a:pt x="10889" y="9748"/>
                </a:cubicBezTo>
                <a:cubicBezTo>
                  <a:pt x="10876" y="9748"/>
                  <a:pt x="10826" y="9776"/>
                  <a:pt x="10815" y="9798"/>
                </a:cubicBezTo>
                <a:cubicBezTo>
                  <a:pt x="10812" y="9804"/>
                  <a:pt x="10795" y="9868"/>
                  <a:pt x="10790" y="9872"/>
                </a:cubicBezTo>
                <a:cubicBezTo>
                  <a:pt x="10787" y="9875"/>
                  <a:pt x="10732" y="9920"/>
                  <a:pt x="10765" y="9947"/>
                </a:cubicBezTo>
                <a:cubicBezTo>
                  <a:pt x="10784" y="9963"/>
                  <a:pt x="10789" y="9963"/>
                  <a:pt x="10815" y="9971"/>
                </a:cubicBezTo>
              </a:path>
              <a:path w="3994" h="1216">
                <a:moveTo>
                  <a:pt x="11633" y="9699"/>
                </a:moveTo>
                <a:cubicBezTo>
                  <a:pt x="11553" y="9699"/>
                  <a:pt x="11524" y="9703"/>
                  <a:pt x="11460" y="9723"/>
                </a:cubicBezTo>
                <a:cubicBezTo>
                  <a:pt x="11422" y="9735"/>
                  <a:pt x="11431" y="9745"/>
                  <a:pt x="11410" y="9773"/>
                </a:cubicBezTo>
                <a:cubicBezTo>
                  <a:pt x="11396" y="9791"/>
                  <a:pt x="11389" y="9825"/>
                  <a:pt x="11435" y="9847"/>
                </a:cubicBezTo>
                <a:cubicBezTo>
                  <a:pt x="11485" y="9871"/>
                  <a:pt x="11564" y="9893"/>
                  <a:pt x="11609" y="9922"/>
                </a:cubicBezTo>
                <a:cubicBezTo>
                  <a:pt x="11633" y="9937"/>
                  <a:pt x="11696" y="10018"/>
                  <a:pt x="11708" y="10046"/>
                </a:cubicBezTo>
                <a:cubicBezTo>
                  <a:pt x="11728" y="10090"/>
                  <a:pt x="11745" y="10104"/>
                  <a:pt x="11708" y="10145"/>
                </a:cubicBezTo>
                <a:cubicBezTo>
                  <a:pt x="11682" y="10174"/>
                  <a:pt x="11642" y="10209"/>
                  <a:pt x="11609" y="10220"/>
                </a:cubicBezTo>
                <a:cubicBezTo>
                  <a:pt x="11540" y="10243"/>
                  <a:pt x="11417" y="10212"/>
                  <a:pt x="11385" y="10195"/>
                </a:cubicBezTo>
                <a:cubicBezTo>
                  <a:pt x="11349" y="10177"/>
                  <a:pt x="11355" y="10186"/>
                  <a:pt x="11385" y="10145"/>
                </a:cubicBezTo>
              </a:path>
              <a:path w="3994" h="1216">
                <a:moveTo>
                  <a:pt x="12055" y="9748"/>
                </a:moveTo>
                <a:cubicBezTo>
                  <a:pt x="12082" y="9785"/>
                  <a:pt x="12094" y="9812"/>
                  <a:pt x="12129" y="9847"/>
                </a:cubicBezTo>
                <a:cubicBezTo>
                  <a:pt x="12175" y="9893"/>
                  <a:pt x="12207" y="9948"/>
                  <a:pt x="12254" y="9996"/>
                </a:cubicBezTo>
                <a:cubicBezTo>
                  <a:pt x="12308" y="10051"/>
                  <a:pt x="12383" y="10089"/>
                  <a:pt x="12427" y="10145"/>
                </a:cubicBezTo>
                <a:cubicBezTo>
                  <a:pt x="12468" y="10197"/>
                  <a:pt x="12478" y="10212"/>
                  <a:pt x="12526" y="10244"/>
                </a:cubicBezTo>
                <a:cubicBezTo>
                  <a:pt x="12562" y="10268"/>
                  <a:pt x="12566" y="10263"/>
                  <a:pt x="12576" y="10294"/>
                </a:cubicBezTo>
                <a:cubicBezTo>
                  <a:pt x="12548" y="10266"/>
                  <a:pt x="12539" y="10253"/>
                  <a:pt x="12551" y="10220"/>
                </a:cubicBezTo>
              </a:path>
              <a:path w="3994" h="1216">
                <a:moveTo>
                  <a:pt x="12502" y="9723"/>
                </a:moveTo>
                <a:cubicBezTo>
                  <a:pt x="12477" y="9782"/>
                  <a:pt x="12460" y="9796"/>
                  <a:pt x="12427" y="9847"/>
                </a:cubicBezTo>
                <a:cubicBezTo>
                  <a:pt x="12395" y="9897"/>
                  <a:pt x="12364" y="9949"/>
                  <a:pt x="12328" y="9996"/>
                </a:cubicBezTo>
                <a:cubicBezTo>
                  <a:pt x="12293" y="10043"/>
                  <a:pt x="12225" y="10062"/>
                  <a:pt x="12179" y="10096"/>
                </a:cubicBezTo>
                <a:cubicBezTo>
                  <a:pt x="12132" y="10131"/>
                  <a:pt x="12110" y="10181"/>
                  <a:pt x="12055" y="10195"/>
                </a:cubicBezTo>
                <a:cubicBezTo>
                  <a:pt x="12043" y="10230"/>
                  <a:pt x="12048" y="10220"/>
                  <a:pt x="12005" y="10220"/>
                </a:cubicBezTo>
              </a:path>
              <a:path w="3994" h="1216">
                <a:moveTo>
                  <a:pt x="8682" y="10393"/>
                </a:moveTo>
                <a:cubicBezTo>
                  <a:pt x="8718" y="10401"/>
                  <a:pt x="8735" y="10416"/>
                  <a:pt x="8781" y="10418"/>
                </a:cubicBezTo>
                <a:cubicBezTo>
                  <a:pt x="8845" y="10421"/>
                  <a:pt x="8892" y="10437"/>
                  <a:pt x="8954" y="10443"/>
                </a:cubicBezTo>
                <a:cubicBezTo>
                  <a:pt x="9057" y="10453"/>
                  <a:pt x="9169" y="10418"/>
                  <a:pt x="9277" y="10418"/>
                </a:cubicBezTo>
                <a:cubicBezTo>
                  <a:pt x="9430" y="10418"/>
                  <a:pt x="9574" y="10432"/>
                  <a:pt x="9723" y="10443"/>
                </a:cubicBezTo>
                <a:cubicBezTo>
                  <a:pt x="9953" y="10460"/>
                  <a:pt x="10189" y="10453"/>
                  <a:pt x="10418" y="10468"/>
                </a:cubicBezTo>
                <a:cubicBezTo>
                  <a:pt x="10583" y="10479"/>
                  <a:pt x="10749" y="10489"/>
                  <a:pt x="10914" y="10492"/>
                </a:cubicBezTo>
                <a:cubicBezTo>
                  <a:pt x="11303" y="10500"/>
                  <a:pt x="11721" y="10534"/>
                  <a:pt x="12105" y="10517"/>
                </a:cubicBezTo>
                <a:cubicBezTo>
                  <a:pt x="12238" y="10511"/>
                  <a:pt x="12367" y="10492"/>
                  <a:pt x="12502" y="10492"/>
                </a:cubicBezTo>
                <a:cubicBezTo>
                  <a:pt x="12536" y="10492"/>
                  <a:pt x="12707" y="10501"/>
                  <a:pt x="12650" y="10468"/>
                </a:cubicBezTo>
                <a:cubicBezTo>
                  <a:pt x="12609" y="10468"/>
                  <a:pt x="12601" y="10468"/>
                  <a:pt x="12576" y="1046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990880" y="3848040"/>
            <a:ext cx="4152960" cy="822240"/>
          </a:xfrm>
          <a:custGeom>
            <a:avLst/>
            <a:gdLst/>
            <a:ahLst/>
            <a:rect l="l" t="t" r="r" b="b"/>
            <a:pathLst>
              <a:path w="11535" h="2283">
                <a:moveTo>
                  <a:pt x="15230" y="11261"/>
                </a:moveTo>
                <a:cubicBezTo>
                  <a:pt x="15230" y="11317"/>
                  <a:pt x="15210" y="11295"/>
                  <a:pt x="15205" y="11336"/>
                </a:cubicBezTo>
                <a:cubicBezTo>
                  <a:pt x="15199" y="11385"/>
                  <a:pt x="15157" y="11394"/>
                  <a:pt x="15131" y="11435"/>
                </a:cubicBezTo>
                <a:cubicBezTo>
                  <a:pt x="15080" y="11515"/>
                  <a:pt x="15028" y="11600"/>
                  <a:pt x="14982" y="11683"/>
                </a:cubicBezTo>
                <a:cubicBezTo>
                  <a:pt x="14952" y="11737"/>
                  <a:pt x="14894" y="11816"/>
                  <a:pt x="14908" y="11881"/>
                </a:cubicBezTo>
                <a:cubicBezTo>
                  <a:pt x="14919" y="11934"/>
                  <a:pt x="14946" y="11990"/>
                  <a:pt x="14982" y="12030"/>
                </a:cubicBezTo>
                <a:cubicBezTo>
                  <a:pt x="15016" y="12068"/>
                  <a:pt x="15082" y="12093"/>
                  <a:pt x="15131" y="12105"/>
                </a:cubicBezTo>
                <a:cubicBezTo>
                  <a:pt x="15162" y="12113"/>
                  <a:pt x="15229" y="12071"/>
                  <a:pt x="15255" y="12055"/>
                </a:cubicBezTo>
              </a:path>
              <a:path w="11535" h="2283">
                <a:moveTo>
                  <a:pt x="15627" y="11286"/>
                </a:moveTo>
                <a:cubicBezTo>
                  <a:pt x="15627" y="11335"/>
                  <a:pt x="15610" y="11372"/>
                  <a:pt x="15602" y="11410"/>
                </a:cubicBezTo>
                <a:cubicBezTo>
                  <a:pt x="15588" y="11479"/>
                  <a:pt x="15581" y="11563"/>
                  <a:pt x="15577" y="11633"/>
                </a:cubicBezTo>
                <a:cubicBezTo>
                  <a:pt x="15571" y="11745"/>
                  <a:pt x="15573" y="11859"/>
                  <a:pt x="15602" y="11956"/>
                </a:cubicBezTo>
                <a:cubicBezTo>
                  <a:pt x="15612" y="11988"/>
                  <a:pt x="15607" y="11927"/>
                  <a:pt x="15627" y="11881"/>
                </a:cubicBezTo>
              </a:path>
              <a:path w="11535" h="2283">
                <a:moveTo>
                  <a:pt x="16098" y="11336"/>
                </a:moveTo>
                <a:cubicBezTo>
                  <a:pt x="16098" y="11407"/>
                  <a:pt x="16077" y="11445"/>
                  <a:pt x="16073" y="11509"/>
                </a:cubicBezTo>
                <a:cubicBezTo>
                  <a:pt x="16065" y="11636"/>
                  <a:pt x="16070" y="11762"/>
                  <a:pt x="16098" y="11881"/>
                </a:cubicBezTo>
                <a:cubicBezTo>
                  <a:pt x="16107" y="11922"/>
                  <a:pt x="16104" y="12018"/>
                  <a:pt x="16123" y="11981"/>
                </a:cubicBezTo>
                <a:cubicBezTo>
                  <a:pt x="16123" y="11956"/>
                  <a:pt x="16123" y="11948"/>
                  <a:pt x="16123" y="11931"/>
                </a:cubicBezTo>
              </a:path>
              <a:path w="11535" h="2283">
                <a:moveTo>
                  <a:pt x="15925" y="11559"/>
                </a:moveTo>
                <a:cubicBezTo>
                  <a:pt x="16039" y="11559"/>
                  <a:pt x="16140" y="11571"/>
                  <a:pt x="16247" y="11584"/>
                </a:cubicBezTo>
                <a:cubicBezTo>
                  <a:pt x="16272" y="11584"/>
                  <a:pt x="16296" y="11584"/>
                  <a:pt x="16321" y="11584"/>
                </a:cubicBezTo>
              </a:path>
              <a:path w="11535" h="2283">
                <a:moveTo>
                  <a:pt x="16818" y="11609"/>
                </a:moveTo>
                <a:cubicBezTo>
                  <a:pt x="16763" y="11609"/>
                  <a:pt x="16739" y="11608"/>
                  <a:pt x="16694" y="11633"/>
                </a:cubicBezTo>
                <a:cubicBezTo>
                  <a:pt x="16634" y="11667"/>
                  <a:pt x="16605" y="11698"/>
                  <a:pt x="16570" y="11757"/>
                </a:cubicBezTo>
                <a:cubicBezTo>
                  <a:pt x="16537" y="11811"/>
                  <a:pt x="16526" y="11868"/>
                  <a:pt x="16545" y="11906"/>
                </a:cubicBezTo>
                <a:cubicBezTo>
                  <a:pt x="16588" y="11991"/>
                  <a:pt x="16617" y="12012"/>
                  <a:pt x="16718" y="12030"/>
                </a:cubicBezTo>
                <a:cubicBezTo>
                  <a:pt x="16786" y="12042"/>
                  <a:pt x="16859" y="11985"/>
                  <a:pt x="16917" y="11956"/>
                </a:cubicBezTo>
                <a:cubicBezTo>
                  <a:pt x="16933" y="11948"/>
                  <a:pt x="16950" y="11939"/>
                  <a:pt x="16966" y="11931"/>
                </a:cubicBezTo>
              </a:path>
              <a:path w="11535" h="2283">
                <a:moveTo>
                  <a:pt x="17041" y="11658"/>
                </a:moveTo>
                <a:cubicBezTo>
                  <a:pt x="17013" y="11714"/>
                  <a:pt x="16965" y="11789"/>
                  <a:pt x="16991" y="11857"/>
                </a:cubicBezTo>
                <a:cubicBezTo>
                  <a:pt x="17004" y="11889"/>
                  <a:pt x="17056" y="11967"/>
                  <a:pt x="17090" y="11981"/>
                </a:cubicBezTo>
                <a:cubicBezTo>
                  <a:pt x="17160" y="12010"/>
                  <a:pt x="17198" y="11992"/>
                  <a:pt x="17264" y="11981"/>
                </a:cubicBezTo>
                <a:cubicBezTo>
                  <a:pt x="17350" y="11966"/>
                  <a:pt x="17384" y="11949"/>
                  <a:pt x="17413" y="11857"/>
                </a:cubicBezTo>
                <a:cubicBezTo>
                  <a:pt x="17435" y="11787"/>
                  <a:pt x="17440" y="11766"/>
                  <a:pt x="17388" y="11708"/>
                </a:cubicBezTo>
                <a:cubicBezTo>
                  <a:pt x="17351" y="11668"/>
                  <a:pt x="17292" y="11638"/>
                  <a:pt x="17239" y="11633"/>
                </a:cubicBezTo>
                <a:cubicBezTo>
                  <a:pt x="17200" y="11629"/>
                  <a:pt x="17162" y="11612"/>
                  <a:pt x="17190" y="11633"/>
                </a:cubicBezTo>
                <a:cubicBezTo>
                  <a:pt x="17198" y="11641"/>
                  <a:pt x="17206" y="11650"/>
                  <a:pt x="17214" y="11658"/>
                </a:cubicBezTo>
              </a:path>
              <a:path w="11535" h="2283">
                <a:moveTo>
                  <a:pt x="17760" y="11584"/>
                </a:moveTo>
                <a:cubicBezTo>
                  <a:pt x="17714" y="11589"/>
                  <a:pt x="17594" y="11605"/>
                  <a:pt x="17562" y="11633"/>
                </a:cubicBezTo>
                <a:cubicBezTo>
                  <a:pt x="17515" y="11673"/>
                  <a:pt x="17564" y="11697"/>
                  <a:pt x="17587" y="11733"/>
                </a:cubicBezTo>
                <a:cubicBezTo>
                  <a:pt x="17632" y="11803"/>
                  <a:pt x="17696" y="11828"/>
                  <a:pt x="17760" y="11881"/>
                </a:cubicBezTo>
                <a:cubicBezTo>
                  <a:pt x="17813" y="11925"/>
                  <a:pt x="17844" y="11994"/>
                  <a:pt x="17859" y="12055"/>
                </a:cubicBezTo>
                <a:cubicBezTo>
                  <a:pt x="17800" y="12055"/>
                  <a:pt x="17760" y="12045"/>
                  <a:pt x="17711" y="12030"/>
                </a:cubicBezTo>
                <a:cubicBezTo>
                  <a:pt x="17672" y="12018"/>
                  <a:pt x="17647" y="12013"/>
                  <a:pt x="17636" y="11981"/>
                </a:cubicBezTo>
              </a:path>
              <a:path w="11535" h="2283">
                <a:moveTo>
                  <a:pt x="18207" y="11609"/>
                </a:moveTo>
                <a:cubicBezTo>
                  <a:pt x="18218" y="11653"/>
                  <a:pt x="18247" y="11697"/>
                  <a:pt x="18281" y="11733"/>
                </a:cubicBezTo>
                <a:cubicBezTo>
                  <a:pt x="18343" y="11798"/>
                  <a:pt x="18409" y="11876"/>
                  <a:pt x="18479" y="11931"/>
                </a:cubicBezTo>
                <a:cubicBezTo>
                  <a:pt x="18549" y="11986"/>
                  <a:pt x="18627" y="12086"/>
                  <a:pt x="18703" y="12129"/>
                </a:cubicBezTo>
                <a:cubicBezTo>
                  <a:pt x="18709" y="12133"/>
                  <a:pt x="18849" y="12230"/>
                  <a:pt x="18852" y="12229"/>
                </a:cubicBezTo>
                <a:cubicBezTo>
                  <a:pt x="18852" y="12221"/>
                  <a:pt x="18852" y="12212"/>
                  <a:pt x="18852" y="12204"/>
                </a:cubicBezTo>
              </a:path>
              <a:path w="11535" h="2283">
                <a:moveTo>
                  <a:pt x="18628" y="11609"/>
                </a:moveTo>
                <a:cubicBezTo>
                  <a:pt x="18558" y="11724"/>
                  <a:pt x="18499" y="11812"/>
                  <a:pt x="18405" y="11906"/>
                </a:cubicBezTo>
                <a:cubicBezTo>
                  <a:pt x="18325" y="11985"/>
                  <a:pt x="18214" y="12150"/>
                  <a:pt x="18132" y="12204"/>
                </a:cubicBezTo>
                <a:cubicBezTo>
                  <a:pt x="18097" y="12228"/>
                  <a:pt x="18143" y="12161"/>
                  <a:pt x="18157" y="12129"/>
                </a:cubicBezTo>
              </a:path>
              <a:path w="11535" h="2283">
                <a:moveTo>
                  <a:pt x="18628" y="10889"/>
                </a:moveTo>
                <a:cubicBezTo>
                  <a:pt x="18725" y="10946"/>
                  <a:pt x="18796" y="10983"/>
                  <a:pt x="18876" y="11063"/>
                </a:cubicBezTo>
                <a:cubicBezTo>
                  <a:pt x="18988" y="11174"/>
                  <a:pt x="19050" y="11259"/>
                  <a:pt x="19100" y="11410"/>
                </a:cubicBezTo>
                <a:cubicBezTo>
                  <a:pt x="19142" y="11538"/>
                  <a:pt x="19170" y="11674"/>
                  <a:pt x="19174" y="11807"/>
                </a:cubicBezTo>
                <a:cubicBezTo>
                  <a:pt x="19177" y="11903"/>
                  <a:pt x="19152" y="12015"/>
                  <a:pt x="19124" y="12105"/>
                </a:cubicBezTo>
                <a:cubicBezTo>
                  <a:pt x="19103" y="12173"/>
                  <a:pt x="19063" y="12262"/>
                  <a:pt x="19000" y="12303"/>
                </a:cubicBezTo>
                <a:cubicBezTo>
                  <a:pt x="18972" y="12303"/>
                  <a:pt x="18962" y="12306"/>
                  <a:pt x="18951" y="12328"/>
                </a:cubicBezTo>
                <a:cubicBezTo>
                  <a:pt x="18958" y="12262"/>
                  <a:pt x="18953" y="12252"/>
                  <a:pt x="19000" y="12204"/>
                </a:cubicBezTo>
              </a:path>
              <a:path w="11535" h="2283">
                <a:moveTo>
                  <a:pt x="19298" y="10716"/>
                </a:moveTo>
                <a:cubicBezTo>
                  <a:pt x="19384" y="10690"/>
                  <a:pt x="19420" y="10678"/>
                  <a:pt x="19496" y="10740"/>
                </a:cubicBezTo>
                <a:cubicBezTo>
                  <a:pt x="19537" y="10773"/>
                  <a:pt x="19546" y="10790"/>
                  <a:pt x="19546" y="10840"/>
                </a:cubicBezTo>
                <a:cubicBezTo>
                  <a:pt x="19546" y="10903"/>
                  <a:pt x="19511" y="10946"/>
                  <a:pt x="19472" y="10988"/>
                </a:cubicBezTo>
                <a:cubicBezTo>
                  <a:pt x="19437" y="11026"/>
                  <a:pt x="19406" y="11032"/>
                  <a:pt x="19372" y="11063"/>
                </a:cubicBezTo>
                <a:cubicBezTo>
                  <a:pt x="19364" y="11071"/>
                  <a:pt x="19356" y="11080"/>
                  <a:pt x="19348" y="11088"/>
                </a:cubicBezTo>
                <a:cubicBezTo>
                  <a:pt x="19386" y="11116"/>
                  <a:pt x="19425" y="11123"/>
                  <a:pt x="19472" y="11137"/>
                </a:cubicBezTo>
                <a:cubicBezTo>
                  <a:pt x="19543" y="11158"/>
                  <a:pt x="19625" y="11175"/>
                  <a:pt x="19695" y="11187"/>
                </a:cubicBezTo>
                <a:cubicBezTo>
                  <a:pt x="19761" y="11198"/>
                  <a:pt x="19745" y="11175"/>
                  <a:pt x="19794" y="11212"/>
                </a:cubicBezTo>
                <a:cubicBezTo>
                  <a:pt x="19801" y="11210"/>
                  <a:pt x="19864" y="11177"/>
                  <a:pt x="19844" y="11162"/>
                </a:cubicBezTo>
                <a:cubicBezTo>
                  <a:pt x="19836" y="11162"/>
                  <a:pt x="19827" y="11162"/>
                  <a:pt x="19819" y="11162"/>
                </a:cubicBezTo>
              </a:path>
              <a:path w="11535" h="2283">
                <a:moveTo>
                  <a:pt x="8310" y="12452"/>
                </a:moveTo>
                <a:cubicBezTo>
                  <a:pt x="8355" y="12435"/>
                  <a:pt x="8336" y="12507"/>
                  <a:pt x="8384" y="12427"/>
                </a:cubicBezTo>
                <a:cubicBezTo>
                  <a:pt x="8402" y="12397"/>
                  <a:pt x="8413" y="12361"/>
                  <a:pt x="8434" y="12328"/>
                </a:cubicBezTo>
                <a:cubicBezTo>
                  <a:pt x="8485" y="12247"/>
                  <a:pt x="8528" y="12217"/>
                  <a:pt x="8607" y="12154"/>
                </a:cubicBezTo>
                <a:cubicBezTo>
                  <a:pt x="8719" y="12065"/>
                  <a:pt x="8868" y="12005"/>
                  <a:pt x="9004" y="11956"/>
                </a:cubicBezTo>
                <a:cubicBezTo>
                  <a:pt x="9173" y="11895"/>
                  <a:pt x="9373" y="11869"/>
                  <a:pt x="9550" y="11857"/>
                </a:cubicBezTo>
                <a:cubicBezTo>
                  <a:pt x="9736" y="11845"/>
                  <a:pt x="9936" y="11861"/>
                  <a:pt x="10120" y="11881"/>
                </a:cubicBezTo>
                <a:cubicBezTo>
                  <a:pt x="10384" y="11910"/>
                  <a:pt x="10660" y="11954"/>
                  <a:pt x="10914" y="12030"/>
                </a:cubicBezTo>
                <a:cubicBezTo>
                  <a:pt x="11120" y="12092"/>
                  <a:pt x="11315" y="12132"/>
                  <a:pt x="11509" y="12229"/>
                </a:cubicBezTo>
                <a:cubicBezTo>
                  <a:pt x="11717" y="12333"/>
                  <a:pt x="11932" y="12455"/>
                  <a:pt x="12129" y="12576"/>
                </a:cubicBezTo>
                <a:cubicBezTo>
                  <a:pt x="12235" y="12641"/>
                  <a:pt x="12330" y="12725"/>
                  <a:pt x="12427" y="12799"/>
                </a:cubicBezTo>
                <a:cubicBezTo>
                  <a:pt x="12478" y="12838"/>
                  <a:pt x="12525" y="12882"/>
                  <a:pt x="12576" y="12923"/>
                </a:cubicBezTo>
                <a:cubicBezTo>
                  <a:pt x="12607" y="12948"/>
                  <a:pt x="12632" y="12912"/>
                  <a:pt x="12650" y="12948"/>
                </a:cubicBezTo>
                <a:cubicBezTo>
                  <a:pt x="12650" y="12973"/>
                  <a:pt x="12650" y="12981"/>
                  <a:pt x="12626" y="12973"/>
                </a:cubicBezTo>
              </a:path>
              <a:path w="11535" h="2283">
                <a:moveTo>
                  <a:pt x="8384" y="12526"/>
                </a:moveTo>
                <a:cubicBezTo>
                  <a:pt x="8393" y="12512"/>
                  <a:pt x="8415" y="12482"/>
                  <a:pt x="8434" y="12452"/>
                </a:cubicBezTo>
                <a:cubicBezTo>
                  <a:pt x="8455" y="12418"/>
                  <a:pt x="8478" y="12364"/>
                  <a:pt x="8508" y="12328"/>
                </a:cubicBezTo>
                <a:cubicBezTo>
                  <a:pt x="8578" y="12244"/>
                  <a:pt x="8668" y="12165"/>
                  <a:pt x="8756" y="12105"/>
                </a:cubicBezTo>
                <a:cubicBezTo>
                  <a:pt x="8842" y="12046"/>
                  <a:pt x="8937" y="11978"/>
                  <a:pt x="9029" y="11931"/>
                </a:cubicBezTo>
                <a:cubicBezTo>
                  <a:pt x="9155" y="11866"/>
                  <a:pt x="9290" y="11806"/>
                  <a:pt x="9426" y="11757"/>
                </a:cubicBezTo>
                <a:cubicBezTo>
                  <a:pt x="9594" y="11697"/>
                  <a:pt x="9768" y="11653"/>
                  <a:pt x="9947" y="11633"/>
                </a:cubicBezTo>
                <a:cubicBezTo>
                  <a:pt x="10200" y="11605"/>
                  <a:pt x="10461" y="11564"/>
                  <a:pt x="10716" y="11584"/>
                </a:cubicBezTo>
                <a:cubicBezTo>
                  <a:pt x="10956" y="11603"/>
                  <a:pt x="11195" y="11624"/>
                  <a:pt x="11435" y="11658"/>
                </a:cubicBezTo>
                <a:cubicBezTo>
                  <a:pt x="11693" y="11694"/>
                  <a:pt x="11951" y="11747"/>
                  <a:pt x="12204" y="11807"/>
                </a:cubicBezTo>
                <a:cubicBezTo>
                  <a:pt x="12454" y="11866"/>
                  <a:pt x="12690" y="11972"/>
                  <a:pt x="12923" y="12080"/>
                </a:cubicBezTo>
                <a:cubicBezTo>
                  <a:pt x="13307" y="12258"/>
                  <a:pt x="13632" y="12503"/>
                  <a:pt x="13965" y="12725"/>
                </a:cubicBezTo>
                <a:cubicBezTo>
                  <a:pt x="13998" y="12747"/>
                  <a:pt x="14050" y="12737"/>
                  <a:pt x="14064" y="12774"/>
                </a:cubicBezTo>
                <a:cubicBezTo>
                  <a:pt x="14086" y="12835"/>
                  <a:pt x="14043" y="12763"/>
                  <a:pt x="14039" y="12799"/>
                </a:cubicBezTo>
                <a:cubicBezTo>
                  <a:pt x="14031" y="12799"/>
                  <a:pt x="14023" y="12799"/>
                  <a:pt x="14015" y="1279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724120" y="4357800"/>
            <a:ext cx="5697720" cy="687240"/>
          </a:xfrm>
          <a:custGeom>
            <a:avLst/>
            <a:gdLst/>
            <a:ahLst/>
            <a:rect l="l" t="t" r="r" b="b"/>
            <a:pathLst>
              <a:path w="15827" h="1911">
                <a:moveTo>
                  <a:pt x="7913" y="12576"/>
                </a:moveTo>
                <a:cubicBezTo>
                  <a:pt x="7864" y="12625"/>
                  <a:pt x="7822" y="12663"/>
                  <a:pt x="7789" y="12725"/>
                </a:cubicBezTo>
                <a:cubicBezTo>
                  <a:pt x="7756" y="12788"/>
                  <a:pt x="7709" y="12867"/>
                  <a:pt x="7665" y="12923"/>
                </a:cubicBezTo>
                <a:cubicBezTo>
                  <a:pt x="7605" y="13000"/>
                  <a:pt x="7579" y="13072"/>
                  <a:pt x="7565" y="13171"/>
                </a:cubicBezTo>
                <a:cubicBezTo>
                  <a:pt x="7552" y="13263"/>
                  <a:pt x="7575" y="13336"/>
                  <a:pt x="7590" y="13419"/>
                </a:cubicBezTo>
                <a:cubicBezTo>
                  <a:pt x="7600" y="13473"/>
                  <a:pt x="7603" y="13502"/>
                  <a:pt x="7640" y="13543"/>
                </a:cubicBezTo>
                <a:cubicBezTo>
                  <a:pt x="7667" y="13573"/>
                  <a:pt x="7678" y="13584"/>
                  <a:pt x="7714" y="13593"/>
                </a:cubicBezTo>
              </a:path>
              <a:path w="15827" h="1911">
                <a:moveTo>
                  <a:pt x="11361" y="12675"/>
                </a:moveTo>
                <a:cubicBezTo>
                  <a:pt x="11417" y="12791"/>
                  <a:pt x="11483" y="12906"/>
                  <a:pt x="11534" y="13022"/>
                </a:cubicBezTo>
                <a:cubicBezTo>
                  <a:pt x="11572" y="13109"/>
                  <a:pt x="11602" y="13227"/>
                  <a:pt x="11609" y="13320"/>
                </a:cubicBezTo>
                <a:cubicBezTo>
                  <a:pt x="11621" y="13483"/>
                  <a:pt x="11578" y="13512"/>
                  <a:pt x="11509" y="13643"/>
                </a:cubicBezTo>
                <a:cubicBezTo>
                  <a:pt x="11470" y="13717"/>
                  <a:pt x="11419" y="13739"/>
                  <a:pt x="11361" y="13791"/>
                </a:cubicBezTo>
                <a:cubicBezTo>
                  <a:pt x="11331" y="13818"/>
                  <a:pt x="11318" y="13817"/>
                  <a:pt x="11286" y="13841"/>
                </a:cubicBezTo>
              </a:path>
              <a:path w="15827" h="1911">
                <a:moveTo>
                  <a:pt x="11906" y="12774"/>
                </a:moveTo>
                <a:cubicBezTo>
                  <a:pt x="11906" y="12850"/>
                  <a:pt x="11873" y="12856"/>
                  <a:pt x="11857" y="12923"/>
                </a:cubicBezTo>
                <a:cubicBezTo>
                  <a:pt x="11840" y="12996"/>
                  <a:pt x="11794" y="13070"/>
                  <a:pt x="11782" y="13146"/>
                </a:cubicBezTo>
                <a:cubicBezTo>
                  <a:pt x="11758" y="13301"/>
                  <a:pt x="11784" y="13450"/>
                  <a:pt x="11832" y="13593"/>
                </a:cubicBezTo>
                <a:cubicBezTo>
                  <a:pt x="11857" y="13668"/>
                  <a:pt x="11896" y="13764"/>
                  <a:pt x="11956" y="13816"/>
                </a:cubicBezTo>
                <a:cubicBezTo>
                  <a:pt x="12012" y="13845"/>
                  <a:pt x="12036" y="13856"/>
                  <a:pt x="12080" y="13866"/>
                </a:cubicBezTo>
              </a:path>
              <a:path w="15827" h="1911">
                <a:moveTo>
                  <a:pt x="15429" y="12626"/>
                </a:moveTo>
                <a:cubicBezTo>
                  <a:pt x="15486" y="12661"/>
                  <a:pt x="15591" y="12714"/>
                  <a:pt x="15627" y="12774"/>
                </a:cubicBezTo>
                <a:cubicBezTo>
                  <a:pt x="15683" y="12868"/>
                  <a:pt x="15723" y="12973"/>
                  <a:pt x="15776" y="13072"/>
                </a:cubicBezTo>
                <a:cubicBezTo>
                  <a:pt x="15846" y="13203"/>
                  <a:pt x="15875" y="13297"/>
                  <a:pt x="15875" y="13444"/>
                </a:cubicBezTo>
                <a:cubicBezTo>
                  <a:pt x="15875" y="13528"/>
                  <a:pt x="15876" y="13615"/>
                  <a:pt x="15850" y="13692"/>
                </a:cubicBezTo>
                <a:cubicBezTo>
                  <a:pt x="15830" y="13752"/>
                  <a:pt x="15795" y="13797"/>
                  <a:pt x="15751" y="13841"/>
                </a:cubicBezTo>
                <a:cubicBezTo>
                  <a:pt x="15733" y="13859"/>
                  <a:pt x="15676" y="13917"/>
                  <a:pt x="15652" y="13915"/>
                </a:cubicBezTo>
                <a:cubicBezTo>
                  <a:pt x="15627" y="13915"/>
                  <a:pt x="15619" y="13915"/>
                  <a:pt x="15627" y="13891"/>
                </a:cubicBezTo>
              </a:path>
              <a:path w="15827" h="1911">
                <a:moveTo>
                  <a:pt x="16421" y="13295"/>
                </a:moveTo>
                <a:cubicBezTo>
                  <a:pt x="16454" y="13303"/>
                  <a:pt x="16487" y="13312"/>
                  <a:pt x="16520" y="13320"/>
                </a:cubicBezTo>
              </a:path>
              <a:path w="15827" h="1911">
                <a:moveTo>
                  <a:pt x="16495" y="13568"/>
                </a:moveTo>
                <a:cubicBezTo>
                  <a:pt x="16670" y="13584"/>
                  <a:pt x="16642" y="13568"/>
                  <a:pt x="16768" y="13568"/>
                </a:cubicBezTo>
              </a:path>
              <a:path w="15827" h="1911">
                <a:moveTo>
                  <a:pt x="8260" y="12725"/>
                </a:moveTo>
                <a:cubicBezTo>
                  <a:pt x="8298" y="12738"/>
                  <a:pt x="8285" y="12754"/>
                  <a:pt x="8285" y="12799"/>
                </a:cubicBezTo>
                <a:cubicBezTo>
                  <a:pt x="8285" y="12880"/>
                  <a:pt x="8306" y="12921"/>
                  <a:pt x="8310" y="12998"/>
                </a:cubicBezTo>
                <a:cubicBezTo>
                  <a:pt x="8317" y="13141"/>
                  <a:pt x="8297" y="13291"/>
                  <a:pt x="8334" y="13419"/>
                </a:cubicBezTo>
                <a:cubicBezTo>
                  <a:pt x="8349" y="13470"/>
                  <a:pt x="8320" y="13501"/>
                  <a:pt x="8384" y="13469"/>
                </a:cubicBezTo>
              </a:path>
              <a:path w="15827" h="1911">
                <a:moveTo>
                  <a:pt x="8632" y="13146"/>
                </a:moveTo>
                <a:cubicBezTo>
                  <a:pt x="8693" y="13155"/>
                  <a:pt x="8715" y="13171"/>
                  <a:pt x="8781" y="13171"/>
                </a:cubicBezTo>
                <a:cubicBezTo>
                  <a:pt x="8814" y="13171"/>
                  <a:pt x="8847" y="13171"/>
                  <a:pt x="8880" y="13171"/>
                </a:cubicBezTo>
              </a:path>
              <a:path w="15827" h="1911">
                <a:moveTo>
                  <a:pt x="9550" y="13022"/>
                </a:moveTo>
                <a:cubicBezTo>
                  <a:pt x="9550" y="13074"/>
                  <a:pt x="9558" y="12989"/>
                  <a:pt x="9525" y="12973"/>
                </a:cubicBezTo>
                <a:cubicBezTo>
                  <a:pt x="9492" y="12957"/>
                  <a:pt x="9511" y="12960"/>
                  <a:pt x="9475" y="12948"/>
                </a:cubicBezTo>
                <a:cubicBezTo>
                  <a:pt x="9459" y="12999"/>
                  <a:pt x="9429" y="12943"/>
                  <a:pt x="9401" y="12998"/>
                </a:cubicBezTo>
                <a:cubicBezTo>
                  <a:pt x="9382" y="13036"/>
                  <a:pt x="9369" y="13085"/>
                  <a:pt x="9351" y="13122"/>
                </a:cubicBezTo>
                <a:cubicBezTo>
                  <a:pt x="9323" y="13179"/>
                  <a:pt x="9327" y="13221"/>
                  <a:pt x="9327" y="13295"/>
                </a:cubicBezTo>
                <a:cubicBezTo>
                  <a:pt x="9327" y="13338"/>
                  <a:pt x="9372" y="13387"/>
                  <a:pt x="9401" y="13419"/>
                </a:cubicBezTo>
                <a:cubicBezTo>
                  <a:pt x="9434" y="13455"/>
                  <a:pt x="9477" y="13465"/>
                  <a:pt x="9525" y="13469"/>
                </a:cubicBezTo>
                <a:cubicBezTo>
                  <a:pt x="9533" y="13469"/>
                  <a:pt x="9542" y="13469"/>
                  <a:pt x="9550" y="13469"/>
                </a:cubicBezTo>
              </a:path>
              <a:path w="15827" h="1911">
                <a:moveTo>
                  <a:pt x="9823" y="13097"/>
                </a:moveTo>
                <a:cubicBezTo>
                  <a:pt x="9800" y="13166"/>
                  <a:pt x="9798" y="13221"/>
                  <a:pt x="9798" y="13295"/>
                </a:cubicBezTo>
                <a:cubicBezTo>
                  <a:pt x="9798" y="13335"/>
                  <a:pt x="9804" y="13387"/>
                  <a:pt x="9823" y="13419"/>
                </a:cubicBezTo>
                <a:cubicBezTo>
                  <a:pt x="9834" y="13437"/>
                  <a:pt x="9896" y="13493"/>
                  <a:pt x="9897" y="13494"/>
                </a:cubicBezTo>
                <a:cubicBezTo>
                  <a:pt x="9939" y="13515"/>
                  <a:pt x="9991" y="13478"/>
                  <a:pt x="10021" y="13469"/>
                </a:cubicBezTo>
                <a:cubicBezTo>
                  <a:pt x="10048" y="13461"/>
                  <a:pt x="10110" y="13431"/>
                  <a:pt x="10120" y="13395"/>
                </a:cubicBezTo>
                <a:cubicBezTo>
                  <a:pt x="10131" y="13354"/>
                  <a:pt x="10162" y="13307"/>
                  <a:pt x="10170" y="13271"/>
                </a:cubicBezTo>
                <a:cubicBezTo>
                  <a:pt x="10179" y="13229"/>
                  <a:pt x="10165" y="13155"/>
                  <a:pt x="10145" y="13122"/>
                </a:cubicBezTo>
                <a:cubicBezTo>
                  <a:pt x="10122" y="13084"/>
                  <a:pt x="10106" y="13056"/>
                  <a:pt x="10071" y="13022"/>
                </a:cubicBezTo>
                <a:cubicBezTo>
                  <a:pt x="10045" y="12996"/>
                  <a:pt x="9984" y="12980"/>
                  <a:pt x="9947" y="12998"/>
                </a:cubicBezTo>
                <a:cubicBezTo>
                  <a:pt x="9918" y="13012"/>
                  <a:pt x="9881" y="13070"/>
                  <a:pt x="9872" y="13097"/>
                </a:cubicBezTo>
                <a:cubicBezTo>
                  <a:pt x="9856" y="13146"/>
                  <a:pt x="9847" y="13162"/>
                  <a:pt x="9847" y="13221"/>
                </a:cubicBezTo>
                <a:cubicBezTo>
                  <a:pt x="9847" y="13271"/>
                  <a:pt x="9886" y="13262"/>
                  <a:pt x="9897" y="13295"/>
                </a:cubicBezTo>
              </a:path>
              <a:path w="15827" h="1911">
                <a:moveTo>
                  <a:pt x="10592" y="12973"/>
                </a:moveTo>
                <a:cubicBezTo>
                  <a:pt x="10523" y="12973"/>
                  <a:pt x="10507" y="12982"/>
                  <a:pt x="10443" y="12998"/>
                </a:cubicBezTo>
                <a:cubicBezTo>
                  <a:pt x="10400" y="13009"/>
                  <a:pt x="10396" y="13000"/>
                  <a:pt x="10368" y="13022"/>
                </a:cubicBezTo>
                <a:cubicBezTo>
                  <a:pt x="10360" y="13030"/>
                  <a:pt x="10352" y="13039"/>
                  <a:pt x="10344" y="13047"/>
                </a:cubicBezTo>
                <a:cubicBezTo>
                  <a:pt x="10349" y="13064"/>
                  <a:pt x="10366" y="13108"/>
                  <a:pt x="10393" y="13122"/>
                </a:cubicBezTo>
                <a:cubicBezTo>
                  <a:pt x="10419" y="13135"/>
                  <a:pt x="10465" y="13162"/>
                  <a:pt x="10492" y="13171"/>
                </a:cubicBezTo>
                <a:cubicBezTo>
                  <a:pt x="10528" y="13183"/>
                  <a:pt x="10557" y="13209"/>
                  <a:pt x="10592" y="13221"/>
                </a:cubicBezTo>
                <a:cubicBezTo>
                  <a:pt x="10637" y="13236"/>
                  <a:pt x="10671" y="13269"/>
                  <a:pt x="10691" y="13295"/>
                </a:cubicBezTo>
                <a:cubicBezTo>
                  <a:pt x="10720" y="13333"/>
                  <a:pt x="10716" y="13347"/>
                  <a:pt x="10716" y="13395"/>
                </a:cubicBezTo>
                <a:cubicBezTo>
                  <a:pt x="10716" y="13455"/>
                  <a:pt x="10663" y="13465"/>
                  <a:pt x="10616" y="13469"/>
                </a:cubicBezTo>
                <a:cubicBezTo>
                  <a:pt x="10546" y="13475"/>
                  <a:pt x="10499" y="13463"/>
                  <a:pt x="10443" y="13444"/>
                </a:cubicBezTo>
                <a:cubicBezTo>
                  <a:pt x="10399" y="13429"/>
                  <a:pt x="10408" y="13465"/>
                  <a:pt x="10393" y="13419"/>
                </a:cubicBezTo>
              </a:path>
              <a:path w="15827" h="1911">
                <a:moveTo>
                  <a:pt x="10889" y="13097"/>
                </a:moveTo>
                <a:cubicBezTo>
                  <a:pt x="10919" y="13137"/>
                  <a:pt x="10932" y="13177"/>
                  <a:pt x="10964" y="13221"/>
                </a:cubicBezTo>
                <a:cubicBezTo>
                  <a:pt x="11002" y="13272"/>
                  <a:pt x="11042" y="13307"/>
                  <a:pt x="11088" y="13345"/>
                </a:cubicBezTo>
                <a:cubicBezTo>
                  <a:pt x="11145" y="13393"/>
                  <a:pt x="11199" y="13407"/>
                  <a:pt x="11261" y="13444"/>
                </a:cubicBezTo>
                <a:cubicBezTo>
                  <a:pt x="11308" y="13472"/>
                  <a:pt x="11289" y="13480"/>
                  <a:pt x="11336" y="13444"/>
                </a:cubicBezTo>
              </a:path>
              <a:path w="15827" h="1911">
                <a:moveTo>
                  <a:pt x="11137" y="13047"/>
                </a:moveTo>
                <a:cubicBezTo>
                  <a:pt x="11069" y="13151"/>
                  <a:pt x="11023" y="13236"/>
                  <a:pt x="10939" y="13320"/>
                </a:cubicBezTo>
                <a:cubicBezTo>
                  <a:pt x="10901" y="13358"/>
                  <a:pt x="10879" y="13405"/>
                  <a:pt x="10840" y="13444"/>
                </a:cubicBezTo>
                <a:cubicBezTo>
                  <a:pt x="10801" y="13484"/>
                  <a:pt x="10780" y="13474"/>
                  <a:pt x="10740" y="13444"/>
                </a:cubicBezTo>
              </a:path>
              <a:path w="15827" h="1911">
                <a:moveTo>
                  <a:pt x="12526" y="12898"/>
                </a:moveTo>
                <a:cubicBezTo>
                  <a:pt x="12526" y="12995"/>
                  <a:pt x="12560" y="13138"/>
                  <a:pt x="12551" y="13221"/>
                </a:cubicBezTo>
                <a:cubicBezTo>
                  <a:pt x="12542" y="13300"/>
                  <a:pt x="12546" y="13336"/>
                  <a:pt x="12551" y="13419"/>
                </a:cubicBezTo>
                <a:cubicBezTo>
                  <a:pt x="12554" y="13477"/>
                  <a:pt x="12526" y="13506"/>
                  <a:pt x="12526" y="13568"/>
                </a:cubicBezTo>
                <a:cubicBezTo>
                  <a:pt x="12526" y="13606"/>
                  <a:pt x="12533" y="13648"/>
                  <a:pt x="12551" y="13593"/>
                </a:cubicBezTo>
              </a:path>
              <a:path w="15827" h="1911">
                <a:moveTo>
                  <a:pt x="13097" y="13097"/>
                </a:moveTo>
                <a:cubicBezTo>
                  <a:pt x="13090" y="13168"/>
                  <a:pt x="13072" y="13224"/>
                  <a:pt x="13072" y="13295"/>
                </a:cubicBezTo>
                <a:cubicBezTo>
                  <a:pt x="13072" y="13357"/>
                  <a:pt x="13097" y="13407"/>
                  <a:pt x="13097" y="13469"/>
                </a:cubicBezTo>
                <a:cubicBezTo>
                  <a:pt x="13097" y="13509"/>
                  <a:pt x="13122" y="13523"/>
                  <a:pt x="13122" y="13568"/>
                </a:cubicBezTo>
              </a:path>
              <a:path w="15827" h="1911">
                <a:moveTo>
                  <a:pt x="12973" y="13246"/>
                </a:moveTo>
                <a:cubicBezTo>
                  <a:pt x="13072" y="13246"/>
                  <a:pt x="13172" y="13246"/>
                  <a:pt x="13271" y="13246"/>
                </a:cubicBezTo>
              </a:path>
              <a:path w="15827" h="1911">
                <a:moveTo>
                  <a:pt x="13791" y="13146"/>
                </a:moveTo>
                <a:cubicBezTo>
                  <a:pt x="13808" y="13154"/>
                  <a:pt x="13824" y="13163"/>
                  <a:pt x="13841" y="13171"/>
                </a:cubicBezTo>
                <a:cubicBezTo>
                  <a:pt x="13818" y="13148"/>
                  <a:pt x="13783" y="13100"/>
                  <a:pt x="13742" y="13122"/>
                </a:cubicBezTo>
                <a:cubicBezTo>
                  <a:pt x="13696" y="13147"/>
                  <a:pt x="13655" y="13184"/>
                  <a:pt x="13618" y="13221"/>
                </a:cubicBezTo>
                <a:cubicBezTo>
                  <a:pt x="13593" y="13246"/>
                  <a:pt x="13572" y="13286"/>
                  <a:pt x="13568" y="13320"/>
                </a:cubicBezTo>
                <a:cubicBezTo>
                  <a:pt x="13562" y="13373"/>
                  <a:pt x="13583" y="13405"/>
                  <a:pt x="13618" y="13444"/>
                </a:cubicBezTo>
                <a:cubicBezTo>
                  <a:pt x="13647" y="13476"/>
                  <a:pt x="13675" y="13516"/>
                  <a:pt x="13717" y="13519"/>
                </a:cubicBezTo>
                <a:cubicBezTo>
                  <a:pt x="13734" y="13519"/>
                  <a:pt x="13750" y="13519"/>
                  <a:pt x="13767" y="13519"/>
                </a:cubicBezTo>
              </a:path>
              <a:path w="15827" h="1911">
                <a:moveTo>
                  <a:pt x="13990" y="13320"/>
                </a:moveTo>
                <a:cubicBezTo>
                  <a:pt x="13990" y="13408"/>
                  <a:pt x="13995" y="13448"/>
                  <a:pt x="14015" y="13494"/>
                </a:cubicBezTo>
                <a:cubicBezTo>
                  <a:pt x="14039" y="13551"/>
                  <a:pt x="14045" y="13562"/>
                  <a:pt x="14114" y="13568"/>
                </a:cubicBezTo>
                <a:cubicBezTo>
                  <a:pt x="14187" y="13574"/>
                  <a:pt x="14207" y="13570"/>
                  <a:pt x="14263" y="13519"/>
                </a:cubicBezTo>
                <a:cubicBezTo>
                  <a:pt x="14310" y="13477"/>
                  <a:pt x="14333" y="13457"/>
                  <a:pt x="14337" y="13395"/>
                </a:cubicBezTo>
                <a:cubicBezTo>
                  <a:pt x="14341" y="13332"/>
                  <a:pt x="14327" y="13297"/>
                  <a:pt x="14312" y="13246"/>
                </a:cubicBezTo>
                <a:cubicBezTo>
                  <a:pt x="14295" y="13190"/>
                  <a:pt x="14281" y="13164"/>
                  <a:pt x="14238" y="13122"/>
                </a:cubicBezTo>
                <a:cubicBezTo>
                  <a:pt x="14200" y="13085"/>
                  <a:pt x="14192" y="13072"/>
                  <a:pt x="14139" y="13072"/>
                </a:cubicBezTo>
                <a:cubicBezTo>
                  <a:pt x="14098" y="13072"/>
                  <a:pt x="14059" y="13078"/>
                  <a:pt x="14039" y="13122"/>
                </a:cubicBezTo>
                <a:cubicBezTo>
                  <a:pt x="14024" y="13155"/>
                  <a:pt x="14015" y="13181"/>
                  <a:pt x="14015" y="13221"/>
                </a:cubicBezTo>
                <a:cubicBezTo>
                  <a:pt x="14015" y="13281"/>
                  <a:pt x="14042" y="13271"/>
                  <a:pt x="14064" y="13320"/>
                </a:cubicBezTo>
                <a:cubicBezTo>
                  <a:pt x="14064" y="13328"/>
                  <a:pt x="14064" y="13337"/>
                  <a:pt x="14064" y="13345"/>
                </a:cubicBezTo>
              </a:path>
              <a:path w="15827" h="1911">
                <a:moveTo>
                  <a:pt x="14610" y="13047"/>
                </a:moveTo>
                <a:cubicBezTo>
                  <a:pt x="14544" y="13047"/>
                  <a:pt x="14538" y="13055"/>
                  <a:pt x="14486" y="13072"/>
                </a:cubicBezTo>
                <a:cubicBezTo>
                  <a:pt x="14437" y="13088"/>
                  <a:pt x="14442" y="13106"/>
                  <a:pt x="14412" y="13146"/>
                </a:cubicBezTo>
                <a:cubicBezTo>
                  <a:pt x="14435" y="13178"/>
                  <a:pt x="14442" y="13217"/>
                  <a:pt x="14461" y="13246"/>
                </a:cubicBezTo>
                <a:cubicBezTo>
                  <a:pt x="14491" y="13292"/>
                  <a:pt x="14546" y="13310"/>
                  <a:pt x="14585" y="13345"/>
                </a:cubicBezTo>
                <a:cubicBezTo>
                  <a:pt x="14614" y="13371"/>
                  <a:pt x="14649" y="13410"/>
                  <a:pt x="14660" y="13444"/>
                </a:cubicBezTo>
                <a:cubicBezTo>
                  <a:pt x="14664" y="13457"/>
                  <a:pt x="14704" y="13527"/>
                  <a:pt x="14684" y="13543"/>
                </a:cubicBezTo>
                <a:cubicBezTo>
                  <a:pt x="14661" y="13562"/>
                  <a:pt x="14653" y="13568"/>
                  <a:pt x="14610" y="13568"/>
                </a:cubicBezTo>
                <a:cubicBezTo>
                  <a:pt x="14578" y="13568"/>
                  <a:pt x="14545" y="13560"/>
                  <a:pt x="14536" y="13543"/>
                </a:cubicBezTo>
                <a:cubicBezTo>
                  <a:pt x="14520" y="13510"/>
                  <a:pt x="14523" y="13530"/>
                  <a:pt x="14511" y="13494"/>
                </a:cubicBezTo>
              </a:path>
              <a:path w="15827" h="1911">
                <a:moveTo>
                  <a:pt x="14858" y="13122"/>
                </a:moveTo>
                <a:cubicBezTo>
                  <a:pt x="14895" y="13183"/>
                  <a:pt x="14921" y="13216"/>
                  <a:pt x="14957" y="13271"/>
                </a:cubicBezTo>
                <a:cubicBezTo>
                  <a:pt x="14993" y="13327"/>
                  <a:pt x="15050" y="13401"/>
                  <a:pt x="15106" y="13444"/>
                </a:cubicBezTo>
                <a:cubicBezTo>
                  <a:pt x="15159" y="13484"/>
                  <a:pt x="15239" y="13576"/>
                  <a:pt x="15304" y="13593"/>
                </a:cubicBezTo>
                <a:cubicBezTo>
                  <a:pt x="15349" y="13593"/>
                  <a:pt x="15362" y="13596"/>
                  <a:pt x="15379" y="13568"/>
                </a:cubicBezTo>
              </a:path>
              <a:path w="15827" h="1911">
                <a:moveTo>
                  <a:pt x="15280" y="12973"/>
                </a:moveTo>
                <a:cubicBezTo>
                  <a:pt x="15247" y="12979"/>
                  <a:pt x="15194" y="12997"/>
                  <a:pt x="15180" y="13047"/>
                </a:cubicBezTo>
                <a:cubicBezTo>
                  <a:pt x="15160" y="13118"/>
                  <a:pt x="15141" y="13176"/>
                  <a:pt x="15106" y="13246"/>
                </a:cubicBezTo>
                <a:cubicBezTo>
                  <a:pt x="15071" y="13315"/>
                  <a:pt x="15062" y="13376"/>
                  <a:pt x="15032" y="13444"/>
                </a:cubicBezTo>
                <a:cubicBezTo>
                  <a:pt x="15011" y="13491"/>
                  <a:pt x="14987" y="13542"/>
                  <a:pt x="14982" y="13593"/>
                </a:cubicBezTo>
                <a:cubicBezTo>
                  <a:pt x="14982" y="13618"/>
                  <a:pt x="14982" y="13626"/>
                  <a:pt x="14982" y="13643"/>
                </a:cubicBezTo>
              </a:path>
              <a:path w="15827" h="1911">
                <a:moveTo>
                  <a:pt x="15726" y="12427"/>
                </a:moveTo>
                <a:cubicBezTo>
                  <a:pt x="15782" y="12427"/>
                  <a:pt x="15760" y="12407"/>
                  <a:pt x="15801" y="12402"/>
                </a:cubicBezTo>
                <a:cubicBezTo>
                  <a:pt x="15841" y="12397"/>
                  <a:pt x="15855" y="12378"/>
                  <a:pt x="15900" y="12378"/>
                </a:cubicBezTo>
                <a:cubicBezTo>
                  <a:pt x="15952" y="12378"/>
                  <a:pt x="15961" y="12390"/>
                  <a:pt x="15999" y="12427"/>
                </a:cubicBezTo>
                <a:cubicBezTo>
                  <a:pt x="16023" y="12451"/>
                  <a:pt x="16047" y="12493"/>
                  <a:pt x="16049" y="12526"/>
                </a:cubicBezTo>
                <a:cubicBezTo>
                  <a:pt x="16055" y="12604"/>
                  <a:pt x="16043" y="12661"/>
                  <a:pt x="16024" y="12725"/>
                </a:cubicBezTo>
                <a:cubicBezTo>
                  <a:pt x="16009" y="12775"/>
                  <a:pt x="15994" y="12769"/>
                  <a:pt x="15974" y="12799"/>
                </a:cubicBezTo>
                <a:cubicBezTo>
                  <a:pt x="15953" y="12831"/>
                  <a:pt x="15942" y="12837"/>
                  <a:pt x="15900" y="12799"/>
                </a:cubicBezTo>
                <a:cubicBezTo>
                  <a:pt x="15850" y="12755"/>
                  <a:pt x="15890" y="12723"/>
                  <a:pt x="15900" y="12700"/>
                </a:cubicBezTo>
                <a:cubicBezTo>
                  <a:pt x="15900" y="12692"/>
                  <a:pt x="15900" y="12683"/>
                  <a:pt x="15900" y="12675"/>
                </a:cubicBezTo>
                <a:cubicBezTo>
                  <a:pt x="15944" y="12708"/>
                  <a:pt x="15953" y="12683"/>
                  <a:pt x="15999" y="12700"/>
                </a:cubicBezTo>
                <a:cubicBezTo>
                  <a:pt x="16045" y="12716"/>
                  <a:pt x="16083" y="12734"/>
                  <a:pt x="16123" y="12750"/>
                </a:cubicBezTo>
                <a:cubicBezTo>
                  <a:pt x="16183" y="12775"/>
                  <a:pt x="16232" y="12799"/>
                  <a:pt x="16297" y="12799"/>
                </a:cubicBezTo>
                <a:cubicBezTo>
                  <a:pt x="16360" y="12799"/>
                  <a:pt x="16346" y="12790"/>
                  <a:pt x="16346" y="12725"/>
                </a:cubicBezTo>
              </a:path>
              <a:path w="15827" h="1911">
                <a:moveTo>
                  <a:pt x="17338" y="12874"/>
                </a:moveTo>
                <a:cubicBezTo>
                  <a:pt x="17271" y="12975"/>
                  <a:pt x="17229" y="13057"/>
                  <a:pt x="17190" y="13171"/>
                </a:cubicBezTo>
                <a:cubicBezTo>
                  <a:pt x="17165" y="13244"/>
                  <a:pt x="17128" y="13367"/>
                  <a:pt x="17140" y="13444"/>
                </a:cubicBezTo>
                <a:cubicBezTo>
                  <a:pt x="17152" y="13524"/>
                  <a:pt x="17178" y="13594"/>
                  <a:pt x="17214" y="13667"/>
                </a:cubicBezTo>
                <a:cubicBezTo>
                  <a:pt x="17255" y="13749"/>
                  <a:pt x="17257" y="13755"/>
                  <a:pt x="17338" y="13791"/>
                </a:cubicBezTo>
              </a:path>
              <a:path w="15827" h="1911">
                <a:moveTo>
                  <a:pt x="17686" y="13097"/>
                </a:moveTo>
                <a:cubicBezTo>
                  <a:pt x="17686" y="13305"/>
                  <a:pt x="17682" y="13524"/>
                  <a:pt x="17711" y="13717"/>
                </a:cubicBezTo>
                <a:cubicBezTo>
                  <a:pt x="17711" y="13762"/>
                  <a:pt x="17707" y="13775"/>
                  <a:pt x="17735" y="13791"/>
                </a:cubicBezTo>
              </a:path>
              <a:path w="15827" h="1911">
                <a:moveTo>
                  <a:pt x="18231" y="13246"/>
                </a:moveTo>
                <a:cubicBezTo>
                  <a:pt x="18231" y="13346"/>
                  <a:pt x="18251" y="13426"/>
                  <a:pt x="18256" y="13519"/>
                </a:cubicBezTo>
                <a:cubicBezTo>
                  <a:pt x="18259" y="13576"/>
                  <a:pt x="18251" y="13643"/>
                  <a:pt x="18281" y="13692"/>
                </a:cubicBezTo>
                <a:cubicBezTo>
                  <a:pt x="18294" y="13714"/>
                  <a:pt x="18323" y="13796"/>
                  <a:pt x="18331" y="13742"/>
                </a:cubicBezTo>
                <a:cubicBezTo>
                  <a:pt x="18331" y="13734"/>
                  <a:pt x="18331" y="13725"/>
                  <a:pt x="18331" y="13717"/>
                </a:cubicBezTo>
              </a:path>
              <a:path w="15827" h="1911">
                <a:moveTo>
                  <a:pt x="18058" y="13370"/>
                </a:moveTo>
                <a:cubicBezTo>
                  <a:pt x="18085" y="13407"/>
                  <a:pt x="18170" y="13435"/>
                  <a:pt x="18231" y="13444"/>
                </a:cubicBezTo>
                <a:cubicBezTo>
                  <a:pt x="18308" y="13456"/>
                  <a:pt x="18373" y="13469"/>
                  <a:pt x="18455" y="13469"/>
                </a:cubicBezTo>
              </a:path>
              <a:path w="15827" h="1911">
                <a:moveTo>
                  <a:pt x="18926" y="13345"/>
                </a:moveTo>
                <a:cubicBezTo>
                  <a:pt x="18926" y="13370"/>
                  <a:pt x="18926" y="13378"/>
                  <a:pt x="18951" y="13370"/>
                </a:cubicBezTo>
                <a:cubicBezTo>
                  <a:pt x="18942" y="13342"/>
                  <a:pt x="18895" y="13327"/>
                  <a:pt x="18852" y="13345"/>
                </a:cubicBezTo>
                <a:cubicBezTo>
                  <a:pt x="18822" y="13358"/>
                  <a:pt x="18772" y="13388"/>
                  <a:pt x="18752" y="13419"/>
                </a:cubicBezTo>
                <a:cubicBezTo>
                  <a:pt x="18714" y="13479"/>
                  <a:pt x="18703" y="13498"/>
                  <a:pt x="18703" y="13568"/>
                </a:cubicBezTo>
                <a:cubicBezTo>
                  <a:pt x="18703" y="13631"/>
                  <a:pt x="18739" y="13700"/>
                  <a:pt x="18802" y="13717"/>
                </a:cubicBezTo>
                <a:cubicBezTo>
                  <a:pt x="18862" y="13733"/>
                  <a:pt x="18908" y="13742"/>
                  <a:pt x="18976" y="13742"/>
                </a:cubicBezTo>
              </a:path>
              <a:path w="15827" h="1911">
                <a:moveTo>
                  <a:pt x="19149" y="13395"/>
                </a:moveTo>
                <a:cubicBezTo>
                  <a:pt x="19121" y="13458"/>
                  <a:pt x="19124" y="13497"/>
                  <a:pt x="19124" y="13568"/>
                </a:cubicBezTo>
                <a:cubicBezTo>
                  <a:pt x="19124" y="13633"/>
                  <a:pt x="19134" y="13664"/>
                  <a:pt x="19174" y="13717"/>
                </a:cubicBezTo>
                <a:cubicBezTo>
                  <a:pt x="19205" y="13758"/>
                  <a:pt x="19256" y="13791"/>
                  <a:pt x="19298" y="13816"/>
                </a:cubicBezTo>
                <a:cubicBezTo>
                  <a:pt x="19366" y="13857"/>
                  <a:pt x="19412" y="13840"/>
                  <a:pt x="19472" y="13791"/>
                </a:cubicBezTo>
                <a:cubicBezTo>
                  <a:pt x="19503" y="13766"/>
                  <a:pt x="19518" y="13683"/>
                  <a:pt x="19521" y="13643"/>
                </a:cubicBezTo>
                <a:cubicBezTo>
                  <a:pt x="19530" y="13516"/>
                  <a:pt x="19483" y="13458"/>
                  <a:pt x="19397" y="13395"/>
                </a:cubicBezTo>
                <a:cubicBezTo>
                  <a:pt x="19350" y="13361"/>
                  <a:pt x="19307" y="13370"/>
                  <a:pt x="19248" y="13370"/>
                </a:cubicBezTo>
                <a:cubicBezTo>
                  <a:pt x="19189" y="13370"/>
                  <a:pt x="19201" y="13380"/>
                  <a:pt x="19174" y="13419"/>
                </a:cubicBezTo>
                <a:cubicBezTo>
                  <a:pt x="19159" y="13442"/>
                  <a:pt x="19130" y="13485"/>
                  <a:pt x="19149" y="13519"/>
                </a:cubicBezTo>
                <a:cubicBezTo>
                  <a:pt x="19174" y="13543"/>
                  <a:pt x="19183" y="13551"/>
                  <a:pt x="19199" y="13568"/>
                </a:cubicBezTo>
              </a:path>
              <a:path w="15827" h="1911">
                <a:moveTo>
                  <a:pt x="19745" y="13395"/>
                </a:moveTo>
                <a:cubicBezTo>
                  <a:pt x="19681" y="13404"/>
                  <a:pt x="19675" y="13429"/>
                  <a:pt x="19645" y="13444"/>
                </a:cubicBezTo>
                <a:cubicBezTo>
                  <a:pt x="19613" y="13460"/>
                  <a:pt x="19620" y="13482"/>
                  <a:pt x="19645" y="13519"/>
                </a:cubicBezTo>
                <a:cubicBezTo>
                  <a:pt x="19687" y="13581"/>
                  <a:pt x="19753" y="13631"/>
                  <a:pt x="19794" y="13692"/>
                </a:cubicBezTo>
                <a:cubicBezTo>
                  <a:pt x="19832" y="13749"/>
                  <a:pt x="19844" y="13774"/>
                  <a:pt x="19844" y="13841"/>
                </a:cubicBezTo>
                <a:cubicBezTo>
                  <a:pt x="19844" y="13849"/>
                  <a:pt x="19844" y="13858"/>
                  <a:pt x="19844" y="13866"/>
                </a:cubicBezTo>
                <a:cubicBezTo>
                  <a:pt x="19800" y="13866"/>
                  <a:pt x="19693" y="13887"/>
                  <a:pt x="19670" y="13841"/>
                </a:cubicBezTo>
                <a:cubicBezTo>
                  <a:pt x="19649" y="13799"/>
                  <a:pt x="19645" y="13770"/>
                  <a:pt x="19645" y="13717"/>
                </a:cubicBezTo>
              </a:path>
              <a:path w="15827" h="1911">
                <a:moveTo>
                  <a:pt x="19943" y="13419"/>
                </a:moveTo>
                <a:cubicBezTo>
                  <a:pt x="19996" y="13495"/>
                  <a:pt x="20056" y="13573"/>
                  <a:pt x="20117" y="13643"/>
                </a:cubicBezTo>
                <a:cubicBezTo>
                  <a:pt x="20167" y="13701"/>
                  <a:pt x="20253" y="13771"/>
                  <a:pt x="20315" y="13816"/>
                </a:cubicBezTo>
                <a:cubicBezTo>
                  <a:pt x="20370" y="13855"/>
                  <a:pt x="20398" y="13866"/>
                  <a:pt x="20464" y="13866"/>
                </a:cubicBezTo>
              </a:path>
              <a:path w="15827" h="1911">
                <a:moveTo>
                  <a:pt x="20241" y="13395"/>
                </a:moveTo>
                <a:cubicBezTo>
                  <a:pt x="20174" y="13480"/>
                  <a:pt x="20115" y="13548"/>
                  <a:pt x="20067" y="13643"/>
                </a:cubicBezTo>
                <a:cubicBezTo>
                  <a:pt x="20042" y="13693"/>
                  <a:pt x="20013" y="13745"/>
                  <a:pt x="19993" y="13791"/>
                </a:cubicBezTo>
                <a:cubicBezTo>
                  <a:pt x="19973" y="13832"/>
                  <a:pt x="19975" y="13848"/>
                  <a:pt x="19943" y="13841"/>
                </a:cubicBezTo>
              </a:path>
              <a:path w="15827" h="1911">
                <a:moveTo>
                  <a:pt x="20315" y="12849"/>
                </a:moveTo>
                <a:cubicBezTo>
                  <a:pt x="20444" y="13000"/>
                  <a:pt x="20484" y="13043"/>
                  <a:pt x="20538" y="13221"/>
                </a:cubicBezTo>
                <a:cubicBezTo>
                  <a:pt x="20578" y="13352"/>
                  <a:pt x="20588" y="13456"/>
                  <a:pt x="20588" y="13593"/>
                </a:cubicBezTo>
                <a:cubicBezTo>
                  <a:pt x="20588" y="13682"/>
                  <a:pt x="20572" y="13785"/>
                  <a:pt x="20538" y="13866"/>
                </a:cubicBezTo>
                <a:cubicBezTo>
                  <a:pt x="20516" y="13918"/>
                  <a:pt x="20493" y="13968"/>
                  <a:pt x="20464" y="13990"/>
                </a:cubicBezTo>
                <a:cubicBezTo>
                  <a:pt x="20441" y="14013"/>
                  <a:pt x="20433" y="14024"/>
                  <a:pt x="20439" y="13990"/>
                </a:cubicBezTo>
              </a:path>
              <a:path w="15827" h="1911">
                <a:moveTo>
                  <a:pt x="21282" y="13221"/>
                </a:moveTo>
                <a:cubicBezTo>
                  <a:pt x="21303" y="13193"/>
                  <a:pt x="21317" y="13145"/>
                  <a:pt x="21282" y="13122"/>
                </a:cubicBezTo>
                <a:cubicBezTo>
                  <a:pt x="21255" y="13104"/>
                  <a:pt x="21220" y="13097"/>
                  <a:pt x="21183" y="13097"/>
                </a:cubicBezTo>
                <a:cubicBezTo>
                  <a:pt x="21115" y="13097"/>
                  <a:pt x="21106" y="13119"/>
                  <a:pt x="21084" y="13171"/>
                </a:cubicBezTo>
                <a:cubicBezTo>
                  <a:pt x="21060" y="13226"/>
                  <a:pt x="21052" y="13247"/>
                  <a:pt x="21084" y="13295"/>
                </a:cubicBezTo>
                <a:cubicBezTo>
                  <a:pt x="21114" y="13339"/>
                  <a:pt x="21193" y="13379"/>
                  <a:pt x="21233" y="13419"/>
                </a:cubicBezTo>
                <a:cubicBezTo>
                  <a:pt x="21291" y="13477"/>
                  <a:pt x="21327" y="13499"/>
                  <a:pt x="21382" y="13568"/>
                </a:cubicBezTo>
                <a:cubicBezTo>
                  <a:pt x="21421" y="13617"/>
                  <a:pt x="21450" y="13641"/>
                  <a:pt x="21406" y="13692"/>
                </a:cubicBezTo>
                <a:cubicBezTo>
                  <a:pt x="21373" y="13730"/>
                  <a:pt x="21330" y="13717"/>
                  <a:pt x="21282" y="13717"/>
                </a:cubicBezTo>
                <a:cubicBezTo>
                  <a:pt x="21241" y="13717"/>
                  <a:pt x="21166" y="13712"/>
                  <a:pt x="21134" y="13692"/>
                </a:cubicBezTo>
                <a:cubicBezTo>
                  <a:pt x="21098" y="13669"/>
                  <a:pt x="21047" y="13607"/>
                  <a:pt x="21034" y="13568"/>
                </a:cubicBezTo>
                <a:cubicBezTo>
                  <a:pt x="21034" y="13540"/>
                  <a:pt x="21036" y="13529"/>
                  <a:pt x="21059" y="13519"/>
                </a:cubicBezTo>
              </a:path>
              <a:path w="15827" h="1911">
                <a:moveTo>
                  <a:pt x="21580" y="13345"/>
                </a:moveTo>
                <a:cubicBezTo>
                  <a:pt x="21587" y="13392"/>
                  <a:pt x="21583" y="13586"/>
                  <a:pt x="21605" y="13643"/>
                </a:cubicBezTo>
                <a:cubicBezTo>
                  <a:pt x="21614" y="13667"/>
                  <a:pt x="21638" y="13695"/>
                  <a:pt x="21654" y="13717"/>
                </a:cubicBezTo>
                <a:cubicBezTo>
                  <a:pt x="21654" y="13684"/>
                  <a:pt x="21654" y="13651"/>
                  <a:pt x="21654" y="13618"/>
                </a:cubicBezTo>
              </a:path>
              <a:path w="15827" h="1911">
                <a:moveTo>
                  <a:pt x="21679" y="12973"/>
                </a:moveTo>
                <a:cubicBezTo>
                  <a:pt x="21679" y="12930"/>
                  <a:pt x="21669" y="12935"/>
                  <a:pt x="21704" y="12923"/>
                </a:cubicBezTo>
              </a:path>
              <a:path w="15827" h="1911">
                <a:moveTo>
                  <a:pt x="21828" y="13543"/>
                </a:moveTo>
                <a:cubicBezTo>
                  <a:pt x="21828" y="13609"/>
                  <a:pt x="21828" y="13676"/>
                  <a:pt x="21828" y="13742"/>
                </a:cubicBezTo>
                <a:cubicBezTo>
                  <a:pt x="21838" y="13703"/>
                  <a:pt x="21853" y="13687"/>
                  <a:pt x="21853" y="13643"/>
                </a:cubicBezTo>
                <a:cubicBezTo>
                  <a:pt x="21853" y="13578"/>
                  <a:pt x="21858" y="13525"/>
                  <a:pt x="21878" y="13469"/>
                </a:cubicBezTo>
                <a:cubicBezTo>
                  <a:pt x="21897" y="13415"/>
                  <a:pt x="21913" y="13363"/>
                  <a:pt x="21952" y="13320"/>
                </a:cubicBezTo>
                <a:cubicBezTo>
                  <a:pt x="21978" y="13291"/>
                  <a:pt x="22007" y="13256"/>
                  <a:pt x="22051" y="13271"/>
                </a:cubicBezTo>
                <a:cubicBezTo>
                  <a:pt x="22132" y="13299"/>
                  <a:pt x="22126" y="13303"/>
                  <a:pt x="22175" y="13370"/>
                </a:cubicBezTo>
                <a:cubicBezTo>
                  <a:pt x="22203" y="13408"/>
                  <a:pt x="22236" y="13491"/>
                  <a:pt x="22250" y="13543"/>
                </a:cubicBezTo>
                <a:cubicBezTo>
                  <a:pt x="22267" y="13604"/>
                  <a:pt x="22251" y="13731"/>
                  <a:pt x="22275" y="13791"/>
                </a:cubicBezTo>
                <a:cubicBezTo>
                  <a:pt x="22304" y="13864"/>
                  <a:pt x="22299" y="13828"/>
                  <a:pt x="22299" y="13767"/>
                </a:cubicBezTo>
              </a:path>
              <a:path w="15827" h="1911">
                <a:moveTo>
                  <a:pt x="22399" y="12750"/>
                </a:moveTo>
                <a:cubicBezTo>
                  <a:pt x="22432" y="12690"/>
                  <a:pt x="22432" y="12675"/>
                  <a:pt x="22498" y="12675"/>
                </a:cubicBezTo>
                <a:cubicBezTo>
                  <a:pt x="22524" y="12675"/>
                  <a:pt x="22576" y="12725"/>
                  <a:pt x="22572" y="12750"/>
                </a:cubicBezTo>
                <a:cubicBezTo>
                  <a:pt x="22567" y="12787"/>
                  <a:pt x="22537" y="12864"/>
                  <a:pt x="22523" y="12898"/>
                </a:cubicBezTo>
                <a:cubicBezTo>
                  <a:pt x="22501" y="12954"/>
                  <a:pt x="22464" y="12995"/>
                  <a:pt x="22448" y="13047"/>
                </a:cubicBezTo>
                <a:cubicBezTo>
                  <a:pt x="22435" y="13090"/>
                  <a:pt x="22492" y="13111"/>
                  <a:pt x="22498" y="13122"/>
                </a:cubicBezTo>
                <a:cubicBezTo>
                  <a:pt x="22517" y="13158"/>
                  <a:pt x="22549" y="13146"/>
                  <a:pt x="22597" y="13146"/>
                </a:cubicBezTo>
                <a:cubicBezTo>
                  <a:pt x="22659" y="13146"/>
                  <a:pt x="22723" y="13154"/>
                  <a:pt x="22771" y="13122"/>
                </a:cubicBezTo>
                <a:cubicBezTo>
                  <a:pt x="22779" y="13114"/>
                  <a:pt x="22788" y="13105"/>
                  <a:pt x="22796" y="13097"/>
                </a:cubicBezTo>
              </a:path>
              <a:path w="15827" h="1911">
                <a:moveTo>
                  <a:pt x="22920" y="13246"/>
                </a:moveTo>
                <a:cubicBezTo>
                  <a:pt x="22939" y="13344"/>
                  <a:pt x="22960" y="13479"/>
                  <a:pt x="23019" y="13568"/>
                </a:cubicBezTo>
                <a:cubicBezTo>
                  <a:pt x="23049" y="13613"/>
                  <a:pt x="23152" y="13762"/>
                  <a:pt x="23192" y="13791"/>
                </a:cubicBezTo>
                <a:cubicBezTo>
                  <a:pt x="23255" y="13837"/>
                  <a:pt x="23316" y="13878"/>
                  <a:pt x="23391" y="13915"/>
                </a:cubicBezTo>
              </a:path>
              <a:path w="15827" h="1911">
                <a:moveTo>
                  <a:pt x="23242" y="13271"/>
                </a:moveTo>
                <a:cubicBezTo>
                  <a:pt x="23118" y="13333"/>
                  <a:pt x="23036" y="13383"/>
                  <a:pt x="22944" y="13494"/>
                </a:cubicBezTo>
                <a:cubicBezTo>
                  <a:pt x="22881" y="13570"/>
                  <a:pt x="22850" y="13667"/>
                  <a:pt x="22796" y="13742"/>
                </a:cubicBezTo>
                <a:cubicBezTo>
                  <a:pt x="22728" y="13808"/>
                  <a:pt x="22699" y="13846"/>
                  <a:pt x="22671" y="13915"/>
                </a:cubicBezTo>
              </a:path>
              <a:path w="15827" h="1911">
                <a:moveTo>
                  <a:pt x="15652" y="12849"/>
                </a:moveTo>
                <a:cubicBezTo>
                  <a:pt x="15700" y="12839"/>
                  <a:pt x="15736" y="12812"/>
                  <a:pt x="15776" y="12799"/>
                </a:cubicBezTo>
                <a:cubicBezTo>
                  <a:pt x="15823" y="12783"/>
                  <a:pt x="15871" y="12737"/>
                  <a:pt x="15925" y="12725"/>
                </a:cubicBezTo>
                <a:cubicBezTo>
                  <a:pt x="15998" y="12709"/>
                  <a:pt x="16030" y="12677"/>
                  <a:pt x="16098" y="12650"/>
                </a:cubicBezTo>
                <a:cubicBezTo>
                  <a:pt x="16197" y="12610"/>
                  <a:pt x="16281" y="12555"/>
                  <a:pt x="16371" y="12502"/>
                </a:cubicBezTo>
                <a:cubicBezTo>
                  <a:pt x="16413" y="12477"/>
                  <a:pt x="16446" y="12443"/>
                  <a:pt x="16470" y="12427"/>
                </a:cubicBezTo>
                <a:cubicBezTo>
                  <a:pt x="16500" y="12407"/>
                  <a:pt x="16520" y="12317"/>
                  <a:pt x="16520" y="12353"/>
                </a:cubicBezTo>
                <a:cubicBezTo>
                  <a:pt x="16520" y="12378"/>
                  <a:pt x="16520" y="12386"/>
                  <a:pt x="16495" y="12378"/>
                </a:cubicBezTo>
              </a:path>
              <a:path w="15827" h="1911">
                <a:moveTo>
                  <a:pt x="15553" y="12105"/>
                </a:moveTo>
                <a:cubicBezTo>
                  <a:pt x="15553" y="12113"/>
                  <a:pt x="15553" y="12121"/>
                  <a:pt x="15553" y="12129"/>
                </a:cubicBezTo>
                <a:cubicBezTo>
                  <a:pt x="15600" y="12145"/>
                  <a:pt x="15561" y="12159"/>
                  <a:pt x="15577" y="12204"/>
                </a:cubicBezTo>
                <a:cubicBezTo>
                  <a:pt x="15592" y="12247"/>
                  <a:pt x="15588" y="12289"/>
                  <a:pt x="15602" y="12328"/>
                </a:cubicBezTo>
                <a:cubicBezTo>
                  <a:pt x="15610" y="12351"/>
                  <a:pt x="15616" y="12432"/>
                  <a:pt x="15627" y="12452"/>
                </a:cubicBezTo>
                <a:cubicBezTo>
                  <a:pt x="15647" y="12488"/>
                  <a:pt x="15672" y="12509"/>
                  <a:pt x="15677" y="12551"/>
                </a:cubicBezTo>
                <a:cubicBezTo>
                  <a:pt x="15677" y="12579"/>
                  <a:pt x="15679" y="12590"/>
                  <a:pt x="15701" y="12601"/>
                </a:cubicBezTo>
              </a:path>
              <a:path w="15827" h="1911">
                <a:moveTo>
                  <a:pt x="17462" y="13767"/>
                </a:moveTo>
                <a:cubicBezTo>
                  <a:pt x="17502" y="13773"/>
                  <a:pt x="17517" y="13795"/>
                  <a:pt x="17562" y="13791"/>
                </a:cubicBezTo>
                <a:cubicBezTo>
                  <a:pt x="17586" y="13789"/>
                  <a:pt x="17661" y="13776"/>
                  <a:pt x="17686" y="13767"/>
                </a:cubicBezTo>
                <a:cubicBezTo>
                  <a:pt x="17757" y="13743"/>
                  <a:pt x="17833" y="13716"/>
                  <a:pt x="17909" y="13692"/>
                </a:cubicBezTo>
                <a:cubicBezTo>
                  <a:pt x="18027" y="13655"/>
                  <a:pt x="18138" y="13652"/>
                  <a:pt x="18256" y="13618"/>
                </a:cubicBezTo>
                <a:cubicBezTo>
                  <a:pt x="18448" y="13563"/>
                  <a:pt x="18632" y="13483"/>
                  <a:pt x="18827" y="13444"/>
                </a:cubicBezTo>
                <a:cubicBezTo>
                  <a:pt x="19014" y="13406"/>
                  <a:pt x="19192" y="13355"/>
                  <a:pt x="19372" y="13295"/>
                </a:cubicBezTo>
                <a:cubicBezTo>
                  <a:pt x="19548" y="13236"/>
                  <a:pt x="19720" y="13191"/>
                  <a:pt x="19893" y="13122"/>
                </a:cubicBezTo>
                <a:cubicBezTo>
                  <a:pt x="20029" y="13068"/>
                  <a:pt x="20187" y="13036"/>
                  <a:pt x="20315" y="12973"/>
                </a:cubicBezTo>
                <a:cubicBezTo>
                  <a:pt x="20399" y="12932"/>
                  <a:pt x="20488" y="12885"/>
                  <a:pt x="20563" y="12849"/>
                </a:cubicBezTo>
                <a:cubicBezTo>
                  <a:pt x="20608" y="12827"/>
                  <a:pt x="20678" y="12799"/>
                  <a:pt x="20712" y="12774"/>
                </a:cubicBezTo>
                <a:cubicBezTo>
                  <a:pt x="20712" y="12766"/>
                  <a:pt x="20712" y="12758"/>
                  <a:pt x="20712" y="12750"/>
                </a:cubicBezTo>
                <a:cubicBezTo>
                  <a:pt x="20696" y="12766"/>
                  <a:pt x="20667" y="12795"/>
                  <a:pt x="20638" y="1282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919240" y="4857840"/>
            <a:ext cx="5394600" cy="241200"/>
          </a:xfrm>
          <a:custGeom>
            <a:avLst/>
            <a:gdLst/>
            <a:ahLst/>
            <a:rect l="l" t="t" r="r" b="b"/>
            <a:pathLst>
              <a:path w="14983" h="670">
                <a:moveTo>
                  <a:pt x="8111" y="13891"/>
                </a:moveTo>
                <a:cubicBezTo>
                  <a:pt x="8162" y="13876"/>
                  <a:pt x="8173" y="13848"/>
                  <a:pt x="8235" y="13841"/>
                </a:cubicBezTo>
                <a:cubicBezTo>
                  <a:pt x="8945" y="13766"/>
                  <a:pt x="9713" y="13847"/>
                  <a:pt x="10418" y="13891"/>
                </a:cubicBezTo>
                <a:cubicBezTo>
                  <a:pt x="10583" y="13901"/>
                  <a:pt x="10749" y="13912"/>
                  <a:pt x="10914" y="13915"/>
                </a:cubicBezTo>
                <a:cubicBezTo>
                  <a:pt x="11101" y="13919"/>
                  <a:pt x="11299" y="13922"/>
                  <a:pt x="11485" y="13940"/>
                </a:cubicBezTo>
                <a:cubicBezTo>
                  <a:pt x="11674" y="13958"/>
                  <a:pt x="11866" y="13946"/>
                  <a:pt x="12055" y="13965"/>
                </a:cubicBezTo>
                <a:cubicBezTo>
                  <a:pt x="12253" y="13985"/>
                  <a:pt x="12452" y="13972"/>
                  <a:pt x="12650" y="13990"/>
                </a:cubicBezTo>
                <a:cubicBezTo>
                  <a:pt x="12939" y="14017"/>
                  <a:pt x="13226" y="14015"/>
                  <a:pt x="13519" y="14015"/>
                </a:cubicBezTo>
                <a:cubicBezTo>
                  <a:pt x="13794" y="14015"/>
                  <a:pt x="14065" y="14002"/>
                  <a:pt x="14337" y="13990"/>
                </a:cubicBezTo>
                <a:cubicBezTo>
                  <a:pt x="14495" y="13983"/>
                  <a:pt x="14651" y="13984"/>
                  <a:pt x="14808" y="13965"/>
                </a:cubicBezTo>
                <a:cubicBezTo>
                  <a:pt x="14889" y="13955"/>
                  <a:pt x="14957" y="13925"/>
                  <a:pt x="15032" y="13915"/>
                </a:cubicBezTo>
                <a:cubicBezTo>
                  <a:pt x="15056" y="13912"/>
                  <a:pt x="15031" y="13917"/>
                  <a:pt x="15056" y="13915"/>
                </a:cubicBezTo>
              </a:path>
              <a:path w="14983" h="670">
                <a:moveTo>
                  <a:pt x="17066" y="14015"/>
                </a:moveTo>
                <a:cubicBezTo>
                  <a:pt x="17202" y="13994"/>
                  <a:pt x="17324" y="13990"/>
                  <a:pt x="17462" y="13990"/>
                </a:cubicBezTo>
                <a:cubicBezTo>
                  <a:pt x="17606" y="13990"/>
                  <a:pt x="17766" y="13998"/>
                  <a:pt x="17909" y="14015"/>
                </a:cubicBezTo>
                <a:cubicBezTo>
                  <a:pt x="18091" y="14036"/>
                  <a:pt x="18272" y="14022"/>
                  <a:pt x="18455" y="14039"/>
                </a:cubicBezTo>
                <a:cubicBezTo>
                  <a:pt x="18760" y="14067"/>
                  <a:pt x="19067" y="14097"/>
                  <a:pt x="19372" y="14114"/>
                </a:cubicBezTo>
                <a:cubicBezTo>
                  <a:pt x="19578" y="14126"/>
                  <a:pt x="19787" y="14135"/>
                  <a:pt x="19993" y="14139"/>
                </a:cubicBezTo>
                <a:cubicBezTo>
                  <a:pt x="20218" y="14143"/>
                  <a:pt x="20438" y="14160"/>
                  <a:pt x="20662" y="14163"/>
                </a:cubicBezTo>
                <a:cubicBezTo>
                  <a:pt x="20994" y="14168"/>
                  <a:pt x="21324" y="14156"/>
                  <a:pt x="21654" y="14139"/>
                </a:cubicBezTo>
                <a:cubicBezTo>
                  <a:pt x="21845" y="14129"/>
                  <a:pt x="22036" y="14139"/>
                  <a:pt x="22225" y="14114"/>
                </a:cubicBezTo>
                <a:cubicBezTo>
                  <a:pt x="22375" y="14094"/>
                  <a:pt x="22521" y="14079"/>
                  <a:pt x="22671" y="14064"/>
                </a:cubicBezTo>
                <a:cubicBezTo>
                  <a:pt x="22775" y="14054"/>
                  <a:pt x="22893" y="14023"/>
                  <a:pt x="22994" y="14015"/>
                </a:cubicBezTo>
                <a:cubicBezTo>
                  <a:pt x="23097" y="14007"/>
                  <a:pt x="23049" y="14015"/>
                  <a:pt x="23068" y="13990"/>
                </a:cubicBezTo>
                <a:cubicBezTo>
                  <a:pt x="23052" y="13990"/>
                  <a:pt x="23035" y="13990"/>
                  <a:pt x="23019" y="13990"/>
                </a:cubicBezTo>
              </a:path>
              <a:path w="14983" h="670">
                <a:moveTo>
                  <a:pt x="10294" y="13543"/>
                </a:moveTo>
                <a:cubicBezTo>
                  <a:pt x="10317" y="13566"/>
                  <a:pt x="10296" y="13545"/>
                  <a:pt x="10319" y="13568"/>
                </a:cubicBezTo>
                <a:cubicBezTo>
                  <a:pt x="10370" y="13620"/>
                  <a:pt x="10382" y="13620"/>
                  <a:pt x="10443" y="13643"/>
                </a:cubicBezTo>
                <a:cubicBezTo>
                  <a:pt x="10522" y="13673"/>
                  <a:pt x="10556" y="13697"/>
                  <a:pt x="10641" y="13717"/>
                </a:cubicBezTo>
                <a:cubicBezTo>
                  <a:pt x="10753" y="13743"/>
                  <a:pt x="10850" y="13772"/>
                  <a:pt x="10964" y="13791"/>
                </a:cubicBezTo>
                <a:cubicBezTo>
                  <a:pt x="11109" y="13815"/>
                  <a:pt x="11236" y="13862"/>
                  <a:pt x="11385" y="13866"/>
                </a:cubicBezTo>
                <a:cubicBezTo>
                  <a:pt x="11544" y="13870"/>
                  <a:pt x="11674" y="13881"/>
                  <a:pt x="11832" y="13866"/>
                </a:cubicBezTo>
                <a:cubicBezTo>
                  <a:pt x="11957" y="13854"/>
                  <a:pt x="12060" y="13837"/>
                  <a:pt x="12179" y="13791"/>
                </a:cubicBezTo>
                <a:cubicBezTo>
                  <a:pt x="12241" y="13767"/>
                  <a:pt x="12302" y="13733"/>
                  <a:pt x="12353" y="13692"/>
                </a:cubicBezTo>
                <a:cubicBezTo>
                  <a:pt x="12375" y="13674"/>
                  <a:pt x="12441" y="13630"/>
                  <a:pt x="12452" y="13618"/>
                </a:cubicBezTo>
                <a:cubicBezTo>
                  <a:pt x="12482" y="13583"/>
                  <a:pt x="12482" y="13568"/>
                  <a:pt x="12502" y="13543"/>
                </a:cubicBezTo>
                <a:cubicBezTo>
                  <a:pt x="12526" y="13543"/>
                  <a:pt x="12534" y="13543"/>
                  <a:pt x="12502" y="13543"/>
                </a:cubicBezTo>
              </a:path>
              <a:path w="14983" h="670">
                <a:moveTo>
                  <a:pt x="10393" y="13494"/>
                </a:moveTo>
                <a:cubicBezTo>
                  <a:pt x="10430" y="13520"/>
                  <a:pt x="10459" y="13530"/>
                  <a:pt x="10492" y="13568"/>
                </a:cubicBezTo>
                <a:cubicBezTo>
                  <a:pt x="10527" y="13609"/>
                  <a:pt x="10546" y="13652"/>
                  <a:pt x="10592" y="13692"/>
                </a:cubicBezTo>
                <a:cubicBezTo>
                  <a:pt x="10680" y="13769"/>
                  <a:pt x="10787" y="13806"/>
                  <a:pt x="10889" y="13866"/>
                </a:cubicBezTo>
                <a:cubicBezTo>
                  <a:pt x="11006" y="13935"/>
                  <a:pt x="11129" y="13957"/>
                  <a:pt x="11261" y="13990"/>
                </a:cubicBezTo>
                <a:cubicBezTo>
                  <a:pt x="11460" y="14040"/>
                  <a:pt x="11656" y="14062"/>
                  <a:pt x="11857" y="14089"/>
                </a:cubicBezTo>
                <a:cubicBezTo>
                  <a:pt x="12023" y="14111"/>
                  <a:pt x="12185" y="14135"/>
                  <a:pt x="12353" y="14139"/>
                </a:cubicBezTo>
                <a:cubicBezTo>
                  <a:pt x="12518" y="14143"/>
                  <a:pt x="12687" y="14136"/>
                  <a:pt x="12849" y="14114"/>
                </a:cubicBezTo>
                <a:cubicBezTo>
                  <a:pt x="13010" y="14092"/>
                  <a:pt x="13142" y="14064"/>
                  <a:pt x="13295" y="14015"/>
                </a:cubicBezTo>
                <a:cubicBezTo>
                  <a:pt x="13414" y="13977"/>
                  <a:pt x="13525" y="13933"/>
                  <a:pt x="13643" y="13891"/>
                </a:cubicBezTo>
                <a:cubicBezTo>
                  <a:pt x="13726" y="13862"/>
                  <a:pt x="13787" y="13809"/>
                  <a:pt x="13866" y="13767"/>
                </a:cubicBezTo>
                <a:cubicBezTo>
                  <a:pt x="13915" y="13741"/>
                  <a:pt x="13969" y="13711"/>
                  <a:pt x="14015" y="13692"/>
                </a:cubicBezTo>
                <a:cubicBezTo>
                  <a:pt x="14049" y="13678"/>
                  <a:pt x="14054" y="13701"/>
                  <a:pt x="14089" y="13692"/>
                </a:cubicBezTo>
                <a:cubicBezTo>
                  <a:pt x="14081" y="13692"/>
                  <a:pt x="14072" y="13692"/>
                  <a:pt x="14064" y="1369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884760" y="5160960"/>
            <a:ext cx="1143000" cy="331920"/>
          </a:xfrm>
          <a:custGeom>
            <a:avLst/>
            <a:gdLst/>
            <a:ahLst/>
            <a:rect l="l" t="t" r="r" b="b"/>
            <a:pathLst>
              <a:path w="3176" h="919">
                <a:moveTo>
                  <a:pt x="10840" y="14337"/>
                </a:moveTo>
                <a:cubicBezTo>
                  <a:pt x="10810" y="14387"/>
                  <a:pt x="10815" y="14424"/>
                  <a:pt x="10815" y="14486"/>
                </a:cubicBezTo>
                <a:cubicBezTo>
                  <a:pt x="10815" y="14615"/>
                  <a:pt x="10807" y="14734"/>
                  <a:pt x="10790" y="14858"/>
                </a:cubicBezTo>
                <a:cubicBezTo>
                  <a:pt x="10781" y="14925"/>
                  <a:pt x="10766" y="15239"/>
                  <a:pt x="10815" y="15255"/>
                </a:cubicBezTo>
              </a:path>
              <a:path w="3176" h="919">
                <a:moveTo>
                  <a:pt x="11361" y="14536"/>
                </a:moveTo>
                <a:cubicBezTo>
                  <a:pt x="11361" y="14732"/>
                  <a:pt x="11340" y="14944"/>
                  <a:pt x="11385" y="15131"/>
                </a:cubicBezTo>
                <a:cubicBezTo>
                  <a:pt x="11385" y="15139"/>
                  <a:pt x="11385" y="15148"/>
                  <a:pt x="11385" y="15156"/>
                </a:cubicBezTo>
              </a:path>
              <a:path w="3176" h="919">
                <a:moveTo>
                  <a:pt x="11187" y="14734"/>
                </a:moveTo>
                <a:cubicBezTo>
                  <a:pt x="11193" y="14728"/>
                  <a:pt x="11266" y="14721"/>
                  <a:pt x="11311" y="14734"/>
                </a:cubicBezTo>
                <a:cubicBezTo>
                  <a:pt x="11388" y="14757"/>
                  <a:pt x="11455" y="14798"/>
                  <a:pt x="11534" y="14808"/>
                </a:cubicBezTo>
                <a:cubicBezTo>
                  <a:pt x="11559" y="14808"/>
                  <a:pt x="11584" y="14808"/>
                  <a:pt x="11609" y="14808"/>
                </a:cubicBezTo>
              </a:path>
              <a:path w="3176" h="919">
                <a:moveTo>
                  <a:pt x="12179" y="14833"/>
                </a:moveTo>
                <a:cubicBezTo>
                  <a:pt x="12179" y="14770"/>
                  <a:pt x="12150" y="14791"/>
                  <a:pt x="12129" y="14759"/>
                </a:cubicBezTo>
                <a:cubicBezTo>
                  <a:pt x="12108" y="14728"/>
                  <a:pt x="12106" y="14734"/>
                  <a:pt x="12055" y="14734"/>
                </a:cubicBezTo>
                <a:cubicBezTo>
                  <a:pt x="11987" y="14734"/>
                  <a:pt x="11979" y="14755"/>
                  <a:pt x="11956" y="14808"/>
                </a:cubicBezTo>
                <a:cubicBezTo>
                  <a:pt x="11923" y="14884"/>
                  <a:pt x="11906" y="14895"/>
                  <a:pt x="11906" y="14982"/>
                </a:cubicBezTo>
                <a:cubicBezTo>
                  <a:pt x="11906" y="15042"/>
                  <a:pt x="11939" y="15086"/>
                  <a:pt x="11981" y="15131"/>
                </a:cubicBezTo>
                <a:cubicBezTo>
                  <a:pt x="12041" y="15196"/>
                  <a:pt x="12136" y="15249"/>
                  <a:pt x="12229" y="15230"/>
                </a:cubicBezTo>
                <a:cubicBezTo>
                  <a:pt x="12245" y="15222"/>
                  <a:pt x="12262" y="15213"/>
                  <a:pt x="12278" y="15205"/>
                </a:cubicBezTo>
              </a:path>
              <a:path w="3176" h="919">
                <a:moveTo>
                  <a:pt x="12452" y="14709"/>
                </a:moveTo>
                <a:cubicBezTo>
                  <a:pt x="12395" y="14785"/>
                  <a:pt x="12402" y="14811"/>
                  <a:pt x="12402" y="14908"/>
                </a:cubicBezTo>
                <a:cubicBezTo>
                  <a:pt x="12402" y="14984"/>
                  <a:pt x="12411" y="15053"/>
                  <a:pt x="12477" y="15106"/>
                </a:cubicBezTo>
                <a:cubicBezTo>
                  <a:pt x="12516" y="15137"/>
                  <a:pt x="12576" y="15177"/>
                  <a:pt x="12626" y="15180"/>
                </a:cubicBezTo>
                <a:cubicBezTo>
                  <a:pt x="12708" y="15185"/>
                  <a:pt x="12776" y="15139"/>
                  <a:pt x="12799" y="15056"/>
                </a:cubicBezTo>
                <a:cubicBezTo>
                  <a:pt x="12818" y="14985"/>
                  <a:pt x="12822" y="14902"/>
                  <a:pt x="12799" y="14833"/>
                </a:cubicBezTo>
                <a:cubicBezTo>
                  <a:pt x="12779" y="14773"/>
                  <a:pt x="12744" y="14727"/>
                  <a:pt x="12700" y="14684"/>
                </a:cubicBezTo>
                <a:cubicBezTo>
                  <a:pt x="12664" y="14648"/>
                  <a:pt x="12610" y="14589"/>
                  <a:pt x="12551" y="14610"/>
                </a:cubicBezTo>
                <a:cubicBezTo>
                  <a:pt x="12535" y="14616"/>
                  <a:pt x="12457" y="14693"/>
                  <a:pt x="12452" y="14709"/>
                </a:cubicBezTo>
                <a:cubicBezTo>
                  <a:pt x="12434" y="14773"/>
                  <a:pt x="12467" y="14834"/>
                  <a:pt x="12477" y="14883"/>
                </a:cubicBezTo>
                <a:cubicBezTo>
                  <a:pt x="12477" y="14899"/>
                  <a:pt x="12477" y="14916"/>
                  <a:pt x="12477" y="14932"/>
                </a:cubicBezTo>
              </a:path>
              <a:path w="3176" h="919">
                <a:moveTo>
                  <a:pt x="13146" y="14684"/>
                </a:moveTo>
                <a:cubicBezTo>
                  <a:pt x="13106" y="14662"/>
                  <a:pt x="13048" y="14609"/>
                  <a:pt x="12998" y="14635"/>
                </a:cubicBezTo>
                <a:cubicBezTo>
                  <a:pt x="12954" y="14657"/>
                  <a:pt x="12948" y="14691"/>
                  <a:pt x="12948" y="14734"/>
                </a:cubicBezTo>
                <a:cubicBezTo>
                  <a:pt x="12948" y="14807"/>
                  <a:pt x="12996" y="14832"/>
                  <a:pt x="13047" y="14883"/>
                </a:cubicBezTo>
                <a:cubicBezTo>
                  <a:pt x="13107" y="14943"/>
                  <a:pt x="13219" y="15028"/>
                  <a:pt x="13246" y="15106"/>
                </a:cubicBezTo>
                <a:cubicBezTo>
                  <a:pt x="13265" y="15159"/>
                  <a:pt x="13243" y="15188"/>
                  <a:pt x="13221" y="15205"/>
                </a:cubicBezTo>
                <a:cubicBezTo>
                  <a:pt x="13194" y="15225"/>
                  <a:pt x="13161" y="15244"/>
                  <a:pt x="13122" y="15230"/>
                </a:cubicBezTo>
                <a:cubicBezTo>
                  <a:pt x="13093" y="15219"/>
                  <a:pt x="12989" y="15173"/>
                  <a:pt x="12998" y="15131"/>
                </a:cubicBezTo>
                <a:cubicBezTo>
                  <a:pt x="13027" y="15101"/>
                  <a:pt x="13038" y="15086"/>
                  <a:pt x="13047" y="15056"/>
                </a:cubicBezTo>
              </a:path>
              <a:path w="3176" h="919">
                <a:moveTo>
                  <a:pt x="13419" y="14585"/>
                </a:moveTo>
                <a:cubicBezTo>
                  <a:pt x="13478" y="14644"/>
                  <a:pt x="13506" y="14685"/>
                  <a:pt x="13543" y="14759"/>
                </a:cubicBezTo>
                <a:cubicBezTo>
                  <a:pt x="13583" y="14840"/>
                  <a:pt x="13642" y="14937"/>
                  <a:pt x="13692" y="15007"/>
                </a:cubicBezTo>
                <a:cubicBezTo>
                  <a:pt x="13743" y="15078"/>
                  <a:pt x="13843" y="15184"/>
                  <a:pt x="13915" y="15230"/>
                </a:cubicBezTo>
                <a:cubicBezTo>
                  <a:pt x="13940" y="15230"/>
                  <a:pt x="13948" y="15230"/>
                  <a:pt x="13965" y="15230"/>
                </a:cubicBezTo>
              </a:path>
              <a:path w="3176" h="919">
                <a:moveTo>
                  <a:pt x="13717" y="14734"/>
                </a:moveTo>
                <a:cubicBezTo>
                  <a:pt x="13630" y="14821"/>
                  <a:pt x="13535" y="14902"/>
                  <a:pt x="13469" y="15007"/>
                </a:cubicBezTo>
                <a:cubicBezTo>
                  <a:pt x="13439" y="15055"/>
                  <a:pt x="13410" y="15090"/>
                  <a:pt x="13370" y="1513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000840" y="6027840"/>
            <a:ext cx="214200" cy="115920"/>
          </a:xfrm>
          <a:custGeom>
            <a:avLst/>
            <a:gdLst/>
            <a:ahLst/>
            <a:rect l="l" t="t" r="r" b="b"/>
            <a:pathLst>
              <a:path w="596" h="324">
                <a:moveTo>
                  <a:pt x="16669" y="16743"/>
                </a:moveTo>
                <a:cubicBezTo>
                  <a:pt x="16791" y="16743"/>
                  <a:pt x="16898" y="16752"/>
                  <a:pt x="17016" y="16768"/>
                </a:cubicBezTo>
                <a:cubicBezTo>
                  <a:pt x="17078" y="16776"/>
                  <a:pt x="17138" y="16782"/>
                  <a:pt x="17190" y="16793"/>
                </a:cubicBezTo>
                <a:cubicBezTo>
                  <a:pt x="17206" y="16793"/>
                  <a:pt x="17223" y="16793"/>
                  <a:pt x="17239" y="16793"/>
                </a:cubicBezTo>
              </a:path>
              <a:path w="596" h="324">
                <a:moveTo>
                  <a:pt x="16743" y="16966"/>
                </a:moveTo>
                <a:cubicBezTo>
                  <a:pt x="16806" y="16985"/>
                  <a:pt x="16880" y="17006"/>
                  <a:pt x="16942" y="17016"/>
                </a:cubicBezTo>
                <a:cubicBezTo>
                  <a:pt x="17000" y="17026"/>
                  <a:pt x="17059" y="17031"/>
                  <a:pt x="17115" y="17041"/>
                </a:cubicBezTo>
                <a:cubicBezTo>
                  <a:pt x="17161" y="17049"/>
                  <a:pt x="17199" y="17062"/>
                  <a:pt x="17239" y="17066"/>
                </a:cubicBezTo>
                <a:cubicBezTo>
                  <a:pt x="17247" y="17066"/>
                  <a:pt x="17256" y="17066"/>
                  <a:pt x="17264" y="1706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589800" y="5153040"/>
            <a:ext cx="1144440" cy="401760"/>
          </a:xfrm>
          <a:custGeom>
            <a:avLst/>
            <a:gdLst/>
            <a:ahLst/>
            <a:rect l="l" t="t" r="r" b="b"/>
            <a:pathLst>
              <a:path w="3176" h="1118">
                <a:moveTo>
                  <a:pt x="18331" y="14312"/>
                </a:moveTo>
                <a:cubicBezTo>
                  <a:pt x="18368" y="14407"/>
                  <a:pt x="18380" y="14483"/>
                  <a:pt x="18380" y="14585"/>
                </a:cubicBezTo>
                <a:cubicBezTo>
                  <a:pt x="18380" y="14714"/>
                  <a:pt x="18369" y="14833"/>
                  <a:pt x="18355" y="14957"/>
                </a:cubicBezTo>
                <a:cubicBezTo>
                  <a:pt x="18341" y="15077"/>
                  <a:pt x="18355" y="15207"/>
                  <a:pt x="18355" y="15329"/>
                </a:cubicBezTo>
              </a:path>
              <a:path w="3176" h="1118">
                <a:moveTo>
                  <a:pt x="18876" y="14660"/>
                </a:moveTo>
                <a:cubicBezTo>
                  <a:pt x="18876" y="14837"/>
                  <a:pt x="18877" y="15011"/>
                  <a:pt x="18901" y="15180"/>
                </a:cubicBezTo>
                <a:cubicBezTo>
                  <a:pt x="18905" y="15210"/>
                  <a:pt x="18901" y="15248"/>
                  <a:pt x="18901" y="15280"/>
                </a:cubicBezTo>
              </a:path>
              <a:path w="3176" h="1118">
                <a:moveTo>
                  <a:pt x="18653" y="14883"/>
                </a:moveTo>
                <a:cubicBezTo>
                  <a:pt x="18722" y="14873"/>
                  <a:pt x="18774" y="14858"/>
                  <a:pt x="18852" y="14858"/>
                </a:cubicBezTo>
                <a:cubicBezTo>
                  <a:pt x="18926" y="14858"/>
                  <a:pt x="18951" y="14858"/>
                  <a:pt x="19000" y="14858"/>
                </a:cubicBezTo>
              </a:path>
              <a:path w="3176" h="1118">
                <a:moveTo>
                  <a:pt x="19447" y="14784"/>
                </a:moveTo>
                <a:cubicBezTo>
                  <a:pt x="19497" y="14817"/>
                  <a:pt x="19484" y="14821"/>
                  <a:pt x="19521" y="14833"/>
                </a:cubicBezTo>
                <a:cubicBezTo>
                  <a:pt x="19511" y="14792"/>
                  <a:pt x="19493" y="14764"/>
                  <a:pt x="19447" y="14759"/>
                </a:cubicBezTo>
                <a:cubicBezTo>
                  <a:pt x="19414" y="14755"/>
                  <a:pt x="19342" y="14780"/>
                  <a:pt x="19323" y="14808"/>
                </a:cubicBezTo>
                <a:cubicBezTo>
                  <a:pt x="19278" y="14872"/>
                  <a:pt x="19273" y="14904"/>
                  <a:pt x="19273" y="14982"/>
                </a:cubicBezTo>
                <a:cubicBezTo>
                  <a:pt x="19273" y="15056"/>
                  <a:pt x="19275" y="15117"/>
                  <a:pt x="19323" y="15180"/>
                </a:cubicBezTo>
                <a:cubicBezTo>
                  <a:pt x="19384" y="15259"/>
                  <a:pt x="19447" y="15321"/>
                  <a:pt x="19546" y="15329"/>
                </a:cubicBezTo>
                <a:cubicBezTo>
                  <a:pt x="19554" y="15329"/>
                  <a:pt x="19563" y="15329"/>
                  <a:pt x="19571" y="15329"/>
                </a:cubicBezTo>
              </a:path>
              <a:path w="3176" h="1118">
                <a:moveTo>
                  <a:pt x="19794" y="14932"/>
                </a:moveTo>
                <a:cubicBezTo>
                  <a:pt x="19763" y="14952"/>
                  <a:pt x="19748" y="15003"/>
                  <a:pt x="19745" y="15056"/>
                </a:cubicBezTo>
                <a:cubicBezTo>
                  <a:pt x="19742" y="15112"/>
                  <a:pt x="19776" y="15219"/>
                  <a:pt x="19819" y="15255"/>
                </a:cubicBezTo>
                <a:cubicBezTo>
                  <a:pt x="19852" y="15283"/>
                  <a:pt x="19953" y="15334"/>
                  <a:pt x="19993" y="15329"/>
                </a:cubicBezTo>
                <a:cubicBezTo>
                  <a:pt x="20075" y="15320"/>
                  <a:pt x="20118" y="15288"/>
                  <a:pt x="20166" y="15230"/>
                </a:cubicBezTo>
                <a:cubicBezTo>
                  <a:pt x="20216" y="15169"/>
                  <a:pt x="20216" y="15133"/>
                  <a:pt x="20216" y="15056"/>
                </a:cubicBezTo>
                <a:cubicBezTo>
                  <a:pt x="20216" y="14987"/>
                  <a:pt x="20160" y="14930"/>
                  <a:pt x="20117" y="14883"/>
                </a:cubicBezTo>
                <a:cubicBezTo>
                  <a:pt x="20079" y="14842"/>
                  <a:pt x="20021" y="14858"/>
                  <a:pt x="19968" y="14858"/>
                </a:cubicBezTo>
                <a:cubicBezTo>
                  <a:pt x="19891" y="14858"/>
                  <a:pt x="19902" y="14884"/>
                  <a:pt x="19869" y="14932"/>
                </a:cubicBezTo>
                <a:cubicBezTo>
                  <a:pt x="19837" y="14979"/>
                  <a:pt x="19839" y="15029"/>
                  <a:pt x="19869" y="15081"/>
                </a:cubicBezTo>
                <a:cubicBezTo>
                  <a:pt x="19877" y="15089"/>
                  <a:pt x="19885" y="15098"/>
                  <a:pt x="19893" y="15106"/>
                </a:cubicBezTo>
              </a:path>
              <a:path w="3176" h="1118">
                <a:moveTo>
                  <a:pt x="20489" y="14759"/>
                </a:moveTo>
                <a:cubicBezTo>
                  <a:pt x="20481" y="14751"/>
                  <a:pt x="20472" y="14742"/>
                  <a:pt x="20464" y="14734"/>
                </a:cubicBezTo>
                <a:cubicBezTo>
                  <a:pt x="20437" y="14743"/>
                  <a:pt x="20418" y="14752"/>
                  <a:pt x="20414" y="14784"/>
                </a:cubicBezTo>
                <a:cubicBezTo>
                  <a:pt x="20407" y="14841"/>
                  <a:pt x="20436" y="14841"/>
                  <a:pt x="20464" y="14883"/>
                </a:cubicBezTo>
                <a:cubicBezTo>
                  <a:pt x="20507" y="14948"/>
                  <a:pt x="20550" y="14981"/>
                  <a:pt x="20588" y="15056"/>
                </a:cubicBezTo>
                <a:cubicBezTo>
                  <a:pt x="20615" y="15110"/>
                  <a:pt x="20658" y="15170"/>
                  <a:pt x="20662" y="15230"/>
                </a:cubicBezTo>
                <a:cubicBezTo>
                  <a:pt x="20666" y="15299"/>
                  <a:pt x="20647" y="15304"/>
                  <a:pt x="20588" y="15304"/>
                </a:cubicBezTo>
                <a:cubicBezTo>
                  <a:pt x="20542" y="15304"/>
                  <a:pt x="20499" y="15303"/>
                  <a:pt x="20464" y="15280"/>
                </a:cubicBezTo>
                <a:cubicBezTo>
                  <a:pt x="20423" y="15253"/>
                  <a:pt x="20415" y="15214"/>
                  <a:pt x="20389" y="15180"/>
                </a:cubicBezTo>
              </a:path>
              <a:path w="3176" h="1118">
                <a:moveTo>
                  <a:pt x="20811" y="14784"/>
                </a:moveTo>
                <a:cubicBezTo>
                  <a:pt x="20893" y="14829"/>
                  <a:pt x="20934" y="14904"/>
                  <a:pt x="20985" y="14982"/>
                </a:cubicBezTo>
                <a:cubicBezTo>
                  <a:pt x="21041" y="15068"/>
                  <a:pt x="21099" y="15146"/>
                  <a:pt x="21158" y="15230"/>
                </a:cubicBezTo>
                <a:cubicBezTo>
                  <a:pt x="21205" y="15297"/>
                  <a:pt x="21282" y="15398"/>
                  <a:pt x="21357" y="15429"/>
                </a:cubicBezTo>
                <a:cubicBezTo>
                  <a:pt x="21365" y="15429"/>
                  <a:pt x="21374" y="15429"/>
                  <a:pt x="21382" y="15429"/>
                </a:cubicBezTo>
              </a:path>
              <a:path w="3176" h="1118">
                <a:moveTo>
                  <a:pt x="21158" y="14709"/>
                </a:moveTo>
                <a:cubicBezTo>
                  <a:pt x="21052" y="14815"/>
                  <a:pt x="20964" y="14925"/>
                  <a:pt x="20861" y="15032"/>
                </a:cubicBezTo>
                <a:cubicBezTo>
                  <a:pt x="20773" y="15123"/>
                  <a:pt x="20714" y="15198"/>
                  <a:pt x="20638" y="15304"/>
                </a:cubicBezTo>
              </a:path>
              <a:path w="3176" h="1118">
                <a:moveTo>
                  <a:pt x="18306" y="15404"/>
                </a:moveTo>
                <a:cubicBezTo>
                  <a:pt x="18319" y="15408"/>
                  <a:pt x="18336" y="15427"/>
                  <a:pt x="18380" y="15429"/>
                </a:cubicBezTo>
                <a:cubicBezTo>
                  <a:pt x="18449" y="15432"/>
                  <a:pt x="18490" y="15421"/>
                  <a:pt x="18554" y="15404"/>
                </a:cubicBezTo>
                <a:cubicBezTo>
                  <a:pt x="18663" y="15375"/>
                  <a:pt x="18761" y="15317"/>
                  <a:pt x="18876" y="15304"/>
                </a:cubicBezTo>
                <a:cubicBezTo>
                  <a:pt x="19077" y="15282"/>
                  <a:pt x="19271" y="15239"/>
                  <a:pt x="19472" y="15205"/>
                </a:cubicBezTo>
                <a:cubicBezTo>
                  <a:pt x="19703" y="15166"/>
                  <a:pt x="19935" y="15147"/>
                  <a:pt x="20166" y="15106"/>
                </a:cubicBezTo>
                <a:cubicBezTo>
                  <a:pt x="20341" y="15075"/>
                  <a:pt x="20513" y="15055"/>
                  <a:pt x="20687" y="15032"/>
                </a:cubicBezTo>
                <a:cubicBezTo>
                  <a:pt x="20816" y="15015"/>
                  <a:pt x="20961" y="14993"/>
                  <a:pt x="21084" y="14957"/>
                </a:cubicBezTo>
                <a:cubicBezTo>
                  <a:pt x="21168" y="14933"/>
                  <a:pt x="21250" y="14930"/>
                  <a:pt x="21332" y="14908"/>
                </a:cubicBezTo>
                <a:cubicBezTo>
                  <a:pt x="21374" y="14897"/>
                  <a:pt x="21428" y="14854"/>
                  <a:pt x="21481" y="14858"/>
                </a:cubicBezTo>
                <a:cubicBezTo>
                  <a:pt x="21481" y="14866"/>
                  <a:pt x="21481" y="14875"/>
                  <a:pt x="21481" y="14883"/>
                </a:cubicBezTo>
                <a:cubicBezTo>
                  <a:pt x="21445" y="14895"/>
                  <a:pt x="21459" y="14913"/>
                  <a:pt x="21406" y="14908"/>
                </a:cubicBezTo>
                <a:cubicBezTo>
                  <a:pt x="21362" y="14908"/>
                  <a:pt x="21348" y="14911"/>
                  <a:pt x="21332" y="1488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554280" y="5205240"/>
            <a:ext cx="1598760" cy="858960"/>
          </a:xfrm>
          <a:custGeom>
            <a:avLst/>
            <a:gdLst/>
            <a:ahLst/>
            <a:rect l="l" t="t" r="r" b="b"/>
            <a:pathLst>
              <a:path w="4441" h="2382">
                <a:moveTo>
                  <a:pt x="10616" y="15032"/>
                </a:moveTo>
                <a:cubicBezTo>
                  <a:pt x="10624" y="15028"/>
                  <a:pt x="10665" y="14996"/>
                  <a:pt x="10691" y="14982"/>
                </a:cubicBezTo>
                <a:cubicBezTo>
                  <a:pt x="10724" y="14964"/>
                  <a:pt x="10737" y="14971"/>
                  <a:pt x="10765" y="14957"/>
                </a:cubicBezTo>
                <a:cubicBezTo>
                  <a:pt x="10796" y="14942"/>
                  <a:pt x="10833" y="14945"/>
                  <a:pt x="10864" y="14932"/>
                </a:cubicBezTo>
                <a:cubicBezTo>
                  <a:pt x="10940" y="14900"/>
                  <a:pt x="11007" y="14896"/>
                  <a:pt x="11088" y="14883"/>
                </a:cubicBezTo>
                <a:cubicBezTo>
                  <a:pt x="11210" y="14864"/>
                  <a:pt x="11338" y="14822"/>
                  <a:pt x="11460" y="14808"/>
                </a:cubicBezTo>
                <a:cubicBezTo>
                  <a:pt x="11607" y="14792"/>
                  <a:pt x="11760" y="14782"/>
                  <a:pt x="11906" y="14759"/>
                </a:cubicBezTo>
                <a:cubicBezTo>
                  <a:pt x="12062" y="14735"/>
                  <a:pt x="12222" y="14731"/>
                  <a:pt x="12378" y="14709"/>
                </a:cubicBezTo>
                <a:cubicBezTo>
                  <a:pt x="12526" y="14688"/>
                  <a:pt x="12677" y="14681"/>
                  <a:pt x="12824" y="14660"/>
                </a:cubicBezTo>
                <a:cubicBezTo>
                  <a:pt x="12955" y="14641"/>
                  <a:pt x="13092" y="14633"/>
                  <a:pt x="13221" y="14610"/>
                </a:cubicBezTo>
                <a:cubicBezTo>
                  <a:pt x="13321" y="14592"/>
                  <a:pt x="13421" y="14562"/>
                  <a:pt x="13519" y="14536"/>
                </a:cubicBezTo>
                <a:cubicBezTo>
                  <a:pt x="13565" y="14524"/>
                  <a:pt x="13622" y="14526"/>
                  <a:pt x="13667" y="14511"/>
                </a:cubicBezTo>
                <a:cubicBezTo>
                  <a:pt x="13708" y="14491"/>
                  <a:pt x="13724" y="14493"/>
                  <a:pt x="13717" y="14461"/>
                </a:cubicBezTo>
              </a:path>
              <a:path w="4441" h="2382">
                <a:moveTo>
                  <a:pt x="9872" y="15999"/>
                </a:moveTo>
                <a:cubicBezTo>
                  <a:pt x="9905" y="16043"/>
                  <a:pt x="9897" y="16065"/>
                  <a:pt x="9897" y="16123"/>
                </a:cubicBezTo>
                <a:cubicBezTo>
                  <a:pt x="9897" y="16228"/>
                  <a:pt x="9888" y="16322"/>
                  <a:pt x="9872" y="16421"/>
                </a:cubicBezTo>
                <a:cubicBezTo>
                  <a:pt x="9849" y="16567"/>
                  <a:pt x="9872" y="16966"/>
                  <a:pt x="9872" y="16818"/>
                </a:cubicBezTo>
              </a:path>
              <a:path w="4441" h="2382">
                <a:moveTo>
                  <a:pt x="10988" y="16098"/>
                </a:moveTo>
                <a:cubicBezTo>
                  <a:pt x="11033" y="16109"/>
                  <a:pt x="11058" y="16123"/>
                  <a:pt x="11112" y="16123"/>
                </a:cubicBezTo>
                <a:cubicBezTo>
                  <a:pt x="11162" y="16123"/>
                  <a:pt x="11207" y="16171"/>
                  <a:pt x="11261" y="16148"/>
                </a:cubicBezTo>
                <a:cubicBezTo>
                  <a:pt x="11289" y="16120"/>
                  <a:pt x="11303" y="16111"/>
                  <a:pt x="11336" y="16123"/>
                </a:cubicBezTo>
              </a:path>
              <a:path w="4441" h="2382">
                <a:moveTo>
                  <a:pt x="11881" y="16049"/>
                </a:moveTo>
                <a:cubicBezTo>
                  <a:pt x="11888" y="16070"/>
                  <a:pt x="11930" y="16106"/>
                  <a:pt x="11906" y="16073"/>
                </a:cubicBezTo>
                <a:cubicBezTo>
                  <a:pt x="11875" y="16031"/>
                  <a:pt x="11886" y="16024"/>
                  <a:pt x="11832" y="16024"/>
                </a:cubicBezTo>
                <a:cubicBezTo>
                  <a:pt x="11789" y="16024"/>
                  <a:pt x="11762" y="16068"/>
                  <a:pt x="11733" y="16098"/>
                </a:cubicBezTo>
                <a:cubicBezTo>
                  <a:pt x="11684" y="16147"/>
                  <a:pt x="11648" y="16173"/>
                  <a:pt x="11633" y="16247"/>
                </a:cubicBezTo>
                <a:cubicBezTo>
                  <a:pt x="11622" y="16300"/>
                  <a:pt x="11637" y="16401"/>
                  <a:pt x="11658" y="16446"/>
                </a:cubicBezTo>
                <a:cubicBezTo>
                  <a:pt x="11685" y="16504"/>
                  <a:pt x="11736" y="16530"/>
                  <a:pt x="11782" y="16570"/>
                </a:cubicBezTo>
                <a:cubicBezTo>
                  <a:pt x="11826" y="16609"/>
                  <a:pt x="11849" y="16612"/>
                  <a:pt x="11906" y="16619"/>
                </a:cubicBezTo>
              </a:path>
              <a:path w="4441" h="2382">
                <a:moveTo>
                  <a:pt x="12254" y="16073"/>
                </a:moveTo>
                <a:cubicBezTo>
                  <a:pt x="12230" y="16104"/>
                  <a:pt x="12189" y="16156"/>
                  <a:pt x="12179" y="16197"/>
                </a:cubicBezTo>
                <a:cubicBezTo>
                  <a:pt x="12165" y="16255"/>
                  <a:pt x="12154" y="16310"/>
                  <a:pt x="12154" y="16371"/>
                </a:cubicBezTo>
                <a:cubicBezTo>
                  <a:pt x="12154" y="16429"/>
                  <a:pt x="12178" y="16508"/>
                  <a:pt x="12229" y="16545"/>
                </a:cubicBezTo>
                <a:cubicBezTo>
                  <a:pt x="12280" y="16582"/>
                  <a:pt x="12344" y="16614"/>
                  <a:pt x="12402" y="16619"/>
                </a:cubicBezTo>
                <a:cubicBezTo>
                  <a:pt x="12457" y="16624"/>
                  <a:pt x="12515" y="16620"/>
                  <a:pt x="12551" y="16570"/>
                </a:cubicBezTo>
                <a:cubicBezTo>
                  <a:pt x="12604" y="16496"/>
                  <a:pt x="12603" y="16454"/>
                  <a:pt x="12626" y="16371"/>
                </a:cubicBezTo>
                <a:cubicBezTo>
                  <a:pt x="12646" y="16297"/>
                  <a:pt x="12651" y="16248"/>
                  <a:pt x="12626" y="16173"/>
                </a:cubicBezTo>
                <a:cubicBezTo>
                  <a:pt x="12612" y="16132"/>
                  <a:pt x="12561" y="15996"/>
                  <a:pt x="12526" y="15974"/>
                </a:cubicBezTo>
                <a:cubicBezTo>
                  <a:pt x="12502" y="15959"/>
                  <a:pt x="12435" y="15949"/>
                  <a:pt x="12402" y="15949"/>
                </a:cubicBezTo>
                <a:cubicBezTo>
                  <a:pt x="12355" y="15949"/>
                  <a:pt x="12317" y="16007"/>
                  <a:pt x="12303" y="16049"/>
                </a:cubicBezTo>
                <a:cubicBezTo>
                  <a:pt x="12283" y="16108"/>
                  <a:pt x="12278" y="16158"/>
                  <a:pt x="12278" y="16222"/>
                </a:cubicBezTo>
                <a:cubicBezTo>
                  <a:pt x="12278" y="16298"/>
                  <a:pt x="12275" y="16318"/>
                  <a:pt x="12328" y="16371"/>
                </a:cubicBezTo>
              </a:path>
              <a:path w="4441" h="2382">
                <a:moveTo>
                  <a:pt x="13146" y="16024"/>
                </a:moveTo>
                <a:cubicBezTo>
                  <a:pt x="13137" y="15995"/>
                  <a:pt x="13113" y="15979"/>
                  <a:pt x="13072" y="15974"/>
                </a:cubicBezTo>
                <a:cubicBezTo>
                  <a:pt x="13032" y="15970"/>
                  <a:pt x="12988" y="15974"/>
                  <a:pt x="12948" y="15974"/>
                </a:cubicBezTo>
                <a:cubicBezTo>
                  <a:pt x="12975" y="16011"/>
                  <a:pt x="12987" y="16038"/>
                  <a:pt x="13022" y="16073"/>
                </a:cubicBezTo>
                <a:cubicBezTo>
                  <a:pt x="13050" y="16101"/>
                  <a:pt x="13158" y="16171"/>
                  <a:pt x="13171" y="16197"/>
                </a:cubicBezTo>
                <a:cubicBezTo>
                  <a:pt x="13198" y="16251"/>
                  <a:pt x="13210" y="16285"/>
                  <a:pt x="13246" y="16346"/>
                </a:cubicBezTo>
                <a:cubicBezTo>
                  <a:pt x="13295" y="16431"/>
                  <a:pt x="13295" y="16452"/>
                  <a:pt x="13295" y="16545"/>
                </a:cubicBezTo>
                <a:cubicBezTo>
                  <a:pt x="13295" y="16580"/>
                  <a:pt x="13288" y="16618"/>
                  <a:pt x="13271" y="16644"/>
                </a:cubicBezTo>
                <a:cubicBezTo>
                  <a:pt x="13243" y="16686"/>
                  <a:pt x="13189" y="16669"/>
                  <a:pt x="13146" y="16669"/>
                </a:cubicBezTo>
                <a:cubicBezTo>
                  <a:pt x="13090" y="16669"/>
                  <a:pt x="13037" y="16654"/>
                  <a:pt x="12998" y="16619"/>
                </a:cubicBezTo>
                <a:cubicBezTo>
                  <a:pt x="12953" y="16578"/>
                  <a:pt x="12957" y="16579"/>
                  <a:pt x="12948" y="16520"/>
                </a:cubicBezTo>
              </a:path>
              <a:path w="4441" h="2382">
                <a:moveTo>
                  <a:pt x="13370" y="15627"/>
                </a:moveTo>
                <a:cubicBezTo>
                  <a:pt x="13398" y="15565"/>
                  <a:pt x="13400" y="15536"/>
                  <a:pt x="13469" y="15528"/>
                </a:cubicBezTo>
                <a:cubicBezTo>
                  <a:pt x="13508" y="15524"/>
                  <a:pt x="13550" y="15537"/>
                  <a:pt x="13568" y="15577"/>
                </a:cubicBezTo>
                <a:cubicBezTo>
                  <a:pt x="13587" y="15618"/>
                  <a:pt x="13552" y="15667"/>
                  <a:pt x="13543" y="15701"/>
                </a:cubicBezTo>
                <a:cubicBezTo>
                  <a:pt x="13533" y="15740"/>
                  <a:pt x="13501" y="15761"/>
                  <a:pt x="13494" y="15776"/>
                </a:cubicBezTo>
                <a:cubicBezTo>
                  <a:pt x="13479" y="15806"/>
                  <a:pt x="13489" y="15909"/>
                  <a:pt x="13519" y="15925"/>
                </a:cubicBezTo>
                <a:cubicBezTo>
                  <a:pt x="13540" y="15936"/>
                  <a:pt x="13596" y="15969"/>
                  <a:pt x="13618" y="15974"/>
                </a:cubicBezTo>
                <a:cubicBezTo>
                  <a:pt x="13634" y="15974"/>
                  <a:pt x="13651" y="15974"/>
                  <a:pt x="13667" y="15974"/>
                </a:cubicBezTo>
              </a:path>
              <a:path w="4441" h="2382">
                <a:moveTo>
                  <a:pt x="13816" y="15949"/>
                </a:moveTo>
                <a:cubicBezTo>
                  <a:pt x="13854" y="16040"/>
                  <a:pt x="13904" y="16130"/>
                  <a:pt x="13940" y="16222"/>
                </a:cubicBezTo>
                <a:cubicBezTo>
                  <a:pt x="13973" y="16307"/>
                  <a:pt x="14030" y="16397"/>
                  <a:pt x="14089" y="16470"/>
                </a:cubicBezTo>
                <a:cubicBezTo>
                  <a:pt x="14109" y="16495"/>
                  <a:pt x="14212" y="16610"/>
                  <a:pt x="14238" y="16619"/>
                </a:cubicBezTo>
                <a:cubicBezTo>
                  <a:pt x="14279" y="16619"/>
                  <a:pt x="14287" y="16619"/>
                  <a:pt x="14312" y="16619"/>
                </a:cubicBezTo>
              </a:path>
              <a:path w="4441" h="2382">
                <a:moveTo>
                  <a:pt x="14163" y="15974"/>
                </a:moveTo>
                <a:cubicBezTo>
                  <a:pt x="14069" y="16051"/>
                  <a:pt x="13981" y="16122"/>
                  <a:pt x="13915" y="16222"/>
                </a:cubicBezTo>
                <a:cubicBezTo>
                  <a:pt x="13875" y="16283"/>
                  <a:pt x="13821" y="16316"/>
                  <a:pt x="13767" y="16371"/>
                </a:cubicBezTo>
                <a:cubicBezTo>
                  <a:pt x="13725" y="16413"/>
                  <a:pt x="13712" y="16438"/>
                  <a:pt x="13667" y="1647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429240" y="5803920"/>
            <a:ext cx="839880" cy="438120"/>
          </a:xfrm>
          <a:custGeom>
            <a:avLst/>
            <a:gdLst/>
            <a:ahLst/>
            <a:rect l="l" t="t" r="r" b="b"/>
            <a:pathLst>
              <a:path w="2333" h="1216">
                <a:moveTo>
                  <a:pt x="18107" y="16396"/>
                </a:moveTo>
                <a:cubicBezTo>
                  <a:pt x="18056" y="16363"/>
                  <a:pt x="17988" y="16314"/>
                  <a:pt x="17934" y="16297"/>
                </a:cubicBezTo>
                <a:cubicBezTo>
                  <a:pt x="17901" y="16286"/>
                  <a:pt x="17862" y="16325"/>
                  <a:pt x="17859" y="16346"/>
                </a:cubicBezTo>
                <a:cubicBezTo>
                  <a:pt x="17852" y="16399"/>
                  <a:pt x="17854" y="16450"/>
                  <a:pt x="17884" y="16495"/>
                </a:cubicBezTo>
                <a:cubicBezTo>
                  <a:pt x="17933" y="16568"/>
                  <a:pt x="17983" y="16633"/>
                  <a:pt x="18033" y="16694"/>
                </a:cubicBezTo>
                <a:cubicBezTo>
                  <a:pt x="18080" y="16752"/>
                  <a:pt x="18140" y="16814"/>
                  <a:pt x="18182" y="16867"/>
                </a:cubicBezTo>
                <a:cubicBezTo>
                  <a:pt x="18205" y="16895"/>
                  <a:pt x="18272" y="16984"/>
                  <a:pt x="18281" y="17016"/>
                </a:cubicBezTo>
                <a:cubicBezTo>
                  <a:pt x="18289" y="17047"/>
                  <a:pt x="18290" y="17123"/>
                  <a:pt x="18256" y="17140"/>
                </a:cubicBezTo>
                <a:cubicBezTo>
                  <a:pt x="18215" y="17160"/>
                  <a:pt x="18185" y="17121"/>
                  <a:pt x="18157" y="17115"/>
                </a:cubicBezTo>
                <a:cubicBezTo>
                  <a:pt x="18086" y="17100"/>
                  <a:pt x="18091" y="17084"/>
                  <a:pt x="18033" y="17041"/>
                </a:cubicBezTo>
                <a:cubicBezTo>
                  <a:pt x="17943" y="16974"/>
                  <a:pt x="17979" y="16985"/>
                  <a:pt x="17934" y="16917"/>
                </a:cubicBezTo>
                <a:cubicBezTo>
                  <a:pt x="17926" y="16909"/>
                  <a:pt x="17917" y="16900"/>
                  <a:pt x="17909" y="16892"/>
                </a:cubicBezTo>
              </a:path>
              <a:path w="2333" h="1216">
                <a:moveTo>
                  <a:pt x="18529" y="16718"/>
                </a:moveTo>
                <a:cubicBezTo>
                  <a:pt x="18529" y="16875"/>
                  <a:pt x="18529" y="17033"/>
                  <a:pt x="18529" y="17190"/>
                </a:cubicBezTo>
                <a:cubicBezTo>
                  <a:pt x="18529" y="17142"/>
                  <a:pt x="18533" y="17140"/>
                  <a:pt x="18554" y="17090"/>
                </a:cubicBezTo>
              </a:path>
              <a:path w="2333" h="1216">
                <a:moveTo>
                  <a:pt x="18653" y="16321"/>
                </a:moveTo>
                <a:cubicBezTo>
                  <a:pt x="18707" y="16282"/>
                  <a:pt x="18718" y="16312"/>
                  <a:pt x="18777" y="16346"/>
                </a:cubicBezTo>
              </a:path>
              <a:path w="2333" h="1216">
                <a:moveTo>
                  <a:pt x="18802" y="16942"/>
                </a:moveTo>
                <a:cubicBezTo>
                  <a:pt x="18784" y="17037"/>
                  <a:pt x="18777" y="17059"/>
                  <a:pt x="18777" y="17140"/>
                </a:cubicBezTo>
                <a:cubicBezTo>
                  <a:pt x="18777" y="17202"/>
                  <a:pt x="18794" y="17085"/>
                  <a:pt x="18802" y="17066"/>
                </a:cubicBezTo>
                <a:cubicBezTo>
                  <a:pt x="18832" y="16997"/>
                  <a:pt x="18847" y="16933"/>
                  <a:pt x="18876" y="16867"/>
                </a:cubicBezTo>
                <a:cubicBezTo>
                  <a:pt x="18900" y="16814"/>
                  <a:pt x="18936" y="16784"/>
                  <a:pt x="18976" y="16743"/>
                </a:cubicBezTo>
                <a:cubicBezTo>
                  <a:pt x="19032" y="16686"/>
                  <a:pt x="19044" y="16700"/>
                  <a:pt x="19100" y="16718"/>
                </a:cubicBezTo>
                <a:cubicBezTo>
                  <a:pt x="19165" y="16739"/>
                  <a:pt x="19232" y="16817"/>
                  <a:pt x="19248" y="16892"/>
                </a:cubicBezTo>
                <a:cubicBezTo>
                  <a:pt x="19264" y="16965"/>
                  <a:pt x="19258" y="17041"/>
                  <a:pt x="19273" y="17115"/>
                </a:cubicBezTo>
                <a:cubicBezTo>
                  <a:pt x="19287" y="17182"/>
                  <a:pt x="19316" y="17248"/>
                  <a:pt x="19323" y="17314"/>
                </a:cubicBezTo>
                <a:cubicBezTo>
                  <a:pt x="19323" y="17338"/>
                  <a:pt x="19323" y="17346"/>
                  <a:pt x="19323" y="17314"/>
                </a:cubicBezTo>
              </a:path>
              <a:path w="2333" h="1216">
                <a:moveTo>
                  <a:pt x="19422" y="16272"/>
                </a:moveTo>
                <a:cubicBezTo>
                  <a:pt x="19428" y="16256"/>
                  <a:pt x="19477" y="16120"/>
                  <a:pt x="19521" y="16123"/>
                </a:cubicBezTo>
                <a:cubicBezTo>
                  <a:pt x="19555" y="16125"/>
                  <a:pt x="19673" y="16173"/>
                  <a:pt x="19695" y="16197"/>
                </a:cubicBezTo>
                <a:cubicBezTo>
                  <a:pt x="19725" y="16230"/>
                  <a:pt x="19662" y="16280"/>
                  <a:pt x="19645" y="16297"/>
                </a:cubicBezTo>
                <a:cubicBezTo>
                  <a:pt x="19614" y="16328"/>
                  <a:pt x="19574" y="16352"/>
                  <a:pt x="19571" y="16396"/>
                </a:cubicBezTo>
                <a:cubicBezTo>
                  <a:pt x="19566" y="16469"/>
                  <a:pt x="19586" y="16486"/>
                  <a:pt x="19621" y="16545"/>
                </a:cubicBezTo>
                <a:cubicBezTo>
                  <a:pt x="19662" y="16614"/>
                  <a:pt x="19683" y="16622"/>
                  <a:pt x="19745" y="16669"/>
                </a:cubicBezTo>
                <a:cubicBezTo>
                  <a:pt x="19792" y="16705"/>
                  <a:pt x="19816" y="16671"/>
                  <a:pt x="19869" y="16644"/>
                </a:cubicBezTo>
              </a:path>
              <a:path w="2333" h="1216">
                <a:moveTo>
                  <a:pt x="19918" y="16495"/>
                </a:moveTo>
                <a:cubicBezTo>
                  <a:pt x="19940" y="16599"/>
                  <a:pt x="19965" y="16691"/>
                  <a:pt x="19993" y="16793"/>
                </a:cubicBezTo>
                <a:cubicBezTo>
                  <a:pt x="20036" y="16949"/>
                  <a:pt x="20059" y="17113"/>
                  <a:pt x="20117" y="17264"/>
                </a:cubicBezTo>
                <a:cubicBezTo>
                  <a:pt x="20137" y="17317"/>
                  <a:pt x="20144" y="17327"/>
                  <a:pt x="20191" y="17338"/>
                </a:cubicBezTo>
              </a:path>
              <a:path w="2333" h="1216">
                <a:moveTo>
                  <a:pt x="20042" y="16718"/>
                </a:moveTo>
                <a:cubicBezTo>
                  <a:pt x="19839" y="16860"/>
                  <a:pt x="19727" y="16942"/>
                  <a:pt x="19571" y="17115"/>
                </a:cubicBezTo>
                <a:cubicBezTo>
                  <a:pt x="19546" y="17140"/>
                  <a:pt x="19521" y="17165"/>
                  <a:pt x="19496" y="1719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464000" y="6107040"/>
            <a:ext cx="930240" cy="492120"/>
          </a:xfrm>
          <a:custGeom>
            <a:avLst/>
            <a:gdLst/>
            <a:ahLst/>
            <a:rect l="l" t="t" r="r" b="b"/>
            <a:pathLst>
              <a:path w="2581" h="1366">
                <a:moveTo>
                  <a:pt x="12650" y="17512"/>
                </a:moveTo>
                <a:cubicBezTo>
                  <a:pt x="12687" y="17540"/>
                  <a:pt x="12693" y="17551"/>
                  <a:pt x="12725" y="17562"/>
                </a:cubicBezTo>
              </a:path>
              <a:path w="2581" h="1366">
                <a:moveTo>
                  <a:pt x="12626" y="17487"/>
                </a:moveTo>
                <a:cubicBezTo>
                  <a:pt x="12585" y="17452"/>
                  <a:pt x="12548" y="17429"/>
                  <a:pt x="12502" y="17413"/>
                </a:cubicBezTo>
                <a:cubicBezTo>
                  <a:pt x="12483" y="17407"/>
                  <a:pt x="12411" y="17444"/>
                  <a:pt x="12402" y="17462"/>
                </a:cubicBezTo>
                <a:cubicBezTo>
                  <a:pt x="12382" y="17501"/>
                  <a:pt x="12403" y="17585"/>
                  <a:pt x="12427" y="17611"/>
                </a:cubicBezTo>
                <a:cubicBezTo>
                  <a:pt x="12460" y="17647"/>
                  <a:pt x="12500" y="17694"/>
                  <a:pt x="12526" y="17735"/>
                </a:cubicBezTo>
                <a:cubicBezTo>
                  <a:pt x="12564" y="17794"/>
                  <a:pt x="12605" y="17851"/>
                  <a:pt x="12650" y="17909"/>
                </a:cubicBezTo>
                <a:cubicBezTo>
                  <a:pt x="12705" y="17980"/>
                  <a:pt x="12745" y="17987"/>
                  <a:pt x="12750" y="18083"/>
                </a:cubicBezTo>
                <a:cubicBezTo>
                  <a:pt x="12754" y="18147"/>
                  <a:pt x="12777" y="18237"/>
                  <a:pt x="12700" y="18256"/>
                </a:cubicBezTo>
                <a:cubicBezTo>
                  <a:pt x="12632" y="18273"/>
                  <a:pt x="12579" y="18246"/>
                  <a:pt x="12526" y="18207"/>
                </a:cubicBezTo>
                <a:cubicBezTo>
                  <a:pt x="12463" y="18161"/>
                  <a:pt x="12455" y="18114"/>
                  <a:pt x="12427" y="18058"/>
                </a:cubicBezTo>
                <a:cubicBezTo>
                  <a:pt x="12419" y="18050"/>
                  <a:pt x="12410" y="18041"/>
                  <a:pt x="12402" y="18033"/>
                </a:cubicBezTo>
              </a:path>
              <a:path w="2581" h="1366">
                <a:moveTo>
                  <a:pt x="13072" y="17934"/>
                </a:moveTo>
                <a:cubicBezTo>
                  <a:pt x="13072" y="18025"/>
                  <a:pt x="13072" y="18116"/>
                  <a:pt x="13072" y="18207"/>
                </a:cubicBezTo>
              </a:path>
              <a:path w="2581" h="1366">
                <a:moveTo>
                  <a:pt x="13146" y="17289"/>
                </a:moveTo>
                <a:cubicBezTo>
                  <a:pt x="13166" y="17248"/>
                  <a:pt x="13164" y="17232"/>
                  <a:pt x="13196" y="17239"/>
                </a:cubicBezTo>
              </a:path>
              <a:path w="2581" h="1366">
                <a:moveTo>
                  <a:pt x="13320" y="17884"/>
                </a:moveTo>
                <a:cubicBezTo>
                  <a:pt x="13334" y="18002"/>
                  <a:pt x="13345" y="18094"/>
                  <a:pt x="13345" y="18207"/>
                </a:cubicBezTo>
                <a:cubicBezTo>
                  <a:pt x="13357" y="18148"/>
                  <a:pt x="13371" y="18089"/>
                  <a:pt x="13395" y="18033"/>
                </a:cubicBezTo>
                <a:cubicBezTo>
                  <a:pt x="13444" y="17921"/>
                  <a:pt x="13507" y="17813"/>
                  <a:pt x="13568" y="17711"/>
                </a:cubicBezTo>
                <a:cubicBezTo>
                  <a:pt x="13604" y="17652"/>
                  <a:pt x="13618" y="17643"/>
                  <a:pt x="13667" y="17611"/>
                </a:cubicBezTo>
                <a:cubicBezTo>
                  <a:pt x="13699" y="17590"/>
                  <a:pt x="13700" y="17599"/>
                  <a:pt x="13742" y="17636"/>
                </a:cubicBezTo>
                <a:cubicBezTo>
                  <a:pt x="13797" y="17685"/>
                  <a:pt x="13827" y="17791"/>
                  <a:pt x="13841" y="17859"/>
                </a:cubicBezTo>
                <a:cubicBezTo>
                  <a:pt x="13857" y="17941"/>
                  <a:pt x="13843" y="18027"/>
                  <a:pt x="13866" y="18107"/>
                </a:cubicBezTo>
                <a:cubicBezTo>
                  <a:pt x="13884" y="18171"/>
                  <a:pt x="13891" y="18212"/>
                  <a:pt x="13891" y="18281"/>
                </a:cubicBezTo>
                <a:cubicBezTo>
                  <a:pt x="13891" y="18306"/>
                  <a:pt x="13891" y="18314"/>
                  <a:pt x="13866" y="18306"/>
                </a:cubicBezTo>
              </a:path>
              <a:path w="2581" h="1366">
                <a:moveTo>
                  <a:pt x="13940" y="16991"/>
                </a:moveTo>
                <a:cubicBezTo>
                  <a:pt x="14030" y="16966"/>
                  <a:pt x="14066" y="16949"/>
                  <a:pt x="14139" y="17016"/>
                </a:cubicBezTo>
                <a:cubicBezTo>
                  <a:pt x="14172" y="17046"/>
                  <a:pt x="14201" y="17093"/>
                  <a:pt x="14188" y="17140"/>
                </a:cubicBezTo>
                <a:cubicBezTo>
                  <a:pt x="14168" y="17214"/>
                  <a:pt x="14164" y="17239"/>
                  <a:pt x="14114" y="17289"/>
                </a:cubicBezTo>
                <a:cubicBezTo>
                  <a:pt x="14081" y="17322"/>
                  <a:pt x="14089" y="17343"/>
                  <a:pt x="14089" y="17388"/>
                </a:cubicBezTo>
                <a:cubicBezTo>
                  <a:pt x="14089" y="17413"/>
                  <a:pt x="14145" y="17497"/>
                  <a:pt x="14163" y="17512"/>
                </a:cubicBezTo>
                <a:cubicBezTo>
                  <a:pt x="14200" y="17544"/>
                  <a:pt x="14268" y="17545"/>
                  <a:pt x="14312" y="17562"/>
                </a:cubicBezTo>
              </a:path>
              <a:path w="2581" h="1366">
                <a:moveTo>
                  <a:pt x="14536" y="17587"/>
                </a:moveTo>
                <a:cubicBezTo>
                  <a:pt x="14566" y="17678"/>
                  <a:pt x="14596" y="17771"/>
                  <a:pt x="14635" y="17859"/>
                </a:cubicBezTo>
                <a:cubicBezTo>
                  <a:pt x="14698" y="18001"/>
                  <a:pt x="14795" y="18133"/>
                  <a:pt x="14883" y="18256"/>
                </a:cubicBezTo>
                <a:cubicBezTo>
                  <a:pt x="14899" y="18281"/>
                  <a:pt x="14916" y="18306"/>
                  <a:pt x="14932" y="18331"/>
                </a:cubicBezTo>
              </a:path>
              <a:path w="2581" h="1366">
                <a:moveTo>
                  <a:pt x="14982" y="17562"/>
                </a:moveTo>
                <a:cubicBezTo>
                  <a:pt x="14839" y="17640"/>
                  <a:pt x="14776" y="17706"/>
                  <a:pt x="14660" y="17810"/>
                </a:cubicBezTo>
                <a:cubicBezTo>
                  <a:pt x="14604" y="17860"/>
                  <a:pt x="14524" y="17952"/>
                  <a:pt x="14486" y="18008"/>
                </a:cubicBezTo>
                <a:cubicBezTo>
                  <a:pt x="14445" y="18068"/>
                  <a:pt x="14412" y="18136"/>
                  <a:pt x="14412" y="1820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554800" y="6411960"/>
            <a:ext cx="115920" cy="98280"/>
          </a:xfrm>
          <a:custGeom>
            <a:avLst/>
            <a:gdLst/>
            <a:ahLst/>
            <a:rect l="l" t="t" r="r" b="b"/>
            <a:pathLst>
              <a:path w="323" h="274">
                <a:moveTo>
                  <a:pt x="15553" y="17810"/>
                </a:moveTo>
                <a:cubicBezTo>
                  <a:pt x="15619" y="17810"/>
                  <a:pt x="15685" y="17810"/>
                  <a:pt x="15751" y="17810"/>
                </a:cubicBezTo>
              </a:path>
              <a:path w="323" h="274">
                <a:moveTo>
                  <a:pt x="15429" y="17983"/>
                </a:moveTo>
                <a:cubicBezTo>
                  <a:pt x="15504" y="18031"/>
                  <a:pt x="15563" y="18078"/>
                  <a:pt x="15652" y="18083"/>
                </a:cubicBezTo>
                <a:cubicBezTo>
                  <a:pt x="15668" y="18083"/>
                  <a:pt x="15685" y="18083"/>
                  <a:pt x="15701" y="1808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884920" y="6269040"/>
            <a:ext cx="1374840" cy="411120"/>
          </a:xfrm>
          <a:custGeom>
            <a:avLst/>
            <a:gdLst/>
            <a:ahLst/>
            <a:rect l="l" t="t" r="r" b="b"/>
            <a:pathLst>
              <a:path w="3821" h="1142">
                <a:moveTo>
                  <a:pt x="16495" y="17611"/>
                </a:moveTo>
                <a:cubicBezTo>
                  <a:pt x="16433" y="17593"/>
                  <a:pt x="16406" y="17587"/>
                  <a:pt x="16346" y="17587"/>
                </a:cubicBezTo>
                <a:cubicBezTo>
                  <a:pt x="16346" y="17640"/>
                  <a:pt x="16347" y="17667"/>
                  <a:pt x="16371" y="17711"/>
                </a:cubicBezTo>
                <a:cubicBezTo>
                  <a:pt x="16418" y="17798"/>
                  <a:pt x="16467" y="17878"/>
                  <a:pt x="16520" y="17959"/>
                </a:cubicBezTo>
                <a:cubicBezTo>
                  <a:pt x="16559" y="18019"/>
                  <a:pt x="16604" y="18113"/>
                  <a:pt x="16619" y="18182"/>
                </a:cubicBezTo>
                <a:cubicBezTo>
                  <a:pt x="16631" y="18240"/>
                  <a:pt x="16652" y="18301"/>
                  <a:pt x="16619" y="18355"/>
                </a:cubicBezTo>
                <a:cubicBezTo>
                  <a:pt x="16602" y="18383"/>
                  <a:pt x="16525" y="18397"/>
                  <a:pt x="16495" y="18380"/>
                </a:cubicBezTo>
                <a:cubicBezTo>
                  <a:pt x="16463" y="18362"/>
                  <a:pt x="16404" y="18287"/>
                  <a:pt x="16396" y="18256"/>
                </a:cubicBezTo>
                <a:cubicBezTo>
                  <a:pt x="16385" y="18217"/>
                  <a:pt x="16379" y="18172"/>
                  <a:pt x="16371" y="18132"/>
                </a:cubicBezTo>
              </a:path>
              <a:path w="3821" h="1142">
                <a:moveTo>
                  <a:pt x="16942" y="17810"/>
                </a:moveTo>
                <a:cubicBezTo>
                  <a:pt x="16959" y="17952"/>
                  <a:pt x="16957" y="18075"/>
                  <a:pt x="16966" y="18207"/>
                </a:cubicBezTo>
                <a:cubicBezTo>
                  <a:pt x="16970" y="18264"/>
                  <a:pt x="16966" y="18323"/>
                  <a:pt x="16966" y="18380"/>
                </a:cubicBezTo>
              </a:path>
              <a:path w="3821" h="1142">
                <a:moveTo>
                  <a:pt x="17115" y="17537"/>
                </a:moveTo>
                <a:cubicBezTo>
                  <a:pt x="17137" y="17493"/>
                  <a:pt x="17140" y="17472"/>
                  <a:pt x="17165" y="17512"/>
                </a:cubicBezTo>
              </a:path>
              <a:path w="3821" h="1142">
                <a:moveTo>
                  <a:pt x="17190" y="18182"/>
                </a:moveTo>
                <a:cubicBezTo>
                  <a:pt x="17190" y="18293"/>
                  <a:pt x="17163" y="18315"/>
                  <a:pt x="17214" y="18355"/>
                </a:cubicBezTo>
                <a:cubicBezTo>
                  <a:pt x="17251" y="18291"/>
                  <a:pt x="17259" y="18248"/>
                  <a:pt x="17289" y="18182"/>
                </a:cubicBezTo>
                <a:cubicBezTo>
                  <a:pt x="17328" y="18095"/>
                  <a:pt x="17362" y="18035"/>
                  <a:pt x="17413" y="17959"/>
                </a:cubicBezTo>
                <a:cubicBezTo>
                  <a:pt x="17450" y="17903"/>
                  <a:pt x="17466" y="17858"/>
                  <a:pt x="17537" y="17835"/>
                </a:cubicBezTo>
                <a:cubicBezTo>
                  <a:pt x="17607" y="17812"/>
                  <a:pt x="17632" y="17899"/>
                  <a:pt x="17661" y="17934"/>
                </a:cubicBezTo>
                <a:cubicBezTo>
                  <a:pt x="17718" y="18002"/>
                  <a:pt x="17729" y="18064"/>
                  <a:pt x="17735" y="18157"/>
                </a:cubicBezTo>
                <a:cubicBezTo>
                  <a:pt x="17737" y="18183"/>
                  <a:pt x="17728" y="18403"/>
                  <a:pt x="17711" y="18380"/>
                </a:cubicBezTo>
                <a:cubicBezTo>
                  <a:pt x="17711" y="18347"/>
                  <a:pt x="17711" y="18331"/>
                  <a:pt x="17711" y="18306"/>
                </a:cubicBezTo>
              </a:path>
              <a:path w="3821" h="1142">
                <a:moveTo>
                  <a:pt x="17983" y="17438"/>
                </a:moveTo>
                <a:cubicBezTo>
                  <a:pt x="18063" y="17423"/>
                  <a:pt x="18135" y="17395"/>
                  <a:pt x="18207" y="17438"/>
                </a:cubicBezTo>
                <a:cubicBezTo>
                  <a:pt x="18231" y="17462"/>
                  <a:pt x="18240" y="17471"/>
                  <a:pt x="18256" y="17487"/>
                </a:cubicBezTo>
                <a:cubicBezTo>
                  <a:pt x="18214" y="17529"/>
                  <a:pt x="18136" y="17578"/>
                  <a:pt x="18132" y="17636"/>
                </a:cubicBezTo>
                <a:cubicBezTo>
                  <a:pt x="18128" y="17692"/>
                  <a:pt x="18175" y="17763"/>
                  <a:pt x="18207" y="17810"/>
                </a:cubicBezTo>
                <a:cubicBezTo>
                  <a:pt x="18238" y="17856"/>
                  <a:pt x="18301" y="17916"/>
                  <a:pt x="18355" y="17934"/>
                </a:cubicBezTo>
                <a:cubicBezTo>
                  <a:pt x="18363" y="17934"/>
                  <a:pt x="18372" y="17934"/>
                  <a:pt x="18380" y="17934"/>
                </a:cubicBezTo>
              </a:path>
              <a:path w="3821" h="1142">
                <a:moveTo>
                  <a:pt x="18529" y="17884"/>
                </a:moveTo>
                <a:cubicBezTo>
                  <a:pt x="18606" y="18021"/>
                  <a:pt x="18689" y="18163"/>
                  <a:pt x="18752" y="18306"/>
                </a:cubicBezTo>
                <a:cubicBezTo>
                  <a:pt x="18775" y="18373"/>
                  <a:pt x="18776" y="18394"/>
                  <a:pt x="18827" y="18405"/>
                </a:cubicBezTo>
              </a:path>
              <a:path w="3821" h="1142">
                <a:moveTo>
                  <a:pt x="18901" y="17884"/>
                </a:moveTo>
                <a:cubicBezTo>
                  <a:pt x="18824" y="17944"/>
                  <a:pt x="18742" y="17977"/>
                  <a:pt x="18678" y="18058"/>
                </a:cubicBezTo>
                <a:cubicBezTo>
                  <a:pt x="18609" y="18146"/>
                  <a:pt x="18536" y="18234"/>
                  <a:pt x="18479" y="18331"/>
                </a:cubicBezTo>
                <a:cubicBezTo>
                  <a:pt x="18462" y="18361"/>
                  <a:pt x="18401" y="18441"/>
                  <a:pt x="18380" y="18455"/>
                </a:cubicBezTo>
                <a:cubicBezTo>
                  <a:pt x="18352" y="18455"/>
                  <a:pt x="18346" y="18453"/>
                  <a:pt x="18380" y="18430"/>
                </a:cubicBezTo>
              </a:path>
              <a:path w="3821" h="1142">
                <a:moveTo>
                  <a:pt x="19174" y="18157"/>
                </a:moveTo>
                <a:cubicBezTo>
                  <a:pt x="19212" y="18250"/>
                  <a:pt x="19243" y="18341"/>
                  <a:pt x="19273" y="18430"/>
                </a:cubicBezTo>
                <a:cubicBezTo>
                  <a:pt x="19292" y="18486"/>
                  <a:pt x="19292" y="18535"/>
                  <a:pt x="19348" y="18554"/>
                </a:cubicBezTo>
                <a:cubicBezTo>
                  <a:pt x="19370" y="18562"/>
                  <a:pt x="19455" y="18492"/>
                  <a:pt x="19472" y="18479"/>
                </a:cubicBezTo>
                <a:cubicBezTo>
                  <a:pt x="19531" y="18435"/>
                  <a:pt x="19590" y="18377"/>
                  <a:pt x="19645" y="18331"/>
                </a:cubicBezTo>
                <a:cubicBezTo>
                  <a:pt x="19712" y="18275"/>
                  <a:pt x="19779" y="18212"/>
                  <a:pt x="19844" y="18157"/>
                </a:cubicBezTo>
                <a:cubicBezTo>
                  <a:pt x="19899" y="18111"/>
                  <a:pt x="19956" y="18070"/>
                  <a:pt x="20017" y="18033"/>
                </a:cubicBezTo>
                <a:cubicBezTo>
                  <a:pt x="20065" y="18004"/>
                  <a:pt x="20087" y="17983"/>
                  <a:pt x="20141" y="17983"/>
                </a:cubicBezTo>
                <a:cubicBezTo>
                  <a:pt x="20207" y="17983"/>
                  <a:pt x="20126" y="17983"/>
                  <a:pt x="20117" y="1798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6b6b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rify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380880" y="1219320"/>
          <a:ext cx="815364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19320"/>
                    <a:ext cx="81536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8" name=""/>
          <p:cNvSpPr/>
          <p:nvPr/>
        </p:nvSpPr>
        <p:spPr>
          <a:xfrm>
            <a:off x="1143000" y="2232000"/>
            <a:ext cx="2197080" cy="455760"/>
          </a:xfrm>
          <a:custGeom>
            <a:avLst/>
            <a:gdLst/>
            <a:ahLst/>
            <a:rect l="l" t="t" r="r" b="b"/>
            <a:pathLst>
              <a:path w="6103" h="1266">
                <a:moveTo>
                  <a:pt x="3497" y="6772"/>
                </a:moveTo>
                <a:cubicBezTo>
                  <a:pt x="3488" y="6736"/>
                  <a:pt x="3482" y="6701"/>
                  <a:pt x="3448" y="6697"/>
                </a:cubicBezTo>
                <a:cubicBezTo>
                  <a:pt x="3413" y="6693"/>
                  <a:pt x="3373" y="6706"/>
                  <a:pt x="3349" y="6722"/>
                </a:cubicBezTo>
                <a:cubicBezTo>
                  <a:pt x="3314" y="6746"/>
                  <a:pt x="3278" y="6770"/>
                  <a:pt x="3249" y="6796"/>
                </a:cubicBezTo>
                <a:cubicBezTo>
                  <a:pt x="3233" y="6810"/>
                  <a:pt x="3169" y="6843"/>
                  <a:pt x="3175" y="6871"/>
                </a:cubicBezTo>
                <a:cubicBezTo>
                  <a:pt x="3180" y="6894"/>
                  <a:pt x="3255" y="6941"/>
                  <a:pt x="3274" y="6945"/>
                </a:cubicBezTo>
                <a:cubicBezTo>
                  <a:pt x="3339" y="6958"/>
                  <a:pt x="3383" y="6987"/>
                  <a:pt x="3448" y="7020"/>
                </a:cubicBezTo>
                <a:cubicBezTo>
                  <a:pt x="3489" y="7041"/>
                  <a:pt x="3582" y="7124"/>
                  <a:pt x="3597" y="7169"/>
                </a:cubicBezTo>
                <a:cubicBezTo>
                  <a:pt x="3609" y="7203"/>
                  <a:pt x="3637" y="7301"/>
                  <a:pt x="3621" y="7342"/>
                </a:cubicBezTo>
                <a:cubicBezTo>
                  <a:pt x="3604" y="7385"/>
                  <a:pt x="3486" y="7434"/>
                  <a:pt x="3448" y="7441"/>
                </a:cubicBezTo>
                <a:cubicBezTo>
                  <a:pt x="3376" y="7455"/>
                  <a:pt x="3308" y="7436"/>
                  <a:pt x="3249" y="7417"/>
                </a:cubicBezTo>
                <a:cubicBezTo>
                  <a:pt x="3207" y="7403"/>
                  <a:pt x="3206" y="7380"/>
                  <a:pt x="3225" y="7342"/>
                </a:cubicBezTo>
              </a:path>
              <a:path w="6103" h="1266">
                <a:moveTo>
                  <a:pt x="3696" y="7094"/>
                </a:moveTo>
                <a:cubicBezTo>
                  <a:pt x="3811" y="7086"/>
                  <a:pt x="3826" y="7069"/>
                  <a:pt x="3919" y="7020"/>
                </a:cubicBezTo>
                <a:cubicBezTo>
                  <a:pt x="3958" y="6999"/>
                  <a:pt x="4046" y="6960"/>
                  <a:pt x="4068" y="6921"/>
                </a:cubicBezTo>
                <a:cubicBezTo>
                  <a:pt x="4082" y="6896"/>
                  <a:pt x="4068" y="6834"/>
                  <a:pt x="4043" y="6821"/>
                </a:cubicBezTo>
                <a:cubicBezTo>
                  <a:pt x="3992" y="6796"/>
                  <a:pt x="3995" y="6815"/>
                  <a:pt x="3944" y="6821"/>
                </a:cubicBezTo>
                <a:cubicBezTo>
                  <a:pt x="3900" y="6826"/>
                  <a:pt x="3877" y="6864"/>
                  <a:pt x="3845" y="6896"/>
                </a:cubicBezTo>
                <a:cubicBezTo>
                  <a:pt x="3809" y="6933"/>
                  <a:pt x="3779" y="6975"/>
                  <a:pt x="3770" y="7020"/>
                </a:cubicBezTo>
                <a:cubicBezTo>
                  <a:pt x="3755" y="7093"/>
                  <a:pt x="3766" y="7115"/>
                  <a:pt x="3770" y="7193"/>
                </a:cubicBezTo>
                <a:cubicBezTo>
                  <a:pt x="3772" y="7236"/>
                  <a:pt x="3807" y="7313"/>
                  <a:pt x="3845" y="7342"/>
                </a:cubicBezTo>
                <a:cubicBezTo>
                  <a:pt x="3888" y="7375"/>
                  <a:pt x="3940" y="7371"/>
                  <a:pt x="3994" y="7342"/>
                </a:cubicBezTo>
                <a:cubicBezTo>
                  <a:pt x="4002" y="7334"/>
                  <a:pt x="4010" y="7325"/>
                  <a:pt x="4018" y="7317"/>
                </a:cubicBezTo>
              </a:path>
              <a:path w="6103" h="1266">
                <a:moveTo>
                  <a:pt x="4415" y="6921"/>
                </a:moveTo>
                <a:cubicBezTo>
                  <a:pt x="4440" y="6913"/>
                  <a:pt x="4465" y="6904"/>
                  <a:pt x="4490" y="6896"/>
                </a:cubicBezTo>
                <a:cubicBezTo>
                  <a:pt x="4481" y="6870"/>
                  <a:pt x="4471" y="6848"/>
                  <a:pt x="4440" y="6846"/>
                </a:cubicBezTo>
                <a:cubicBezTo>
                  <a:pt x="4362" y="6840"/>
                  <a:pt x="4373" y="6847"/>
                  <a:pt x="4341" y="6896"/>
                </a:cubicBezTo>
                <a:cubicBezTo>
                  <a:pt x="4312" y="6939"/>
                  <a:pt x="4269" y="6974"/>
                  <a:pt x="4242" y="7020"/>
                </a:cubicBezTo>
                <a:cubicBezTo>
                  <a:pt x="4206" y="7081"/>
                  <a:pt x="4192" y="7123"/>
                  <a:pt x="4192" y="7193"/>
                </a:cubicBezTo>
                <a:cubicBezTo>
                  <a:pt x="4192" y="7251"/>
                  <a:pt x="4188" y="7282"/>
                  <a:pt x="4242" y="7317"/>
                </a:cubicBezTo>
                <a:cubicBezTo>
                  <a:pt x="4297" y="7353"/>
                  <a:pt x="4352" y="7342"/>
                  <a:pt x="4415" y="7342"/>
                </a:cubicBezTo>
                <a:cubicBezTo>
                  <a:pt x="4460" y="7342"/>
                  <a:pt x="4492" y="7317"/>
                  <a:pt x="4539" y="7317"/>
                </a:cubicBezTo>
                <a:cubicBezTo>
                  <a:pt x="4586" y="7317"/>
                  <a:pt x="4564" y="7301"/>
                  <a:pt x="4539" y="7293"/>
                </a:cubicBezTo>
              </a:path>
              <a:path w="6103" h="1266">
                <a:moveTo>
                  <a:pt x="4564" y="6226"/>
                </a:moveTo>
                <a:cubicBezTo>
                  <a:pt x="4639" y="6226"/>
                  <a:pt x="4693" y="6219"/>
                  <a:pt x="4762" y="6201"/>
                </a:cubicBezTo>
                <a:cubicBezTo>
                  <a:pt x="4807" y="6190"/>
                  <a:pt x="4865" y="6201"/>
                  <a:pt x="4911" y="6201"/>
                </a:cubicBezTo>
                <a:cubicBezTo>
                  <a:pt x="4903" y="6226"/>
                  <a:pt x="4865" y="6242"/>
                  <a:pt x="4862" y="6251"/>
                </a:cubicBezTo>
                <a:cubicBezTo>
                  <a:pt x="4849" y="6296"/>
                  <a:pt x="4844" y="6409"/>
                  <a:pt x="4837" y="6449"/>
                </a:cubicBezTo>
                <a:cubicBezTo>
                  <a:pt x="4827" y="6506"/>
                  <a:pt x="4828" y="6549"/>
                  <a:pt x="4812" y="6598"/>
                </a:cubicBezTo>
                <a:cubicBezTo>
                  <a:pt x="4801" y="6631"/>
                  <a:pt x="4812" y="6687"/>
                  <a:pt x="4812" y="6722"/>
                </a:cubicBezTo>
              </a:path>
              <a:path w="6103" h="1266">
                <a:moveTo>
                  <a:pt x="5035" y="6846"/>
                </a:moveTo>
                <a:cubicBezTo>
                  <a:pt x="5065" y="6906"/>
                  <a:pt x="5088" y="6966"/>
                  <a:pt x="5110" y="7020"/>
                </a:cubicBezTo>
                <a:cubicBezTo>
                  <a:pt x="5153" y="7126"/>
                  <a:pt x="5197" y="7200"/>
                  <a:pt x="5259" y="7293"/>
                </a:cubicBezTo>
                <a:cubicBezTo>
                  <a:pt x="5299" y="7353"/>
                  <a:pt x="5310" y="7412"/>
                  <a:pt x="5383" y="7441"/>
                </a:cubicBezTo>
                <a:cubicBezTo>
                  <a:pt x="5452" y="7468"/>
                  <a:pt x="5407" y="7317"/>
                  <a:pt x="5407" y="7243"/>
                </a:cubicBezTo>
              </a:path>
              <a:path w="6103" h="1266">
                <a:moveTo>
                  <a:pt x="5383" y="6846"/>
                </a:moveTo>
                <a:cubicBezTo>
                  <a:pt x="5354" y="6885"/>
                  <a:pt x="5333" y="6923"/>
                  <a:pt x="5308" y="6970"/>
                </a:cubicBezTo>
                <a:cubicBezTo>
                  <a:pt x="5264" y="7053"/>
                  <a:pt x="5186" y="7139"/>
                  <a:pt x="5110" y="7193"/>
                </a:cubicBezTo>
                <a:cubicBezTo>
                  <a:pt x="5079" y="7214"/>
                  <a:pt x="5002" y="7270"/>
                  <a:pt x="4986" y="7293"/>
                </a:cubicBezTo>
                <a:cubicBezTo>
                  <a:pt x="4964" y="7325"/>
                  <a:pt x="4972" y="7334"/>
                  <a:pt x="4986" y="7293"/>
                </a:cubicBezTo>
              </a:path>
              <a:path w="6103" h="1266">
                <a:moveTo>
                  <a:pt x="6127" y="6400"/>
                </a:moveTo>
                <a:cubicBezTo>
                  <a:pt x="6127" y="6464"/>
                  <a:pt x="6110" y="6515"/>
                  <a:pt x="6102" y="6573"/>
                </a:cubicBezTo>
                <a:cubicBezTo>
                  <a:pt x="6085" y="6699"/>
                  <a:pt x="6110" y="6824"/>
                  <a:pt x="6127" y="6945"/>
                </a:cubicBezTo>
                <a:cubicBezTo>
                  <a:pt x="6136" y="7010"/>
                  <a:pt x="6147" y="7059"/>
                  <a:pt x="6152" y="7119"/>
                </a:cubicBezTo>
                <a:cubicBezTo>
                  <a:pt x="6156" y="7166"/>
                  <a:pt x="6167" y="7171"/>
                  <a:pt x="6127" y="7144"/>
                </a:cubicBezTo>
              </a:path>
              <a:path w="6103" h="1266">
                <a:moveTo>
                  <a:pt x="5854" y="6871"/>
                </a:moveTo>
                <a:cubicBezTo>
                  <a:pt x="5938" y="6837"/>
                  <a:pt x="6010" y="6806"/>
                  <a:pt x="6102" y="6796"/>
                </a:cubicBezTo>
                <a:cubicBezTo>
                  <a:pt x="6200" y="6785"/>
                  <a:pt x="6305" y="6798"/>
                  <a:pt x="6400" y="6772"/>
                </a:cubicBezTo>
                <a:cubicBezTo>
                  <a:pt x="6469" y="6753"/>
                  <a:pt x="6524" y="6747"/>
                  <a:pt x="6598" y="6747"/>
                </a:cubicBezTo>
                <a:cubicBezTo>
                  <a:pt x="6517" y="6828"/>
                  <a:pt x="6443" y="6906"/>
                  <a:pt x="6375" y="6995"/>
                </a:cubicBezTo>
                <a:cubicBezTo>
                  <a:pt x="6340" y="7041"/>
                  <a:pt x="6350" y="7085"/>
                  <a:pt x="6350" y="7144"/>
                </a:cubicBezTo>
                <a:cubicBezTo>
                  <a:pt x="6350" y="7163"/>
                  <a:pt x="6394" y="7206"/>
                  <a:pt x="6424" y="7193"/>
                </a:cubicBezTo>
                <a:cubicBezTo>
                  <a:pt x="6466" y="7175"/>
                  <a:pt x="6481" y="7122"/>
                  <a:pt x="6499" y="7094"/>
                </a:cubicBezTo>
                <a:cubicBezTo>
                  <a:pt x="6531" y="7045"/>
                  <a:pt x="6524" y="7006"/>
                  <a:pt x="6524" y="6945"/>
                </a:cubicBezTo>
                <a:cubicBezTo>
                  <a:pt x="6524" y="6921"/>
                  <a:pt x="6524" y="6804"/>
                  <a:pt x="6524" y="6921"/>
                </a:cubicBezTo>
                <a:cubicBezTo>
                  <a:pt x="6524" y="6977"/>
                  <a:pt x="6516" y="7020"/>
                  <a:pt x="6548" y="7069"/>
                </a:cubicBezTo>
                <a:cubicBezTo>
                  <a:pt x="6571" y="7104"/>
                  <a:pt x="6606" y="7174"/>
                  <a:pt x="6648" y="7193"/>
                </a:cubicBezTo>
                <a:cubicBezTo>
                  <a:pt x="6701" y="7216"/>
                  <a:pt x="6726" y="7241"/>
                  <a:pt x="6772" y="7169"/>
                </a:cubicBezTo>
                <a:cubicBezTo>
                  <a:pt x="6772" y="7141"/>
                  <a:pt x="6774" y="7130"/>
                  <a:pt x="6796" y="7119"/>
                </a:cubicBezTo>
              </a:path>
              <a:path w="6103" h="1266">
                <a:moveTo>
                  <a:pt x="6821" y="6871"/>
                </a:moveTo>
                <a:cubicBezTo>
                  <a:pt x="6821" y="6934"/>
                  <a:pt x="6830" y="6968"/>
                  <a:pt x="6846" y="7020"/>
                </a:cubicBezTo>
                <a:cubicBezTo>
                  <a:pt x="6859" y="7063"/>
                  <a:pt x="6846" y="7124"/>
                  <a:pt x="6846" y="7169"/>
                </a:cubicBezTo>
                <a:cubicBezTo>
                  <a:pt x="6865" y="7163"/>
                  <a:pt x="6890" y="7124"/>
                  <a:pt x="6896" y="7094"/>
                </a:cubicBezTo>
                <a:cubicBezTo>
                  <a:pt x="6910" y="7031"/>
                  <a:pt x="6891" y="7023"/>
                  <a:pt x="6921" y="6970"/>
                </a:cubicBezTo>
                <a:cubicBezTo>
                  <a:pt x="6944" y="6929"/>
                  <a:pt x="6945" y="6868"/>
                  <a:pt x="6995" y="6846"/>
                </a:cubicBezTo>
                <a:cubicBezTo>
                  <a:pt x="7029" y="6831"/>
                  <a:pt x="7097" y="6840"/>
                  <a:pt x="7119" y="6871"/>
                </a:cubicBezTo>
                <a:cubicBezTo>
                  <a:pt x="7163" y="6935"/>
                  <a:pt x="7171" y="7002"/>
                  <a:pt x="7193" y="7069"/>
                </a:cubicBezTo>
                <a:cubicBezTo>
                  <a:pt x="7212" y="7126"/>
                  <a:pt x="7272" y="7165"/>
                  <a:pt x="7293" y="7218"/>
                </a:cubicBezTo>
                <a:cubicBezTo>
                  <a:pt x="7303" y="7242"/>
                  <a:pt x="7334" y="7309"/>
                  <a:pt x="7342" y="7243"/>
                </a:cubicBezTo>
                <a:cubicBezTo>
                  <a:pt x="7342" y="7235"/>
                  <a:pt x="7342" y="7226"/>
                  <a:pt x="7342" y="7218"/>
                </a:cubicBezTo>
              </a:path>
              <a:path w="6103" h="1266">
                <a:moveTo>
                  <a:pt x="7466" y="6796"/>
                </a:moveTo>
                <a:cubicBezTo>
                  <a:pt x="7496" y="6849"/>
                  <a:pt x="7527" y="6924"/>
                  <a:pt x="7565" y="6970"/>
                </a:cubicBezTo>
                <a:cubicBezTo>
                  <a:pt x="7640" y="7061"/>
                  <a:pt x="7735" y="7161"/>
                  <a:pt x="7838" y="7218"/>
                </a:cubicBezTo>
                <a:cubicBezTo>
                  <a:pt x="7871" y="7237"/>
                  <a:pt x="8000" y="7320"/>
                  <a:pt x="8037" y="7317"/>
                </a:cubicBezTo>
                <a:cubicBezTo>
                  <a:pt x="8065" y="7315"/>
                  <a:pt x="8081" y="7284"/>
                  <a:pt x="8086" y="7268"/>
                </a:cubicBezTo>
              </a:path>
              <a:path w="6103" h="1266">
                <a:moveTo>
                  <a:pt x="8012" y="6722"/>
                </a:moveTo>
                <a:cubicBezTo>
                  <a:pt x="7967" y="6767"/>
                  <a:pt x="7937" y="6811"/>
                  <a:pt x="7913" y="6871"/>
                </a:cubicBezTo>
                <a:cubicBezTo>
                  <a:pt x="7870" y="6981"/>
                  <a:pt x="7782" y="7074"/>
                  <a:pt x="7714" y="7169"/>
                </a:cubicBezTo>
                <a:cubicBezTo>
                  <a:pt x="7660" y="7245"/>
                  <a:pt x="7591" y="7287"/>
                  <a:pt x="7541" y="7367"/>
                </a:cubicBezTo>
                <a:cubicBezTo>
                  <a:pt x="7519" y="7403"/>
                  <a:pt x="7500" y="7430"/>
                  <a:pt x="7491" y="7466"/>
                </a:cubicBezTo>
                <a:cubicBezTo>
                  <a:pt x="7527" y="7457"/>
                  <a:pt x="7536" y="7446"/>
                  <a:pt x="7565" y="7417"/>
                </a:cubicBezTo>
              </a:path>
              <a:path w="6103" h="1266">
                <a:moveTo>
                  <a:pt x="8458" y="6970"/>
                </a:moveTo>
                <a:cubicBezTo>
                  <a:pt x="8594" y="6970"/>
                  <a:pt x="8719" y="6985"/>
                  <a:pt x="8855" y="6995"/>
                </a:cubicBezTo>
                <a:cubicBezTo>
                  <a:pt x="8951" y="7002"/>
                  <a:pt x="9030" y="7020"/>
                  <a:pt x="9128" y="7020"/>
                </a:cubicBezTo>
                <a:cubicBezTo>
                  <a:pt x="9189" y="7020"/>
                  <a:pt x="9231" y="7030"/>
                  <a:pt x="9277" y="699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670200" y="2303640"/>
            <a:ext cx="965160" cy="366480"/>
          </a:xfrm>
          <a:custGeom>
            <a:avLst/>
            <a:gdLst/>
            <a:ahLst/>
            <a:rect l="l" t="t" r="r" b="b"/>
            <a:pathLst>
              <a:path w="2680" h="1018">
                <a:moveTo>
                  <a:pt x="10616" y="6796"/>
                </a:moveTo>
                <a:cubicBezTo>
                  <a:pt x="10616" y="6849"/>
                  <a:pt x="10624" y="6763"/>
                  <a:pt x="10592" y="6747"/>
                </a:cubicBezTo>
                <a:cubicBezTo>
                  <a:pt x="10541" y="6722"/>
                  <a:pt x="10455" y="6701"/>
                  <a:pt x="10393" y="6722"/>
                </a:cubicBezTo>
                <a:cubicBezTo>
                  <a:pt x="10348" y="6737"/>
                  <a:pt x="10288" y="6763"/>
                  <a:pt x="10244" y="6796"/>
                </a:cubicBezTo>
                <a:cubicBezTo>
                  <a:pt x="10198" y="6830"/>
                  <a:pt x="10213" y="6864"/>
                  <a:pt x="10220" y="6896"/>
                </a:cubicBezTo>
                <a:cubicBezTo>
                  <a:pt x="10240" y="6987"/>
                  <a:pt x="10277" y="6968"/>
                  <a:pt x="10344" y="7020"/>
                </a:cubicBezTo>
                <a:cubicBezTo>
                  <a:pt x="10433" y="7089"/>
                  <a:pt x="10520" y="7158"/>
                  <a:pt x="10592" y="7243"/>
                </a:cubicBezTo>
                <a:cubicBezTo>
                  <a:pt x="10605" y="7258"/>
                  <a:pt x="10641" y="7346"/>
                  <a:pt x="10616" y="7367"/>
                </a:cubicBezTo>
                <a:cubicBezTo>
                  <a:pt x="10592" y="7387"/>
                  <a:pt x="10476" y="7411"/>
                  <a:pt x="10443" y="7417"/>
                </a:cubicBezTo>
                <a:cubicBezTo>
                  <a:pt x="10423" y="7420"/>
                  <a:pt x="10322" y="7400"/>
                  <a:pt x="10344" y="7367"/>
                </a:cubicBezTo>
                <a:cubicBezTo>
                  <a:pt x="10360" y="7350"/>
                  <a:pt x="10377" y="7334"/>
                  <a:pt x="10393" y="7317"/>
                </a:cubicBezTo>
              </a:path>
              <a:path w="2680" h="1018">
                <a:moveTo>
                  <a:pt x="10864" y="7094"/>
                </a:moveTo>
                <a:cubicBezTo>
                  <a:pt x="10911" y="7054"/>
                  <a:pt x="10961" y="7003"/>
                  <a:pt x="11013" y="6970"/>
                </a:cubicBezTo>
                <a:cubicBezTo>
                  <a:pt x="11070" y="6933"/>
                  <a:pt x="11114" y="6894"/>
                  <a:pt x="11162" y="6846"/>
                </a:cubicBezTo>
                <a:cubicBezTo>
                  <a:pt x="11192" y="6816"/>
                  <a:pt x="11187" y="6812"/>
                  <a:pt x="11187" y="6772"/>
                </a:cubicBezTo>
                <a:cubicBezTo>
                  <a:pt x="11138" y="6772"/>
                  <a:pt x="11103" y="6788"/>
                  <a:pt x="11063" y="6821"/>
                </a:cubicBezTo>
                <a:cubicBezTo>
                  <a:pt x="11001" y="6872"/>
                  <a:pt x="10974" y="6925"/>
                  <a:pt x="10939" y="6995"/>
                </a:cubicBezTo>
                <a:cubicBezTo>
                  <a:pt x="10906" y="7061"/>
                  <a:pt x="10914" y="7120"/>
                  <a:pt x="10914" y="7193"/>
                </a:cubicBezTo>
                <a:cubicBezTo>
                  <a:pt x="10914" y="7238"/>
                  <a:pt x="10942" y="7317"/>
                  <a:pt x="10988" y="7342"/>
                </a:cubicBezTo>
                <a:cubicBezTo>
                  <a:pt x="11038" y="7370"/>
                  <a:pt x="11062" y="7369"/>
                  <a:pt x="11112" y="7342"/>
                </a:cubicBezTo>
                <a:cubicBezTo>
                  <a:pt x="11129" y="7334"/>
                  <a:pt x="11145" y="7325"/>
                  <a:pt x="11162" y="7317"/>
                </a:cubicBezTo>
              </a:path>
              <a:path w="2680" h="1018">
                <a:moveTo>
                  <a:pt x="11633" y="6846"/>
                </a:moveTo>
                <a:cubicBezTo>
                  <a:pt x="11628" y="6832"/>
                  <a:pt x="11609" y="6783"/>
                  <a:pt x="11584" y="6796"/>
                </a:cubicBezTo>
                <a:cubicBezTo>
                  <a:pt x="11529" y="6823"/>
                  <a:pt x="11523" y="6844"/>
                  <a:pt x="11485" y="6896"/>
                </a:cubicBezTo>
                <a:cubicBezTo>
                  <a:pt x="11447" y="6948"/>
                  <a:pt x="11421" y="7006"/>
                  <a:pt x="11410" y="7069"/>
                </a:cubicBezTo>
                <a:cubicBezTo>
                  <a:pt x="11397" y="7148"/>
                  <a:pt x="11401" y="7254"/>
                  <a:pt x="11435" y="7317"/>
                </a:cubicBezTo>
                <a:cubicBezTo>
                  <a:pt x="11480" y="7400"/>
                  <a:pt x="11522" y="7392"/>
                  <a:pt x="11609" y="7392"/>
                </a:cubicBezTo>
                <a:cubicBezTo>
                  <a:pt x="11703" y="7392"/>
                  <a:pt x="11778" y="7290"/>
                  <a:pt x="11807" y="7218"/>
                </a:cubicBezTo>
                <a:cubicBezTo>
                  <a:pt x="11815" y="7193"/>
                  <a:pt x="11824" y="7169"/>
                  <a:pt x="11832" y="7144"/>
                </a:cubicBezTo>
              </a:path>
              <a:path w="2680" h="1018">
                <a:moveTo>
                  <a:pt x="12030" y="6424"/>
                </a:moveTo>
                <a:cubicBezTo>
                  <a:pt x="12100" y="6424"/>
                  <a:pt x="12148" y="6432"/>
                  <a:pt x="12204" y="6400"/>
                </a:cubicBezTo>
              </a:path>
              <a:path w="2680" h="1018">
                <a:moveTo>
                  <a:pt x="11931" y="6524"/>
                </a:moveTo>
                <a:cubicBezTo>
                  <a:pt x="11909" y="6597"/>
                  <a:pt x="11888" y="6617"/>
                  <a:pt x="11931" y="6672"/>
                </a:cubicBezTo>
                <a:cubicBezTo>
                  <a:pt x="11939" y="6643"/>
                  <a:pt x="11962" y="6599"/>
                  <a:pt x="12005" y="6623"/>
                </a:cubicBezTo>
                <a:cubicBezTo>
                  <a:pt x="12043" y="6644"/>
                  <a:pt x="12093" y="6667"/>
                  <a:pt x="12129" y="6697"/>
                </a:cubicBezTo>
                <a:cubicBezTo>
                  <a:pt x="12178" y="6738"/>
                  <a:pt x="12223" y="6782"/>
                  <a:pt x="12229" y="6846"/>
                </a:cubicBezTo>
                <a:cubicBezTo>
                  <a:pt x="12235" y="6905"/>
                  <a:pt x="12216" y="6897"/>
                  <a:pt x="12179" y="6921"/>
                </a:cubicBezTo>
                <a:cubicBezTo>
                  <a:pt x="12141" y="6945"/>
                  <a:pt x="12104" y="6965"/>
                  <a:pt x="12055" y="6970"/>
                </a:cubicBezTo>
                <a:cubicBezTo>
                  <a:pt x="12030" y="6970"/>
                  <a:pt x="12022" y="6970"/>
                  <a:pt x="12030" y="6945"/>
                </a:cubicBezTo>
              </a:path>
              <a:path w="2680" h="1018">
                <a:moveTo>
                  <a:pt x="12427" y="6921"/>
                </a:moveTo>
                <a:cubicBezTo>
                  <a:pt x="12473" y="7012"/>
                  <a:pt x="12514" y="7111"/>
                  <a:pt x="12576" y="7193"/>
                </a:cubicBezTo>
                <a:cubicBezTo>
                  <a:pt x="12635" y="7271"/>
                  <a:pt x="12702" y="7303"/>
                  <a:pt x="12774" y="7342"/>
                </a:cubicBezTo>
                <a:cubicBezTo>
                  <a:pt x="12814" y="7364"/>
                  <a:pt x="12845" y="7380"/>
                  <a:pt x="12874" y="7317"/>
                </a:cubicBezTo>
                <a:cubicBezTo>
                  <a:pt x="12874" y="7309"/>
                  <a:pt x="12874" y="7301"/>
                  <a:pt x="12874" y="7293"/>
                </a:cubicBezTo>
              </a:path>
              <a:path w="2680" h="1018">
                <a:moveTo>
                  <a:pt x="12799" y="6821"/>
                </a:moveTo>
                <a:cubicBezTo>
                  <a:pt x="12733" y="6955"/>
                  <a:pt x="12657" y="7058"/>
                  <a:pt x="12551" y="7169"/>
                </a:cubicBezTo>
                <a:cubicBezTo>
                  <a:pt x="12495" y="7228"/>
                  <a:pt x="12436" y="7268"/>
                  <a:pt x="12378" y="7317"/>
                </a:cubicBezTo>
                <a:cubicBezTo>
                  <a:pt x="12347" y="7343"/>
                  <a:pt x="12337" y="7357"/>
                  <a:pt x="12328" y="739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867200" y="2330280"/>
            <a:ext cx="946080" cy="322560"/>
          </a:xfrm>
          <a:custGeom>
            <a:avLst/>
            <a:gdLst/>
            <a:ahLst/>
            <a:rect l="l" t="t" r="r" b="b"/>
            <a:pathLst>
              <a:path w="2630" h="894">
                <a:moveTo>
                  <a:pt x="13816" y="6474"/>
                </a:moveTo>
                <a:cubicBezTo>
                  <a:pt x="13810" y="6590"/>
                  <a:pt x="13791" y="6682"/>
                  <a:pt x="13791" y="6796"/>
                </a:cubicBezTo>
                <a:cubicBezTo>
                  <a:pt x="13791" y="6902"/>
                  <a:pt x="13803" y="6996"/>
                  <a:pt x="13816" y="7094"/>
                </a:cubicBezTo>
                <a:cubicBezTo>
                  <a:pt x="13821" y="7134"/>
                  <a:pt x="13832" y="7238"/>
                  <a:pt x="13791" y="7243"/>
                </a:cubicBezTo>
                <a:cubicBezTo>
                  <a:pt x="13763" y="7243"/>
                  <a:pt x="13753" y="7240"/>
                  <a:pt x="13742" y="7218"/>
                </a:cubicBezTo>
              </a:path>
              <a:path w="2630" h="894">
                <a:moveTo>
                  <a:pt x="13519" y="6970"/>
                </a:moveTo>
                <a:cubicBezTo>
                  <a:pt x="13643" y="6943"/>
                  <a:pt x="13765" y="6903"/>
                  <a:pt x="13891" y="6896"/>
                </a:cubicBezTo>
                <a:cubicBezTo>
                  <a:pt x="14002" y="6890"/>
                  <a:pt x="14101" y="6871"/>
                  <a:pt x="14213" y="6871"/>
                </a:cubicBezTo>
                <a:cubicBezTo>
                  <a:pt x="14282" y="6871"/>
                  <a:pt x="14272" y="6874"/>
                  <a:pt x="14337" y="6896"/>
                </a:cubicBezTo>
                <a:cubicBezTo>
                  <a:pt x="14311" y="6949"/>
                  <a:pt x="14274" y="6975"/>
                  <a:pt x="14238" y="7020"/>
                </a:cubicBezTo>
                <a:cubicBezTo>
                  <a:pt x="14192" y="7077"/>
                  <a:pt x="14155" y="7203"/>
                  <a:pt x="14139" y="7268"/>
                </a:cubicBezTo>
                <a:cubicBezTo>
                  <a:pt x="14129" y="7308"/>
                  <a:pt x="14173" y="7370"/>
                  <a:pt x="14213" y="7367"/>
                </a:cubicBezTo>
                <a:cubicBezTo>
                  <a:pt x="14268" y="7363"/>
                  <a:pt x="14345" y="7330"/>
                  <a:pt x="14387" y="7293"/>
                </a:cubicBezTo>
                <a:cubicBezTo>
                  <a:pt x="14437" y="7248"/>
                  <a:pt x="14457" y="7183"/>
                  <a:pt x="14461" y="7119"/>
                </a:cubicBezTo>
                <a:cubicBezTo>
                  <a:pt x="14464" y="7070"/>
                  <a:pt x="14461" y="7019"/>
                  <a:pt x="14461" y="6970"/>
                </a:cubicBezTo>
                <a:cubicBezTo>
                  <a:pt x="14449" y="7000"/>
                  <a:pt x="14457" y="7026"/>
                  <a:pt x="14461" y="7094"/>
                </a:cubicBezTo>
                <a:cubicBezTo>
                  <a:pt x="14464" y="7156"/>
                  <a:pt x="14493" y="7195"/>
                  <a:pt x="14536" y="7243"/>
                </a:cubicBezTo>
                <a:cubicBezTo>
                  <a:pt x="14565" y="7276"/>
                  <a:pt x="14587" y="7304"/>
                  <a:pt x="14635" y="7293"/>
                </a:cubicBezTo>
                <a:cubicBezTo>
                  <a:pt x="14697" y="7278"/>
                  <a:pt x="14721" y="7223"/>
                  <a:pt x="14759" y="7169"/>
                </a:cubicBezTo>
              </a:path>
              <a:path w="2630" h="894">
                <a:moveTo>
                  <a:pt x="14833" y="6970"/>
                </a:moveTo>
                <a:cubicBezTo>
                  <a:pt x="14833" y="7024"/>
                  <a:pt x="14833" y="7245"/>
                  <a:pt x="14833" y="7218"/>
                </a:cubicBezTo>
                <a:cubicBezTo>
                  <a:pt x="14833" y="7136"/>
                  <a:pt x="14845" y="7071"/>
                  <a:pt x="14858" y="6995"/>
                </a:cubicBezTo>
                <a:cubicBezTo>
                  <a:pt x="14880" y="6869"/>
                  <a:pt x="14915" y="6888"/>
                  <a:pt x="15007" y="6846"/>
                </a:cubicBezTo>
                <a:cubicBezTo>
                  <a:pt x="15075" y="6815"/>
                  <a:pt x="15122" y="6867"/>
                  <a:pt x="15180" y="6921"/>
                </a:cubicBezTo>
                <a:cubicBezTo>
                  <a:pt x="15231" y="6968"/>
                  <a:pt x="15297" y="7059"/>
                  <a:pt x="15329" y="7119"/>
                </a:cubicBezTo>
                <a:cubicBezTo>
                  <a:pt x="15341" y="7142"/>
                  <a:pt x="15359" y="7229"/>
                  <a:pt x="15379" y="7243"/>
                </a:cubicBezTo>
                <a:cubicBezTo>
                  <a:pt x="15404" y="7243"/>
                  <a:pt x="15412" y="7243"/>
                  <a:pt x="15404" y="7218"/>
                </a:cubicBezTo>
              </a:path>
              <a:path w="2630" h="894">
                <a:moveTo>
                  <a:pt x="15528" y="6921"/>
                </a:moveTo>
                <a:cubicBezTo>
                  <a:pt x="15606" y="6999"/>
                  <a:pt x="15685" y="7083"/>
                  <a:pt x="15776" y="7144"/>
                </a:cubicBezTo>
                <a:cubicBezTo>
                  <a:pt x="15851" y="7194"/>
                  <a:pt x="15922" y="7209"/>
                  <a:pt x="15999" y="7243"/>
                </a:cubicBezTo>
                <a:cubicBezTo>
                  <a:pt x="16054" y="7267"/>
                  <a:pt x="16076" y="7274"/>
                  <a:pt x="16123" y="7243"/>
                </a:cubicBezTo>
                <a:cubicBezTo>
                  <a:pt x="16160" y="7218"/>
                  <a:pt x="16148" y="7184"/>
                  <a:pt x="16148" y="7144"/>
                </a:cubicBezTo>
              </a:path>
              <a:path w="2630" h="894">
                <a:moveTo>
                  <a:pt x="15999" y="6772"/>
                </a:moveTo>
                <a:cubicBezTo>
                  <a:pt x="15913" y="6858"/>
                  <a:pt x="15843" y="6969"/>
                  <a:pt x="15751" y="7045"/>
                </a:cubicBezTo>
                <a:cubicBezTo>
                  <a:pt x="15687" y="7098"/>
                  <a:pt x="15618" y="7144"/>
                  <a:pt x="15553" y="7193"/>
                </a:cubicBezTo>
                <a:cubicBezTo>
                  <a:pt x="15524" y="7215"/>
                  <a:pt x="15510" y="7246"/>
                  <a:pt x="15503" y="7268"/>
                </a:cubicBezTo>
                <a:cubicBezTo>
                  <a:pt x="15531" y="7268"/>
                  <a:pt x="15542" y="7266"/>
                  <a:pt x="15553" y="724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045120" y="2446200"/>
            <a:ext cx="152640" cy="81000"/>
          </a:xfrm>
          <a:custGeom>
            <a:avLst/>
            <a:gdLst/>
            <a:ahLst/>
            <a:rect l="l" t="t" r="r" b="b"/>
            <a:pathLst>
              <a:path w="422" h="225">
                <a:moveTo>
                  <a:pt x="16818" y="6821"/>
                </a:moveTo>
                <a:cubicBezTo>
                  <a:pt x="16923" y="6803"/>
                  <a:pt x="17010" y="6796"/>
                  <a:pt x="17115" y="6796"/>
                </a:cubicBezTo>
                <a:cubicBezTo>
                  <a:pt x="17148" y="6796"/>
                  <a:pt x="17181" y="6796"/>
                  <a:pt x="17214" y="6796"/>
                </a:cubicBezTo>
              </a:path>
              <a:path w="422" h="225">
                <a:moveTo>
                  <a:pt x="16793" y="6995"/>
                </a:moveTo>
                <a:cubicBezTo>
                  <a:pt x="16863" y="7022"/>
                  <a:pt x="16915" y="7020"/>
                  <a:pt x="16991" y="7020"/>
                </a:cubicBezTo>
                <a:cubicBezTo>
                  <a:pt x="17032" y="7020"/>
                  <a:pt x="17074" y="7020"/>
                  <a:pt x="17115" y="702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303200" y="2911320"/>
            <a:ext cx="4064040" cy="527040"/>
          </a:xfrm>
          <a:custGeom>
            <a:avLst/>
            <a:gdLst/>
            <a:ahLst/>
            <a:rect l="l" t="t" r="r" b="b"/>
            <a:pathLst>
              <a:path w="11288" h="1465">
                <a:moveTo>
                  <a:pt x="4118" y="8731"/>
                </a:moveTo>
                <a:cubicBezTo>
                  <a:pt x="4117" y="8728"/>
                  <a:pt x="4096" y="8660"/>
                  <a:pt x="4093" y="8657"/>
                </a:cubicBezTo>
                <a:cubicBezTo>
                  <a:pt x="4038" y="8613"/>
                  <a:pt x="3981" y="8647"/>
                  <a:pt x="3919" y="8657"/>
                </a:cubicBezTo>
                <a:cubicBezTo>
                  <a:pt x="3861" y="8666"/>
                  <a:pt x="3823" y="8664"/>
                  <a:pt x="3770" y="8682"/>
                </a:cubicBezTo>
                <a:cubicBezTo>
                  <a:pt x="3714" y="8701"/>
                  <a:pt x="3694" y="8735"/>
                  <a:pt x="3646" y="8756"/>
                </a:cubicBezTo>
                <a:cubicBezTo>
                  <a:pt x="3637" y="8760"/>
                  <a:pt x="3590" y="8806"/>
                  <a:pt x="3621" y="8830"/>
                </a:cubicBezTo>
                <a:cubicBezTo>
                  <a:pt x="3647" y="8850"/>
                  <a:pt x="3711" y="8863"/>
                  <a:pt x="3746" y="8880"/>
                </a:cubicBezTo>
                <a:cubicBezTo>
                  <a:pt x="3815" y="8913"/>
                  <a:pt x="3855" y="8936"/>
                  <a:pt x="3919" y="8979"/>
                </a:cubicBezTo>
                <a:cubicBezTo>
                  <a:pt x="3984" y="9022"/>
                  <a:pt x="4026" y="9034"/>
                  <a:pt x="4068" y="9103"/>
                </a:cubicBezTo>
                <a:cubicBezTo>
                  <a:pt x="4112" y="9176"/>
                  <a:pt x="4137" y="9221"/>
                  <a:pt x="4142" y="9302"/>
                </a:cubicBezTo>
                <a:cubicBezTo>
                  <a:pt x="4145" y="9343"/>
                  <a:pt x="4108" y="9408"/>
                  <a:pt x="4068" y="9426"/>
                </a:cubicBezTo>
                <a:cubicBezTo>
                  <a:pt x="4021" y="9447"/>
                  <a:pt x="3972" y="9451"/>
                  <a:pt x="3919" y="9451"/>
                </a:cubicBezTo>
                <a:cubicBezTo>
                  <a:pt x="3848" y="9451"/>
                  <a:pt x="3799" y="9419"/>
                  <a:pt x="3746" y="9401"/>
                </a:cubicBezTo>
                <a:cubicBezTo>
                  <a:pt x="3706" y="9388"/>
                  <a:pt x="3736" y="9389"/>
                  <a:pt x="3696" y="9376"/>
                </a:cubicBezTo>
              </a:path>
              <a:path w="11288" h="1465">
                <a:moveTo>
                  <a:pt x="4415" y="9079"/>
                </a:moveTo>
                <a:cubicBezTo>
                  <a:pt x="4481" y="9053"/>
                  <a:pt x="4553" y="9016"/>
                  <a:pt x="4614" y="9004"/>
                </a:cubicBezTo>
                <a:cubicBezTo>
                  <a:pt x="4687" y="8990"/>
                  <a:pt x="4723" y="8968"/>
                  <a:pt x="4787" y="8930"/>
                </a:cubicBezTo>
                <a:cubicBezTo>
                  <a:pt x="4832" y="8903"/>
                  <a:pt x="4856" y="8884"/>
                  <a:pt x="4862" y="8830"/>
                </a:cubicBezTo>
                <a:cubicBezTo>
                  <a:pt x="4866" y="8795"/>
                  <a:pt x="4853" y="8743"/>
                  <a:pt x="4812" y="8731"/>
                </a:cubicBezTo>
                <a:cubicBezTo>
                  <a:pt x="4763" y="8717"/>
                  <a:pt x="4672" y="8728"/>
                  <a:pt x="4638" y="8756"/>
                </a:cubicBezTo>
                <a:cubicBezTo>
                  <a:pt x="4582" y="8802"/>
                  <a:pt x="4547" y="8807"/>
                  <a:pt x="4490" y="8855"/>
                </a:cubicBezTo>
                <a:cubicBezTo>
                  <a:pt x="4443" y="8895"/>
                  <a:pt x="4435" y="8953"/>
                  <a:pt x="4415" y="9004"/>
                </a:cubicBezTo>
                <a:cubicBezTo>
                  <a:pt x="4385" y="9080"/>
                  <a:pt x="4390" y="9144"/>
                  <a:pt x="4390" y="9227"/>
                </a:cubicBezTo>
                <a:cubicBezTo>
                  <a:pt x="4390" y="9282"/>
                  <a:pt x="4429" y="9337"/>
                  <a:pt x="4465" y="9376"/>
                </a:cubicBezTo>
                <a:cubicBezTo>
                  <a:pt x="4504" y="9419"/>
                  <a:pt x="4556" y="9462"/>
                  <a:pt x="4614" y="9475"/>
                </a:cubicBezTo>
                <a:cubicBezTo>
                  <a:pt x="4658" y="9475"/>
                  <a:pt x="4671" y="9478"/>
                  <a:pt x="4688" y="9451"/>
                </a:cubicBezTo>
              </a:path>
              <a:path w="11288" h="1465">
                <a:moveTo>
                  <a:pt x="5358" y="8830"/>
                </a:moveTo>
                <a:cubicBezTo>
                  <a:pt x="5348" y="8792"/>
                  <a:pt x="5315" y="8770"/>
                  <a:pt x="5308" y="8756"/>
                </a:cubicBezTo>
                <a:cubicBezTo>
                  <a:pt x="5283" y="8706"/>
                  <a:pt x="5280" y="8741"/>
                  <a:pt x="5234" y="8756"/>
                </a:cubicBezTo>
                <a:cubicBezTo>
                  <a:pt x="5198" y="8768"/>
                  <a:pt x="5159" y="8792"/>
                  <a:pt x="5135" y="8830"/>
                </a:cubicBezTo>
                <a:cubicBezTo>
                  <a:pt x="5095" y="8893"/>
                  <a:pt x="5090" y="8937"/>
                  <a:pt x="5060" y="9004"/>
                </a:cubicBezTo>
                <a:cubicBezTo>
                  <a:pt x="5043" y="9041"/>
                  <a:pt x="5001" y="9138"/>
                  <a:pt x="5011" y="9178"/>
                </a:cubicBezTo>
                <a:cubicBezTo>
                  <a:pt x="5028" y="9242"/>
                  <a:pt x="5038" y="9281"/>
                  <a:pt x="5085" y="9327"/>
                </a:cubicBezTo>
                <a:cubicBezTo>
                  <a:pt x="5143" y="9383"/>
                  <a:pt x="5183" y="9396"/>
                  <a:pt x="5259" y="9401"/>
                </a:cubicBezTo>
                <a:cubicBezTo>
                  <a:pt x="5305" y="9404"/>
                  <a:pt x="5346" y="9413"/>
                  <a:pt x="5358" y="9376"/>
                </a:cubicBezTo>
              </a:path>
              <a:path w="11288" h="1465">
                <a:moveTo>
                  <a:pt x="5705" y="8260"/>
                </a:moveTo>
                <a:cubicBezTo>
                  <a:pt x="5743" y="8231"/>
                  <a:pt x="5756" y="8235"/>
                  <a:pt x="5804" y="8235"/>
                </a:cubicBezTo>
                <a:cubicBezTo>
                  <a:pt x="5858" y="8235"/>
                  <a:pt x="5988" y="8256"/>
                  <a:pt x="6003" y="8210"/>
                </a:cubicBezTo>
              </a:path>
              <a:path w="11288" h="1465">
                <a:moveTo>
                  <a:pt x="5705" y="8334"/>
                </a:moveTo>
                <a:cubicBezTo>
                  <a:pt x="5688" y="8392"/>
                  <a:pt x="5659" y="8426"/>
                  <a:pt x="5655" y="8458"/>
                </a:cubicBezTo>
                <a:cubicBezTo>
                  <a:pt x="5655" y="8483"/>
                  <a:pt x="5655" y="8491"/>
                  <a:pt x="5655" y="8508"/>
                </a:cubicBezTo>
                <a:cubicBezTo>
                  <a:pt x="5686" y="8508"/>
                  <a:pt x="5722" y="8500"/>
                  <a:pt x="5730" y="8483"/>
                </a:cubicBezTo>
                <a:cubicBezTo>
                  <a:pt x="5738" y="8468"/>
                  <a:pt x="5793" y="8428"/>
                  <a:pt x="5829" y="8434"/>
                </a:cubicBezTo>
                <a:cubicBezTo>
                  <a:pt x="5872" y="8441"/>
                  <a:pt x="5920" y="8475"/>
                  <a:pt x="5953" y="8508"/>
                </a:cubicBezTo>
                <a:cubicBezTo>
                  <a:pt x="5970" y="8525"/>
                  <a:pt x="6030" y="8610"/>
                  <a:pt x="6028" y="8632"/>
                </a:cubicBezTo>
                <a:cubicBezTo>
                  <a:pt x="6016" y="8742"/>
                  <a:pt x="5970" y="8698"/>
                  <a:pt x="5904" y="8731"/>
                </a:cubicBezTo>
                <a:cubicBezTo>
                  <a:pt x="5853" y="8757"/>
                  <a:pt x="5818" y="8756"/>
                  <a:pt x="5755" y="8756"/>
                </a:cubicBezTo>
                <a:cubicBezTo>
                  <a:pt x="5753" y="8756"/>
                  <a:pt x="5655" y="8730"/>
                  <a:pt x="5655" y="8731"/>
                </a:cubicBezTo>
                <a:cubicBezTo>
                  <a:pt x="5663" y="8739"/>
                  <a:pt x="5672" y="8748"/>
                  <a:pt x="5680" y="8756"/>
                </a:cubicBezTo>
              </a:path>
              <a:path w="11288" h="1465">
                <a:moveTo>
                  <a:pt x="6226" y="8806"/>
                </a:moveTo>
                <a:cubicBezTo>
                  <a:pt x="6257" y="8860"/>
                  <a:pt x="6276" y="8906"/>
                  <a:pt x="6300" y="8954"/>
                </a:cubicBezTo>
                <a:cubicBezTo>
                  <a:pt x="6329" y="9013"/>
                  <a:pt x="6387" y="9050"/>
                  <a:pt x="6424" y="9103"/>
                </a:cubicBezTo>
                <a:cubicBezTo>
                  <a:pt x="6464" y="9159"/>
                  <a:pt x="6473" y="9226"/>
                  <a:pt x="6499" y="9277"/>
                </a:cubicBezTo>
                <a:cubicBezTo>
                  <a:pt x="6513" y="9305"/>
                  <a:pt x="6568" y="9342"/>
                  <a:pt x="6573" y="9351"/>
                </a:cubicBezTo>
                <a:cubicBezTo>
                  <a:pt x="6593" y="9390"/>
                  <a:pt x="6573" y="9357"/>
                  <a:pt x="6573" y="9327"/>
                </a:cubicBezTo>
              </a:path>
              <a:path w="11288" h="1465">
                <a:moveTo>
                  <a:pt x="6648" y="8756"/>
                </a:moveTo>
                <a:cubicBezTo>
                  <a:pt x="6615" y="8846"/>
                  <a:pt x="6569" y="8898"/>
                  <a:pt x="6524" y="8979"/>
                </a:cubicBezTo>
                <a:cubicBezTo>
                  <a:pt x="6480" y="9059"/>
                  <a:pt x="6428" y="9105"/>
                  <a:pt x="6375" y="9178"/>
                </a:cubicBezTo>
                <a:cubicBezTo>
                  <a:pt x="6329" y="9242"/>
                  <a:pt x="6296" y="9312"/>
                  <a:pt x="6251" y="9376"/>
                </a:cubicBezTo>
                <a:cubicBezTo>
                  <a:pt x="6222" y="9417"/>
                  <a:pt x="6178" y="9437"/>
                  <a:pt x="6152" y="9475"/>
                </a:cubicBezTo>
                <a:cubicBezTo>
                  <a:pt x="6141" y="9491"/>
                  <a:pt x="6092" y="9543"/>
                  <a:pt x="6102" y="9550"/>
                </a:cubicBezTo>
                <a:cubicBezTo>
                  <a:pt x="6110" y="9550"/>
                  <a:pt x="6119" y="9550"/>
                  <a:pt x="6127" y="9550"/>
                </a:cubicBezTo>
              </a:path>
              <a:path w="11288" h="1465">
                <a:moveTo>
                  <a:pt x="7268" y="8434"/>
                </a:moveTo>
                <a:cubicBezTo>
                  <a:pt x="7297" y="8471"/>
                  <a:pt x="7293" y="8485"/>
                  <a:pt x="7293" y="8533"/>
                </a:cubicBezTo>
                <a:cubicBezTo>
                  <a:pt x="7293" y="8831"/>
                  <a:pt x="7466" y="9623"/>
                  <a:pt x="7268" y="9401"/>
                </a:cubicBezTo>
                <a:cubicBezTo>
                  <a:pt x="7260" y="9384"/>
                  <a:pt x="7251" y="9368"/>
                  <a:pt x="7243" y="9351"/>
                </a:cubicBezTo>
              </a:path>
              <a:path w="11288" h="1465">
                <a:moveTo>
                  <a:pt x="7020" y="8855"/>
                </a:moveTo>
                <a:cubicBezTo>
                  <a:pt x="7167" y="8839"/>
                  <a:pt x="7295" y="8830"/>
                  <a:pt x="7441" y="8830"/>
                </a:cubicBezTo>
                <a:cubicBezTo>
                  <a:pt x="7507" y="8830"/>
                  <a:pt x="7524" y="8830"/>
                  <a:pt x="7565" y="8830"/>
                </a:cubicBezTo>
              </a:path>
              <a:path w="11288" h="1465">
                <a:moveTo>
                  <a:pt x="7987" y="8855"/>
                </a:moveTo>
                <a:cubicBezTo>
                  <a:pt x="7936" y="8868"/>
                  <a:pt x="7903" y="8915"/>
                  <a:pt x="7863" y="8954"/>
                </a:cubicBezTo>
                <a:cubicBezTo>
                  <a:pt x="7807" y="9010"/>
                  <a:pt x="7774" y="9058"/>
                  <a:pt x="7739" y="9128"/>
                </a:cubicBezTo>
                <a:cubicBezTo>
                  <a:pt x="7700" y="9205"/>
                  <a:pt x="7706" y="9254"/>
                  <a:pt x="7714" y="9327"/>
                </a:cubicBezTo>
                <a:cubicBezTo>
                  <a:pt x="7722" y="9401"/>
                  <a:pt x="7737" y="9420"/>
                  <a:pt x="7813" y="9426"/>
                </a:cubicBezTo>
                <a:cubicBezTo>
                  <a:pt x="7841" y="9428"/>
                  <a:pt x="7905" y="9380"/>
                  <a:pt x="7913" y="9351"/>
                </a:cubicBezTo>
                <a:cubicBezTo>
                  <a:pt x="7928" y="9301"/>
                  <a:pt x="7959" y="9230"/>
                  <a:pt x="7962" y="9178"/>
                </a:cubicBezTo>
                <a:cubicBezTo>
                  <a:pt x="7966" y="9115"/>
                  <a:pt x="7981" y="9063"/>
                  <a:pt x="7987" y="9004"/>
                </a:cubicBezTo>
                <a:cubicBezTo>
                  <a:pt x="7987" y="8979"/>
                  <a:pt x="7987" y="8971"/>
                  <a:pt x="7987" y="8954"/>
                </a:cubicBezTo>
                <a:cubicBezTo>
                  <a:pt x="7987" y="9030"/>
                  <a:pt x="8000" y="9083"/>
                  <a:pt x="8012" y="9153"/>
                </a:cubicBezTo>
                <a:cubicBezTo>
                  <a:pt x="8021" y="9208"/>
                  <a:pt x="8027" y="9257"/>
                  <a:pt x="8062" y="9302"/>
                </a:cubicBezTo>
                <a:cubicBezTo>
                  <a:pt x="8094" y="9343"/>
                  <a:pt x="8112" y="9351"/>
                  <a:pt x="8161" y="9351"/>
                </a:cubicBezTo>
                <a:cubicBezTo>
                  <a:pt x="8203" y="9351"/>
                  <a:pt x="8202" y="9336"/>
                  <a:pt x="8210" y="9302"/>
                </a:cubicBezTo>
              </a:path>
              <a:path w="11288" h="1465">
                <a:moveTo>
                  <a:pt x="8285" y="8930"/>
                </a:moveTo>
                <a:cubicBezTo>
                  <a:pt x="8308" y="8967"/>
                  <a:pt x="8325" y="9028"/>
                  <a:pt x="8310" y="9079"/>
                </a:cubicBezTo>
                <a:cubicBezTo>
                  <a:pt x="8294" y="9134"/>
                  <a:pt x="8269" y="9190"/>
                  <a:pt x="8285" y="9252"/>
                </a:cubicBezTo>
                <a:cubicBezTo>
                  <a:pt x="8287" y="9260"/>
                  <a:pt x="8310" y="9441"/>
                  <a:pt x="8310" y="9376"/>
                </a:cubicBezTo>
                <a:cubicBezTo>
                  <a:pt x="8310" y="9263"/>
                  <a:pt x="8317" y="9161"/>
                  <a:pt x="8334" y="9054"/>
                </a:cubicBezTo>
                <a:cubicBezTo>
                  <a:pt x="8344" y="8994"/>
                  <a:pt x="8371" y="8935"/>
                  <a:pt x="8409" y="8880"/>
                </a:cubicBezTo>
                <a:cubicBezTo>
                  <a:pt x="8446" y="8826"/>
                  <a:pt x="8501" y="8830"/>
                  <a:pt x="8558" y="8830"/>
                </a:cubicBezTo>
                <a:cubicBezTo>
                  <a:pt x="8667" y="8830"/>
                  <a:pt x="8691" y="8900"/>
                  <a:pt x="8731" y="8979"/>
                </a:cubicBezTo>
                <a:cubicBezTo>
                  <a:pt x="8767" y="9051"/>
                  <a:pt x="8736" y="9106"/>
                  <a:pt x="8756" y="9178"/>
                </a:cubicBezTo>
                <a:cubicBezTo>
                  <a:pt x="8770" y="9229"/>
                  <a:pt x="8792" y="9282"/>
                  <a:pt x="8806" y="9327"/>
                </a:cubicBezTo>
                <a:cubicBezTo>
                  <a:pt x="8806" y="9335"/>
                  <a:pt x="8806" y="9343"/>
                  <a:pt x="8806" y="9351"/>
                </a:cubicBezTo>
              </a:path>
              <a:path w="11288" h="1465">
                <a:moveTo>
                  <a:pt x="8954" y="8905"/>
                </a:moveTo>
                <a:cubicBezTo>
                  <a:pt x="9001" y="8971"/>
                  <a:pt x="9046" y="9022"/>
                  <a:pt x="9103" y="9079"/>
                </a:cubicBezTo>
                <a:cubicBezTo>
                  <a:pt x="9166" y="9142"/>
                  <a:pt x="9213" y="9213"/>
                  <a:pt x="9277" y="9277"/>
                </a:cubicBezTo>
                <a:cubicBezTo>
                  <a:pt x="9305" y="9305"/>
                  <a:pt x="9394" y="9433"/>
                  <a:pt x="9426" y="9376"/>
                </a:cubicBezTo>
                <a:cubicBezTo>
                  <a:pt x="9426" y="9368"/>
                  <a:pt x="9426" y="9359"/>
                  <a:pt x="9426" y="9351"/>
                </a:cubicBezTo>
              </a:path>
              <a:path w="11288" h="1465">
                <a:moveTo>
                  <a:pt x="9401" y="8855"/>
                </a:moveTo>
                <a:cubicBezTo>
                  <a:pt x="9347" y="8963"/>
                  <a:pt x="9298" y="9011"/>
                  <a:pt x="9227" y="9103"/>
                </a:cubicBezTo>
                <a:cubicBezTo>
                  <a:pt x="9167" y="9180"/>
                  <a:pt x="9101" y="9287"/>
                  <a:pt x="9029" y="9351"/>
                </a:cubicBezTo>
                <a:cubicBezTo>
                  <a:pt x="8984" y="9391"/>
                  <a:pt x="8950" y="9430"/>
                  <a:pt x="8905" y="9475"/>
                </a:cubicBezTo>
                <a:cubicBezTo>
                  <a:pt x="8876" y="9504"/>
                  <a:pt x="8874" y="9556"/>
                  <a:pt x="8855" y="9500"/>
                </a:cubicBezTo>
              </a:path>
              <a:path w="11288" h="1465">
                <a:moveTo>
                  <a:pt x="10120" y="8086"/>
                </a:moveTo>
                <a:cubicBezTo>
                  <a:pt x="10065" y="8143"/>
                  <a:pt x="10016" y="8196"/>
                  <a:pt x="9971" y="8260"/>
                </a:cubicBezTo>
                <a:cubicBezTo>
                  <a:pt x="9835" y="8450"/>
                  <a:pt x="9770" y="8493"/>
                  <a:pt x="9674" y="8731"/>
                </a:cubicBezTo>
                <a:cubicBezTo>
                  <a:pt x="9642" y="8809"/>
                  <a:pt x="9593" y="8947"/>
                  <a:pt x="9599" y="9029"/>
                </a:cubicBezTo>
                <a:cubicBezTo>
                  <a:pt x="9607" y="9137"/>
                  <a:pt x="9655" y="9209"/>
                  <a:pt x="9699" y="9302"/>
                </a:cubicBezTo>
                <a:cubicBezTo>
                  <a:pt x="9737" y="9382"/>
                  <a:pt x="9799" y="9430"/>
                  <a:pt x="9872" y="9475"/>
                </a:cubicBezTo>
              </a:path>
              <a:path w="11288" h="1465">
                <a:moveTo>
                  <a:pt x="10567" y="8607"/>
                </a:moveTo>
                <a:cubicBezTo>
                  <a:pt x="10555" y="8558"/>
                  <a:pt x="10542" y="8558"/>
                  <a:pt x="10492" y="8558"/>
                </a:cubicBezTo>
                <a:cubicBezTo>
                  <a:pt x="10417" y="8558"/>
                  <a:pt x="10380" y="8561"/>
                  <a:pt x="10319" y="8607"/>
                </a:cubicBezTo>
                <a:cubicBezTo>
                  <a:pt x="10287" y="8631"/>
                  <a:pt x="10213" y="8674"/>
                  <a:pt x="10195" y="8706"/>
                </a:cubicBezTo>
                <a:cubicBezTo>
                  <a:pt x="10172" y="8747"/>
                  <a:pt x="10160" y="8768"/>
                  <a:pt x="10195" y="8806"/>
                </a:cubicBezTo>
                <a:cubicBezTo>
                  <a:pt x="10228" y="8842"/>
                  <a:pt x="10298" y="8857"/>
                  <a:pt x="10344" y="8880"/>
                </a:cubicBezTo>
                <a:cubicBezTo>
                  <a:pt x="10419" y="8918"/>
                  <a:pt x="10475" y="8959"/>
                  <a:pt x="10542" y="9004"/>
                </a:cubicBezTo>
                <a:cubicBezTo>
                  <a:pt x="10599" y="9042"/>
                  <a:pt x="10663" y="9060"/>
                  <a:pt x="10691" y="9128"/>
                </a:cubicBezTo>
                <a:cubicBezTo>
                  <a:pt x="10704" y="9158"/>
                  <a:pt x="10688" y="9233"/>
                  <a:pt x="10666" y="9252"/>
                </a:cubicBezTo>
                <a:cubicBezTo>
                  <a:pt x="10628" y="9284"/>
                  <a:pt x="10539" y="9300"/>
                  <a:pt x="10492" y="9302"/>
                </a:cubicBezTo>
                <a:cubicBezTo>
                  <a:pt x="10429" y="9305"/>
                  <a:pt x="10349" y="9270"/>
                  <a:pt x="10344" y="9203"/>
                </a:cubicBezTo>
                <a:cubicBezTo>
                  <a:pt x="10340" y="9143"/>
                  <a:pt x="10367" y="9106"/>
                  <a:pt x="10393" y="9054"/>
                </a:cubicBezTo>
              </a:path>
              <a:path w="11288" h="1465">
                <a:moveTo>
                  <a:pt x="10815" y="8880"/>
                </a:moveTo>
                <a:cubicBezTo>
                  <a:pt x="10910" y="8916"/>
                  <a:pt x="10940" y="8894"/>
                  <a:pt x="11038" y="8880"/>
                </a:cubicBezTo>
                <a:cubicBezTo>
                  <a:pt x="11128" y="8867"/>
                  <a:pt x="11219" y="8837"/>
                  <a:pt x="11286" y="8781"/>
                </a:cubicBezTo>
                <a:cubicBezTo>
                  <a:pt x="11335" y="8740"/>
                  <a:pt x="11336" y="8719"/>
                  <a:pt x="11336" y="8657"/>
                </a:cubicBezTo>
                <a:cubicBezTo>
                  <a:pt x="11336" y="8599"/>
                  <a:pt x="11340" y="8547"/>
                  <a:pt x="11286" y="8508"/>
                </a:cubicBezTo>
                <a:cubicBezTo>
                  <a:pt x="11239" y="8474"/>
                  <a:pt x="11172" y="8444"/>
                  <a:pt x="11112" y="8458"/>
                </a:cubicBezTo>
                <a:cubicBezTo>
                  <a:pt x="10990" y="8486"/>
                  <a:pt x="10978" y="8522"/>
                  <a:pt x="10914" y="8607"/>
                </a:cubicBezTo>
                <a:cubicBezTo>
                  <a:pt x="10824" y="8726"/>
                  <a:pt x="10840" y="8799"/>
                  <a:pt x="10840" y="8954"/>
                </a:cubicBezTo>
                <a:cubicBezTo>
                  <a:pt x="10840" y="9053"/>
                  <a:pt x="10878" y="9123"/>
                  <a:pt x="10939" y="9203"/>
                </a:cubicBezTo>
                <a:cubicBezTo>
                  <a:pt x="10961" y="9232"/>
                  <a:pt x="11076" y="9304"/>
                  <a:pt x="11112" y="9302"/>
                </a:cubicBezTo>
                <a:cubicBezTo>
                  <a:pt x="11159" y="9299"/>
                  <a:pt x="11206" y="9277"/>
                  <a:pt x="11261" y="9277"/>
                </a:cubicBezTo>
              </a:path>
              <a:path w="11288" h="1465">
                <a:moveTo>
                  <a:pt x="11782" y="8756"/>
                </a:moveTo>
                <a:cubicBezTo>
                  <a:pt x="11782" y="8721"/>
                  <a:pt x="11788" y="8608"/>
                  <a:pt x="11757" y="8582"/>
                </a:cubicBezTo>
                <a:cubicBezTo>
                  <a:pt x="11728" y="8557"/>
                  <a:pt x="11673" y="8558"/>
                  <a:pt x="11633" y="8558"/>
                </a:cubicBezTo>
                <a:cubicBezTo>
                  <a:pt x="11597" y="8558"/>
                  <a:pt x="11531" y="8601"/>
                  <a:pt x="11509" y="8632"/>
                </a:cubicBezTo>
                <a:cubicBezTo>
                  <a:pt x="11456" y="8708"/>
                  <a:pt x="11438" y="8816"/>
                  <a:pt x="11435" y="8905"/>
                </a:cubicBezTo>
                <a:cubicBezTo>
                  <a:pt x="11431" y="9009"/>
                  <a:pt x="11477" y="9105"/>
                  <a:pt x="11509" y="9203"/>
                </a:cubicBezTo>
                <a:cubicBezTo>
                  <a:pt x="11541" y="9300"/>
                  <a:pt x="11567" y="9323"/>
                  <a:pt x="11658" y="9351"/>
                </a:cubicBezTo>
                <a:cubicBezTo>
                  <a:pt x="11763" y="9383"/>
                  <a:pt x="11804" y="9370"/>
                  <a:pt x="11906" y="9327"/>
                </a:cubicBezTo>
                <a:cubicBezTo>
                  <a:pt x="11968" y="9301"/>
                  <a:pt x="12038" y="9232"/>
                  <a:pt x="12080" y="9178"/>
                </a:cubicBezTo>
                <a:cubicBezTo>
                  <a:pt x="12096" y="9153"/>
                  <a:pt x="12113" y="9128"/>
                  <a:pt x="12129" y="9103"/>
                </a:cubicBezTo>
              </a:path>
              <a:path w="11288" h="1465">
                <a:moveTo>
                  <a:pt x="12030" y="8483"/>
                </a:moveTo>
                <a:cubicBezTo>
                  <a:pt x="12016" y="8428"/>
                  <a:pt x="12008" y="8366"/>
                  <a:pt x="12080" y="8334"/>
                </a:cubicBezTo>
                <a:cubicBezTo>
                  <a:pt x="12144" y="8306"/>
                  <a:pt x="12245" y="8345"/>
                  <a:pt x="12303" y="8359"/>
                </a:cubicBezTo>
                <a:cubicBezTo>
                  <a:pt x="12321" y="8363"/>
                  <a:pt x="12394" y="8428"/>
                  <a:pt x="12402" y="8458"/>
                </a:cubicBezTo>
                <a:cubicBezTo>
                  <a:pt x="12418" y="8516"/>
                  <a:pt x="12384" y="8587"/>
                  <a:pt x="12353" y="8632"/>
                </a:cubicBezTo>
                <a:cubicBezTo>
                  <a:pt x="12321" y="8678"/>
                  <a:pt x="12280" y="8751"/>
                  <a:pt x="12229" y="8781"/>
                </a:cubicBezTo>
                <a:cubicBezTo>
                  <a:pt x="12204" y="8781"/>
                  <a:pt x="12196" y="8781"/>
                  <a:pt x="12204" y="8806"/>
                </a:cubicBezTo>
                <a:cubicBezTo>
                  <a:pt x="12264" y="8806"/>
                  <a:pt x="12305" y="8791"/>
                  <a:pt x="12353" y="8781"/>
                </a:cubicBezTo>
                <a:cubicBezTo>
                  <a:pt x="12409" y="8770"/>
                  <a:pt x="12470" y="8760"/>
                  <a:pt x="12526" y="8756"/>
                </a:cubicBezTo>
                <a:cubicBezTo>
                  <a:pt x="12534" y="8756"/>
                  <a:pt x="12543" y="8756"/>
                  <a:pt x="12551" y="8756"/>
                </a:cubicBezTo>
              </a:path>
              <a:path w="11288" h="1465">
                <a:moveTo>
                  <a:pt x="12774" y="8384"/>
                </a:moveTo>
                <a:cubicBezTo>
                  <a:pt x="12824" y="8434"/>
                  <a:pt x="12834" y="8470"/>
                  <a:pt x="12874" y="8533"/>
                </a:cubicBezTo>
                <a:cubicBezTo>
                  <a:pt x="12935" y="8628"/>
                  <a:pt x="12968" y="8733"/>
                  <a:pt x="13022" y="8830"/>
                </a:cubicBezTo>
                <a:cubicBezTo>
                  <a:pt x="13068" y="8912"/>
                  <a:pt x="13104" y="8994"/>
                  <a:pt x="13146" y="9079"/>
                </a:cubicBezTo>
                <a:cubicBezTo>
                  <a:pt x="13169" y="9125"/>
                  <a:pt x="13196" y="9190"/>
                  <a:pt x="13221" y="9227"/>
                </a:cubicBezTo>
                <a:cubicBezTo>
                  <a:pt x="13261" y="9285"/>
                  <a:pt x="13246" y="9227"/>
                  <a:pt x="13246" y="9203"/>
                </a:cubicBezTo>
              </a:path>
              <a:path w="11288" h="1465">
                <a:moveTo>
                  <a:pt x="13320" y="8285"/>
                </a:moveTo>
                <a:cubicBezTo>
                  <a:pt x="13289" y="8326"/>
                  <a:pt x="13266" y="8382"/>
                  <a:pt x="13246" y="8434"/>
                </a:cubicBezTo>
                <a:cubicBezTo>
                  <a:pt x="13202" y="8546"/>
                  <a:pt x="13144" y="8647"/>
                  <a:pt x="13097" y="8756"/>
                </a:cubicBezTo>
                <a:cubicBezTo>
                  <a:pt x="13055" y="8854"/>
                  <a:pt x="13001" y="8936"/>
                  <a:pt x="12948" y="9029"/>
                </a:cubicBezTo>
                <a:cubicBezTo>
                  <a:pt x="12922" y="9075"/>
                  <a:pt x="12869" y="9133"/>
                  <a:pt x="12849" y="9178"/>
                </a:cubicBezTo>
                <a:cubicBezTo>
                  <a:pt x="12849" y="9203"/>
                  <a:pt x="12849" y="9211"/>
                  <a:pt x="12849" y="9178"/>
                </a:cubicBezTo>
              </a:path>
              <a:path w="11288" h="1465">
                <a:moveTo>
                  <a:pt x="13742" y="8706"/>
                </a:moveTo>
                <a:cubicBezTo>
                  <a:pt x="13798" y="8751"/>
                  <a:pt x="13829" y="8764"/>
                  <a:pt x="13891" y="8781"/>
                </a:cubicBezTo>
                <a:cubicBezTo>
                  <a:pt x="13977" y="8805"/>
                  <a:pt x="14051" y="8842"/>
                  <a:pt x="14139" y="8855"/>
                </a:cubicBezTo>
                <a:cubicBezTo>
                  <a:pt x="14255" y="8872"/>
                  <a:pt x="14378" y="8855"/>
                  <a:pt x="14486" y="8830"/>
                </a:cubicBezTo>
                <a:cubicBezTo>
                  <a:pt x="14531" y="8820"/>
                  <a:pt x="14569" y="8816"/>
                  <a:pt x="14610" y="8806"/>
                </a:cubicBezTo>
              </a:path>
              <a:path w="11288" h="1465">
                <a:moveTo>
                  <a:pt x="14908" y="8210"/>
                </a:moveTo>
                <a:cubicBezTo>
                  <a:pt x="14908" y="8157"/>
                  <a:pt x="14884" y="8241"/>
                  <a:pt x="14883" y="8260"/>
                </a:cubicBezTo>
                <a:cubicBezTo>
                  <a:pt x="14869" y="8451"/>
                  <a:pt x="14888" y="8645"/>
                  <a:pt x="14908" y="8830"/>
                </a:cubicBezTo>
                <a:cubicBezTo>
                  <a:pt x="14928" y="9016"/>
                  <a:pt x="14908" y="9214"/>
                  <a:pt x="14908" y="940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983200" y="2776680"/>
            <a:ext cx="204840" cy="715680"/>
          </a:xfrm>
          <a:custGeom>
            <a:avLst/>
            <a:gdLst/>
            <a:ahLst/>
            <a:rect l="l" t="t" r="r" b="b"/>
            <a:pathLst>
              <a:path w="572" h="1986">
                <a:moveTo>
                  <a:pt x="16718" y="7714"/>
                </a:moveTo>
                <a:cubicBezTo>
                  <a:pt x="16767" y="7751"/>
                  <a:pt x="16774" y="7763"/>
                  <a:pt x="16818" y="7813"/>
                </a:cubicBezTo>
                <a:cubicBezTo>
                  <a:pt x="16910" y="7918"/>
                  <a:pt x="16998" y="8025"/>
                  <a:pt x="17041" y="8161"/>
                </a:cubicBezTo>
                <a:cubicBezTo>
                  <a:pt x="17115" y="8392"/>
                  <a:pt x="17184" y="8613"/>
                  <a:pt x="17190" y="8855"/>
                </a:cubicBezTo>
                <a:cubicBezTo>
                  <a:pt x="17195" y="9059"/>
                  <a:pt x="17180" y="9247"/>
                  <a:pt x="17066" y="9426"/>
                </a:cubicBezTo>
                <a:cubicBezTo>
                  <a:pt x="17016" y="9504"/>
                  <a:pt x="16920" y="9558"/>
                  <a:pt x="16842" y="9599"/>
                </a:cubicBezTo>
                <a:cubicBezTo>
                  <a:pt x="16780" y="9632"/>
                  <a:pt x="16710" y="9658"/>
                  <a:pt x="16644" y="9674"/>
                </a:cubicBezTo>
                <a:cubicBezTo>
                  <a:pt x="16621" y="9697"/>
                  <a:pt x="16613" y="9708"/>
                  <a:pt x="16619" y="967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392880" y="2990880"/>
            <a:ext cx="2448000" cy="590400"/>
          </a:xfrm>
          <a:custGeom>
            <a:avLst/>
            <a:gdLst/>
            <a:ahLst/>
            <a:rect l="l" t="t" r="r" b="b"/>
            <a:pathLst>
              <a:path w="6798" h="1638">
                <a:moveTo>
                  <a:pt x="17785" y="8855"/>
                </a:moveTo>
                <a:cubicBezTo>
                  <a:pt x="17876" y="8855"/>
                  <a:pt x="17967" y="8855"/>
                  <a:pt x="18058" y="8855"/>
                </a:cubicBezTo>
              </a:path>
              <a:path w="6798" h="1638">
                <a:moveTo>
                  <a:pt x="17760" y="9079"/>
                </a:moveTo>
                <a:cubicBezTo>
                  <a:pt x="17824" y="9110"/>
                  <a:pt x="17888" y="9142"/>
                  <a:pt x="17959" y="9153"/>
                </a:cubicBezTo>
                <a:cubicBezTo>
                  <a:pt x="18026" y="9153"/>
                  <a:pt x="18059" y="9157"/>
                  <a:pt x="18107" y="9178"/>
                </a:cubicBezTo>
              </a:path>
              <a:path w="6798" h="1638">
                <a:moveTo>
                  <a:pt x="18777" y="8582"/>
                </a:moveTo>
                <a:cubicBezTo>
                  <a:pt x="18687" y="8582"/>
                  <a:pt x="18613" y="8586"/>
                  <a:pt x="18529" y="8607"/>
                </a:cubicBezTo>
                <a:cubicBezTo>
                  <a:pt x="18497" y="8615"/>
                  <a:pt x="18446" y="8646"/>
                  <a:pt x="18430" y="8682"/>
                </a:cubicBezTo>
                <a:cubicBezTo>
                  <a:pt x="18420" y="8704"/>
                  <a:pt x="18388" y="8776"/>
                  <a:pt x="18405" y="8806"/>
                </a:cubicBezTo>
                <a:cubicBezTo>
                  <a:pt x="18440" y="8868"/>
                  <a:pt x="18477" y="8888"/>
                  <a:pt x="18529" y="8930"/>
                </a:cubicBezTo>
                <a:cubicBezTo>
                  <a:pt x="18593" y="8982"/>
                  <a:pt x="18642" y="9045"/>
                  <a:pt x="18703" y="9103"/>
                </a:cubicBezTo>
                <a:cubicBezTo>
                  <a:pt x="18768" y="9165"/>
                  <a:pt x="18833" y="9224"/>
                  <a:pt x="18876" y="9302"/>
                </a:cubicBezTo>
                <a:cubicBezTo>
                  <a:pt x="18911" y="9365"/>
                  <a:pt x="18926" y="9404"/>
                  <a:pt x="18926" y="9475"/>
                </a:cubicBezTo>
                <a:cubicBezTo>
                  <a:pt x="18926" y="9533"/>
                  <a:pt x="18866" y="9546"/>
                  <a:pt x="18827" y="9575"/>
                </a:cubicBezTo>
                <a:cubicBezTo>
                  <a:pt x="18746" y="9635"/>
                  <a:pt x="18662" y="9594"/>
                  <a:pt x="18579" y="9575"/>
                </a:cubicBezTo>
                <a:cubicBezTo>
                  <a:pt x="18516" y="9561"/>
                  <a:pt x="18484" y="9547"/>
                  <a:pt x="18479" y="9475"/>
                </a:cubicBezTo>
                <a:cubicBezTo>
                  <a:pt x="18475" y="9413"/>
                  <a:pt x="18483" y="9383"/>
                  <a:pt x="18504" y="9327"/>
                </a:cubicBezTo>
              </a:path>
              <a:path w="6798" h="1638">
                <a:moveTo>
                  <a:pt x="19000" y="8979"/>
                </a:moveTo>
                <a:cubicBezTo>
                  <a:pt x="19062" y="8979"/>
                  <a:pt x="19116" y="8969"/>
                  <a:pt x="19174" y="8954"/>
                </a:cubicBezTo>
                <a:cubicBezTo>
                  <a:pt x="19256" y="8933"/>
                  <a:pt x="19337" y="8909"/>
                  <a:pt x="19422" y="8905"/>
                </a:cubicBezTo>
                <a:cubicBezTo>
                  <a:pt x="19484" y="8902"/>
                  <a:pt x="19535" y="8878"/>
                  <a:pt x="19596" y="8855"/>
                </a:cubicBezTo>
                <a:cubicBezTo>
                  <a:pt x="19585" y="8800"/>
                  <a:pt x="19577" y="8804"/>
                  <a:pt x="19546" y="8756"/>
                </a:cubicBezTo>
                <a:cubicBezTo>
                  <a:pt x="19503" y="8689"/>
                  <a:pt x="19459" y="8679"/>
                  <a:pt x="19397" y="8632"/>
                </a:cubicBezTo>
                <a:cubicBezTo>
                  <a:pt x="19343" y="8591"/>
                  <a:pt x="19290" y="8573"/>
                  <a:pt x="19224" y="8558"/>
                </a:cubicBezTo>
                <a:cubicBezTo>
                  <a:pt x="19190" y="8550"/>
                  <a:pt x="19096" y="8607"/>
                  <a:pt x="19075" y="8632"/>
                </a:cubicBezTo>
                <a:cubicBezTo>
                  <a:pt x="19017" y="8700"/>
                  <a:pt x="19021" y="8779"/>
                  <a:pt x="19000" y="8855"/>
                </a:cubicBezTo>
                <a:cubicBezTo>
                  <a:pt x="18978" y="8934"/>
                  <a:pt x="18984" y="9064"/>
                  <a:pt x="19000" y="9153"/>
                </a:cubicBezTo>
                <a:cubicBezTo>
                  <a:pt x="19016" y="9241"/>
                  <a:pt x="19066" y="9407"/>
                  <a:pt x="19124" y="9475"/>
                </a:cubicBezTo>
                <a:cubicBezTo>
                  <a:pt x="19167" y="9525"/>
                  <a:pt x="19230" y="9564"/>
                  <a:pt x="19298" y="9575"/>
                </a:cubicBezTo>
                <a:cubicBezTo>
                  <a:pt x="19356" y="9585"/>
                  <a:pt x="19444" y="9548"/>
                  <a:pt x="19496" y="9525"/>
                </a:cubicBezTo>
                <a:cubicBezTo>
                  <a:pt x="19546" y="9500"/>
                  <a:pt x="19563" y="9492"/>
                  <a:pt x="19596" y="9475"/>
                </a:cubicBezTo>
              </a:path>
              <a:path w="6798" h="1638">
                <a:moveTo>
                  <a:pt x="20117" y="8731"/>
                </a:moveTo>
                <a:cubicBezTo>
                  <a:pt x="20117" y="8682"/>
                  <a:pt x="20122" y="8631"/>
                  <a:pt x="20067" y="8607"/>
                </a:cubicBezTo>
                <a:cubicBezTo>
                  <a:pt x="20030" y="8590"/>
                  <a:pt x="19992" y="8571"/>
                  <a:pt x="19943" y="8582"/>
                </a:cubicBezTo>
                <a:cubicBezTo>
                  <a:pt x="19845" y="8604"/>
                  <a:pt x="19800" y="8689"/>
                  <a:pt x="19745" y="8756"/>
                </a:cubicBezTo>
                <a:cubicBezTo>
                  <a:pt x="19684" y="8830"/>
                  <a:pt x="19635" y="8904"/>
                  <a:pt x="19621" y="9004"/>
                </a:cubicBezTo>
                <a:cubicBezTo>
                  <a:pt x="19605" y="9115"/>
                  <a:pt x="19607" y="9271"/>
                  <a:pt x="19645" y="9376"/>
                </a:cubicBezTo>
                <a:cubicBezTo>
                  <a:pt x="19671" y="9447"/>
                  <a:pt x="19731" y="9491"/>
                  <a:pt x="19794" y="9525"/>
                </a:cubicBezTo>
                <a:cubicBezTo>
                  <a:pt x="19869" y="9565"/>
                  <a:pt x="19918" y="9551"/>
                  <a:pt x="19993" y="9525"/>
                </a:cubicBezTo>
                <a:cubicBezTo>
                  <a:pt x="20062" y="9501"/>
                  <a:pt x="20157" y="9472"/>
                  <a:pt x="20216" y="9426"/>
                </a:cubicBezTo>
                <a:cubicBezTo>
                  <a:pt x="20270" y="9371"/>
                  <a:pt x="20289" y="9349"/>
                  <a:pt x="20315" y="9302"/>
                </a:cubicBezTo>
              </a:path>
              <a:path w="6798" h="1638">
                <a:moveTo>
                  <a:pt x="20365" y="8334"/>
                </a:moveTo>
                <a:cubicBezTo>
                  <a:pt x="20404" y="8344"/>
                  <a:pt x="20419" y="8359"/>
                  <a:pt x="20464" y="8359"/>
                </a:cubicBezTo>
                <a:cubicBezTo>
                  <a:pt x="20522" y="8359"/>
                  <a:pt x="20580" y="8359"/>
                  <a:pt x="20638" y="8359"/>
                </a:cubicBezTo>
                <a:cubicBezTo>
                  <a:pt x="20583" y="8316"/>
                  <a:pt x="20558" y="8310"/>
                  <a:pt x="20489" y="8310"/>
                </a:cubicBezTo>
                <a:cubicBezTo>
                  <a:pt x="20423" y="8310"/>
                  <a:pt x="20393" y="8317"/>
                  <a:pt x="20340" y="8334"/>
                </a:cubicBezTo>
                <a:cubicBezTo>
                  <a:pt x="20275" y="8355"/>
                  <a:pt x="20315" y="8364"/>
                  <a:pt x="20290" y="8409"/>
                </a:cubicBezTo>
                <a:cubicBezTo>
                  <a:pt x="20256" y="8471"/>
                  <a:pt x="20270" y="8448"/>
                  <a:pt x="20290" y="8508"/>
                </a:cubicBezTo>
                <a:cubicBezTo>
                  <a:pt x="20290" y="8533"/>
                  <a:pt x="20290" y="8541"/>
                  <a:pt x="20315" y="8533"/>
                </a:cubicBezTo>
                <a:cubicBezTo>
                  <a:pt x="20315" y="8473"/>
                  <a:pt x="20324" y="8485"/>
                  <a:pt x="20365" y="8458"/>
                </a:cubicBezTo>
                <a:cubicBezTo>
                  <a:pt x="20388" y="8443"/>
                  <a:pt x="20430" y="8416"/>
                  <a:pt x="20464" y="8434"/>
                </a:cubicBezTo>
                <a:cubicBezTo>
                  <a:pt x="20497" y="8452"/>
                  <a:pt x="20540" y="8473"/>
                  <a:pt x="20563" y="8508"/>
                </a:cubicBezTo>
                <a:cubicBezTo>
                  <a:pt x="20596" y="8559"/>
                  <a:pt x="20588" y="8599"/>
                  <a:pt x="20588" y="8657"/>
                </a:cubicBezTo>
                <a:cubicBezTo>
                  <a:pt x="20588" y="8701"/>
                  <a:pt x="20565" y="8750"/>
                  <a:pt x="20538" y="8781"/>
                </a:cubicBezTo>
                <a:cubicBezTo>
                  <a:pt x="20492" y="8832"/>
                  <a:pt x="20418" y="8860"/>
                  <a:pt x="20365" y="8830"/>
                </a:cubicBezTo>
                <a:cubicBezTo>
                  <a:pt x="20318" y="8803"/>
                  <a:pt x="20344" y="8785"/>
                  <a:pt x="20365" y="8756"/>
                </a:cubicBezTo>
              </a:path>
              <a:path w="6798" h="1638">
                <a:moveTo>
                  <a:pt x="20861" y="8582"/>
                </a:moveTo>
                <a:cubicBezTo>
                  <a:pt x="20861" y="8659"/>
                  <a:pt x="20885" y="8708"/>
                  <a:pt x="20910" y="8781"/>
                </a:cubicBezTo>
                <a:cubicBezTo>
                  <a:pt x="20946" y="8886"/>
                  <a:pt x="20996" y="8976"/>
                  <a:pt x="21034" y="9079"/>
                </a:cubicBezTo>
                <a:cubicBezTo>
                  <a:pt x="21066" y="9165"/>
                  <a:pt x="21094" y="9245"/>
                  <a:pt x="21134" y="9327"/>
                </a:cubicBezTo>
                <a:cubicBezTo>
                  <a:pt x="21162" y="9383"/>
                  <a:pt x="21162" y="9406"/>
                  <a:pt x="21208" y="9451"/>
                </a:cubicBezTo>
                <a:cubicBezTo>
                  <a:pt x="21253" y="9495"/>
                  <a:pt x="21258" y="9475"/>
                  <a:pt x="21258" y="9426"/>
                </a:cubicBezTo>
              </a:path>
              <a:path w="6798" h="1638">
                <a:moveTo>
                  <a:pt x="21357" y="8582"/>
                </a:moveTo>
                <a:cubicBezTo>
                  <a:pt x="21307" y="8715"/>
                  <a:pt x="21273" y="8863"/>
                  <a:pt x="21233" y="9004"/>
                </a:cubicBezTo>
                <a:cubicBezTo>
                  <a:pt x="21196" y="9135"/>
                  <a:pt x="21135" y="9250"/>
                  <a:pt x="21084" y="9376"/>
                </a:cubicBezTo>
                <a:cubicBezTo>
                  <a:pt x="21058" y="9441"/>
                  <a:pt x="21010" y="9574"/>
                  <a:pt x="20960" y="9624"/>
                </a:cubicBezTo>
                <a:cubicBezTo>
                  <a:pt x="20956" y="9627"/>
                  <a:pt x="20833" y="9742"/>
                  <a:pt x="20910" y="9674"/>
                </a:cubicBezTo>
                <a:cubicBezTo>
                  <a:pt x="20918" y="9666"/>
                  <a:pt x="20927" y="9657"/>
                  <a:pt x="20935" y="9649"/>
                </a:cubicBezTo>
              </a:path>
              <a:path w="6798" h="1638">
                <a:moveTo>
                  <a:pt x="22151" y="8781"/>
                </a:moveTo>
                <a:cubicBezTo>
                  <a:pt x="22151" y="8756"/>
                  <a:pt x="22151" y="8748"/>
                  <a:pt x="22151" y="8731"/>
                </a:cubicBezTo>
                <a:cubicBezTo>
                  <a:pt x="22111" y="8718"/>
                  <a:pt x="22141" y="8719"/>
                  <a:pt x="22101" y="8706"/>
                </a:cubicBezTo>
              </a:path>
              <a:path w="6798" h="1638">
                <a:moveTo>
                  <a:pt x="21977" y="8384"/>
                </a:moveTo>
                <a:cubicBezTo>
                  <a:pt x="21961" y="8446"/>
                  <a:pt x="21952" y="8482"/>
                  <a:pt x="21952" y="8558"/>
                </a:cubicBezTo>
                <a:cubicBezTo>
                  <a:pt x="21952" y="8743"/>
                  <a:pt x="21962" y="8923"/>
                  <a:pt x="21977" y="9103"/>
                </a:cubicBezTo>
                <a:cubicBezTo>
                  <a:pt x="21986" y="9212"/>
                  <a:pt x="21997" y="9319"/>
                  <a:pt x="22002" y="9426"/>
                </a:cubicBezTo>
                <a:cubicBezTo>
                  <a:pt x="22006" y="9508"/>
                  <a:pt x="22002" y="9592"/>
                  <a:pt x="22002" y="9674"/>
                </a:cubicBezTo>
                <a:cubicBezTo>
                  <a:pt x="21962" y="9661"/>
                  <a:pt x="21977" y="9655"/>
                  <a:pt x="21977" y="9599"/>
                </a:cubicBezTo>
              </a:path>
              <a:path w="6798" h="1638">
                <a:moveTo>
                  <a:pt x="21630" y="9079"/>
                </a:moveTo>
                <a:cubicBezTo>
                  <a:pt x="21689" y="9019"/>
                  <a:pt x="21716" y="9029"/>
                  <a:pt x="21803" y="9029"/>
                </a:cubicBezTo>
                <a:cubicBezTo>
                  <a:pt x="21980" y="9029"/>
                  <a:pt x="22291" y="8987"/>
                  <a:pt x="22423" y="9054"/>
                </a:cubicBezTo>
                <a:cubicBezTo>
                  <a:pt x="22431" y="9054"/>
                  <a:pt x="22440" y="9054"/>
                  <a:pt x="22448" y="9054"/>
                </a:cubicBezTo>
              </a:path>
              <a:path w="6798" h="1638">
                <a:moveTo>
                  <a:pt x="22796" y="8855"/>
                </a:moveTo>
                <a:cubicBezTo>
                  <a:pt x="22741" y="8788"/>
                  <a:pt x="22717" y="8753"/>
                  <a:pt x="22647" y="8706"/>
                </a:cubicBezTo>
                <a:cubicBezTo>
                  <a:pt x="22579" y="8660"/>
                  <a:pt x="22468" y="8668"/>
                  <a:pt x="22399" y="8706"/>
                </a:cubicBezTo>
                <a:cubicBezTo>
                  <a:pt x="22259" y="8783"/>
                  <a:pt x="22241" y="8833"/>
                  <a:pt x="22200" y="8979"/>
                </a:cubicBezTo>
                <a:cubicBezTo>
                  <a:pt x="22165" y="9104"/>
                  <a:pt x="22179" y="9226"/>
                  <a:pt x="22200" y="9351"/>
                </a:cubicBezTo>
                <a:cubicBezTo>
                  <a:pt x="22215" y="9440"/>
                  <a:pt x="22253" y="9565"/>
                  <a:pt x="22324" y="9624"/>
                </a:cubicBezTo>
                <a:cubicBezTo>
                  <a:pt x="22391" y="9679"/>
                  <a:pt x="22466" y="9674"/>
                  <a:pt x="22547" y="9674"/>
                </a:cubicBezTo>
                <a:cubicBezTo>
                  <a:pt x="22638" y="9674"/>
                  <a:pt x="22668" y="9635"/>
                  <a:pt x="22721" y="9575"/>
                </a:cubicBezTo>
                <a:cubicBezTo>
                  <a:pt x="22777" y="9512"/>
                  <a:pt x="22832" y="9415"/>
                  <a:pt x="22845" y="9327"/>
                </a:cubicBezTo>
                <a:cubicBezTo>
                  <a:pt x="22860" y="9226"/>
                  <a:pt x="22824" y="9128"/>
                  <a:pt x="22820" y="9029"/>
                </a:cubicBezTo>
                <a:cubicBezTo>
                  <a:pt x="22817" y="8957"/>
                  <a:pt x="22800" y="8926"/>
                  <a:pt x="22796" y="8855"/>
                </a:cubicBezTo>
                <a:cubicBezTo>
                  <a:pt x="22796" y="8847"/>
                  <a:pt x="22796" y="8838"/>
                  <a:pt x="22796" y="8830"/>
                </a:cubicBezTo>
                <a:cubicBezTo>
                  <a:pt x="22802" y="8905"/>
                  <a:pt x="22806" y="8981"/>
                  <a:pt x="22820" y="9054"/>
                </a:cubicBezTo>
                <a:cubicBezTo>
                  <a:pt x="22843" y="9178"/>
                  <a:pt x="22849" y="9303"/>
                  <a:pt x="22870" y="9426"/>
                </a:cubicBezTo>
                <a:cubicBezTo>
                  <a:pt x="22888" y="9535"/>
                  <a:pt x="22932" y="9639"/>
                  <a:pt x="22944" y="9748"/>
                </a:cubicBezTo>
                <a:cubicBezTo>
                  <a:pt x="22952" y="9821"/>
                  <a:pt x="22946" y="9861"/>
                  <a:pt x="22969" y="9922"/>
                </a:cubicBezTo>
                <a:cubicBezTo>
                  <a:pt x="22969" y="9840"/>
                  <a:pt x="22948" y="9779"/>
                  <a:pt x="22944" y="9699"/>
                </a:cubicBezTo>
                <a:cubicBezTo>
                  <a:pt x="22937" y="9548"/>
                  <a:pt x="22955" y="9398"/>
                  <a:pt x="22969" y="9252"/>
                </a:cubicBezTo>
                <a:cubicBezTo>
                  <a:pt x="22978" y="9160"/>
                  <a:pt x="22983" y="9064"/>
                  <a:pt x="23019" y="8979"/>
                </a:cubicBezTo>
                <a:cubicBezTo>
                  <a:pt x="23043" y="8922"/>
                  <a:pt x="23083" y="8836"/>
                  <a:pt x="23143" y="8806"/>
                </a:cubicBezTo>
                <a:cubicBezTo>
                  <a:pt x="23200" y="8777"/>
                  <a:pt x="23256" y="8780"/>
                  <a:pt x="23316" y="8806"/>
                </a:cubicBezTo>
                <a:cubicBezTo>
                  <a:pt x="23420" y="8851"/>
                  <a:pt x="23420" y="8893"/>
                  <a:pt x="23490" y="8979"/>
                </a:cubicBezTo>
                <a:cubicBezTo>
                  <a:pt x="23569" y="9076"/>
                  <a:pt x="23583" y="9179"/>
                  <a:pt x="23614" y="9302"/>
                </a:cubicBezTo>
                <a:cubicBezTo>
                  <a:pt x="23640" y="9405"/>
                  <a:pt x="23652" y="9521"/>
                  <a:pt x="23664" y="9624"/>
                </a:cubicBezTo>
                <a:cubicBezTo>
                  <a:pt x="23674" y="9713"/>
                  <a:pt x="23660" y="9814"/>
                  <a:pt x="23688" y="9872"/>
                </a:cubicBezTo>
                <a:cubicBezTo>
                  <a:pt x="23688" y="9864"/>
                  <a:pt x="23688" y="9855"/>
                  <a:pt x="23688" y="9847"/>
                </a:cubicBezTo>
              </a:path>
              <a:path w="6798" h="1638">
                <a:moveTo>
                  <a:pt x="23540" y="8508"/>
                </a:moveTo>
                <a:cubicBezTo>
                  <a:pt x="23607" y="8457"/>
                  <a:pt x="23693" y="8417"/>
                  <a:pt x="23788" y="8434"/>
                </a:cubicBezTo>
                <a:cubicBezTo>
                  <a:pt x="23858" y="8446"/>
                  <a:pt x="23930" y="8458"/>
                  <a:pt x="23986" y="8508"/>
                </a:cubicBezTo>
                <a:cubicBezTo>
                  <a:pt x="24018" y="8537"/>
                  <a:pt x="24056" y="8565"/>
                  <a:pt x="24061" y="8607"/>
                </a:cubicBezTo>
                <a:cubicBezTo>
                  <a:pt x="24064" y="8633"/>
                  <a:pt x="24033" y="8691"/>
                  <a:pt x="24011" y="8706"/>
                </a:cubicBezTo>
                <a:cubicBezTo>
                  <a:pt x="23969" y="8735"/>
                  <a:pt x="23905" y="8772"/>
                  <a:pt x="23862" y="8781"/>
                </a:cubicBezTo>
                <a:cubicBezTo>
                  <a:pt x="23845" y="8781"/>
                  <a:pt x="23829" y="8781"/>
                  <a:pt x="23812" y="8781"/>
                </a:cubicBezTo>
                <a:cubicBezTo>
                  <a:pt x="23886" y="8781"/>
                  <a:pt x="23942" y="8790"/>
                  <a:pt x="24011" y="8806"/>
                </a:cubicBezTo>
                <a:cubicBezTo>
                  <a:pt x="24063" y="8818"/>
                  <a:pt x="24158" y="8845"/>
                  <a:pt x="24185" y="8905"/>
                </a:cubicBezTo>
                <a:cubicBezTo>
                  <a:pt x="24213" y="8967"/>
                  <a:pt x="24195" y="8980"/>
                  <a:pt x="24185" y="9029"/>
                </a:cubicBezTo>
                <a:cubicBezTo>
                  <a:pt x="24170" y="9100"/>
                  <a:pt x="24152" y="9112"/>
                  <a:pt x="24085" y="9153"/>
                </a:cubicBezTo>
                <a:cubicBezTo>
                  <a:pt x="24034" y="9184"/>
                  <a:pt x="23970" y="9200"/>
                  <a:pt x="23912" y="9203"/>
                </a:cubicBezTo>
                <a:cubicBezTo>
                  <a:pt x="23851" y="9206"/>
                  <a:pt x="23814" y="9168"/>
                  <a:pt x="23763" y="9153"/>
                </a:cubicBezTo>
                <a:cubicBezTo>
                  <a:pt x="23712" y="9138"/>
                  <a:pt x="23715" y="9149"/>
                  <a:pt x="23738" y="9103"/>
                </a:cubicBezTo>
              </a:path>
              <a:path w="6798" h="1638">
                <a:moveTo>
                  <a:pt x="24234" y="9079"/>
                </a:moveTo>
                <a:cubicBezTo>
                  <a:pt x="24276" y="9183"/>
                  <a:pt x="24321" y="9330"/>
                  <a:pt x="24383" y="9426"/>
                </a:cubicBezTo>
                <a:cubicBezTo>
                  <a:pt x="24441" y="9517"/>
                  <a:pt x="24448" y="9610"/>
                  <a:pt x="24482" y="9723"/>
                </a:cubicBezTo>
                <a:cubicBezTo>
                  <a:pt x="24499" y="9780"/>
                  <a:pt x="24526" y="9845"/>
                  <a:pt x="24532" y="9897"/>
                </a:cubicBezTo>
                <a:cubicBezTo>
                  <a:pt x="24537" y="9942"/>
                  <a:pt x="24577" y="9930"/>
                  <a:pt x="24557" y="9922"/>
                </a:cubicBezTo>
                <a:cubicBezTo>
                  <a:pt x="24549" y="9922"/>
                  <a:pt x="24540" y="9922"/>
                  <a:pt x="24532" y="992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500200" y="3419640"/>
            <a:ext cx="3911760" cy="545760"/>
          </a:xfrm>
          <a:custGeom>
            <a:avLst/>
            <a:gdLst/>
            <a:ahLst/>
            <a:rect l="l" t="t" r="r" b="b"/>
            <a:pathLst>
              <a:path w="10866" h="1514">
                <a:moveTo>
                  <a:pt x="7293" y="9897"/>
                </a:moveTo>
                <a:cubicBezTo>
                  <a:pt x="7282" y="9863"/>
                  <a:pt x="7254" y="9868"/>
                  <a:pt x="7243" y="9847"/>
                </a:cubicBezTo>
                <a:cubicBezTo>
                  <a:pt x="7210" y="9784"/>
                  <a:pt x="7143" y="9837"/>
                  <a:pt x="7094" y="9847"/>
                </a:cubicBezTo>
                <a:cubicBezTo>
                  <a:pt x="7028" y="9860"/>
                  <a:pt x="7019" y="9873"/>
                  <a:pt x="6970" y="9922"/>
                </a:cubicBezTo>
                <a:cubicBezTo>
                  <a:pt x="6924" y="9968"/>
                  <a:pt x="6956" y="9982"/>
                  <a:pt x="6995" y="10021"/>
                </a:cubicBezTo>
                <a:cubicBezTo>
                  <a:pt x="7047" y="10073"/>
                  <a:pt x="7132" y="10107"/>
                  <a:pt x="7193" y="10145"/>
                </a:cubicBezTo>
                <a:cubicBezTo>
                  <a:pt x="7231" y="10169"/>
                  <a:pt x="7372" y="10233"/>
                  <a:pt x="7392" y="10269"/>
                </a:cubicBezTo>
                <a:cubicBezTo>
                  <a:pt x="7424" y="10326"/>
                  <a:pt x="7405" y="10388"/>
                  <a:pt x="7367" y="10443"/>
                </a:cubicBezTo>
                <a:cubicBezTo>
                  <a:pt x="7329" y="10497"/>
                  <a:pt x="7280" y="10514"/>
                  <a:pt x="7218" y="10517"/>
                </a:cubicBezTo>
                <a:cubicBezTo>
                  <a:pt x="7172" y="10520"/>
                  <a:pt x="7045" y="10542"/>
                  <a:pt x="7020" y="10492"/>
                </a:cubicBezTo>
                <a:cubicBezTo>
                  <a:pt x="6999" y="10451"/>
                  <a:pt x="7057" y="10388"/>
                  <a:pt x="7069" y="10368"/>
                </a:cubicBezTo>
              </a:path>
              <a:path w="10866" h="1514">
                <a:moveTo>
                  <a:pt x="7590" y="10071"/>
                </a:moveTo>
                <a:cubicBezTo>
                  <a:pt x="7655" y="10119"/>
                  <a:pt x="7704" y="10140"/>
                  <a:pt x="7789" y="10145"/>
                </a:cubicBezTo>
                <a:cubicBezTo>
                  <a:pt x="7861" y="10149"/>
                  <a:pt x="7950" y="10158"/>
                  <a:pt x="8012" y="10120"/>
                </a:cubicBezTo>
                <a:cubicBezTo>
                  <a:pt x="8070" y="10085"/>
                  <a:pt x="8063" y="10066"/>
                  <a:pt x="8037" y="10021"/>
                </a:cubicBezTo>
                <a:cubicBezTo>
                  <a:pt x="8002" y="9959"/>
                  <a:pt x="7951" y="9931"/>
                  <a:pt x="7888" y="9897"/>
                </a:cubicBezTo>
                <a:cubicBezTo>
                  <a:pt x="7815" y="9858"/>
                  <a:pt x="7705" y="9862"/>
                  <a:pt x="7640" y="9922"/>
                </a:cubicBezTo>
                <a:cubicBezTo>
                  <a:pt x="7578" y="9980"/>
                  <a:pt x="7590" y="10096"/>
                  <a:pt x="7590" y="10170"/>
                </a:cubicBezTo>
                <a:cubicBezTo>
                  <a:pt x="7590" y="10278"/>
                  <a:pt x="7625" y="10357"/>
                  <a:pt x="7689" y="10443"/>
                </a:cubicBezTo>
                <a:cubicBezTo>
                  <a:pt x="7735" y="10505"/>
                  <a:pt x="7821" y="10492"/>
                  <a:pt x="7888" y="10492"/>
                </a:cubicBezTo>
              </a:path>
              <a:path w="10866" h="1514">
                <a:moveTo>
                  <a:pt x="8310" y="10021"/>
                </a:moveTo>
                <a:cubicBezTo>
                  <a:pt x="8302" y="10004"/>
                  <a:pt x="8293" y="9988"/>
                  <a:pt x="8285" y="9971"/>
                </a:cubicBezTo>
                <a:cubicBezTo>
                  <a:pt x="8247" y="9980"/>
                  <a:pt x="8210" y="10009"/>
                  <a:pt x="8186" y="10046"/>
                </a:cubicBezTo>
                <a:cubicBezTo>
                  <a:pt x="8142" y="10115"/>
                  <a:pt x="8115" y="10189"/>
                  <a:pt x="8111" y="10269"/>
                </a:cubicBezTo>
                <a:cubicBezTo>
                  <a:pt x="8104" y="10409"/>
                  <a:pt x="8112" y="10423"/>
                  <a:pt x="8235" y="10492"/>
                </a:cubicBezTo>
                <a:cubicBezTo>
                  <a:pt x="8285" y="10520"/>
                  <a:pt x="8376" y="10533"/>
                  <a:pt x="8434" y="10517"/>
                </a:cubicBezTo>
                <a:cubicBezTo>
                  <a:pt x="8490" y="10501"/>
                  <a:pt x="8561" y="10453"/>
                  <a:pt x="8607" y="10418"/>
                </a:cubicBezTo>
                <a:cubicBezTo>
                  <a:pt x="8615" y="10410"/>
                  <a:pt x="8624" y="10401"/>
                  <a:pt x="8632" y="10393"/>
                </a:cubicBezTo>
              </a:path>
              <a:path w="10866" h="1514">
                <a:moveTo>
                  <a:pt x="8756" y="9798"/>
                </a:moveTo>
                <a:cubicBezTo>
                  <a:pt x="8809" y="9771"/>
                  <a:pt x="8846" y="9748"/>
                  <a:pt x="8905" y="9748"/>
                </a:cubicBezTo>
                <a:cubicBezTo>
                  <a:pt x="8938" y="9748"/>
                  <a:pt x="8971" y="9748"/>
                  <a:pt x="9004" y="9748"/>
                </a:cubicBezTo>
                <a:cubicBezTo>
                  <a:pt x="8991" y="9788"/>
                  <a:pt x="8956" y="9773"/>
                  <a:pt x="8905" y="9773"/>
                </a:cubicBezTo>
                <a:cubicBezTo>
                  <a:pt x="8851" y="9773"/>
                  <a:pt x="8800" y="9814"/>
                  <a:pt x="8756" y="9823"/>
                </a:cubicBezTo>
                <a:cubicBezTo>
                  <a:pt x="8700" y="9834"/>
                  <a:pt x="8676" y="9839"/>
                  <a:pt x="8657" y="9897"/>
                </a:cubicBezTo>
                <a:cubicBezTo>
                  <a:pt x="8648" y="9923"/>
                  <a:pt x="8690" y="9977"/>
                  <a:pt x="8706" y="9996"/>
                </a:cubicBezTo>
                <a:cubicBezTo>
                  <a:pt x="8723" y="10016"/>
                  <a:pt x="8777" y="10013"/>
                  <a:pt x="8806" y="9996"/>
                </a:cubicBezTo>
                <a:cubicBezTo>
                  <a:pt x="8826" y="9985"/>
                  <a:pt x="8882" y="9917"/>
                  <a:pt x="8905" y="9922"/>
                </a:cubicBezTo>
                <a:cubicBezTo>
                  <a:pt x="8950" y="9932"/>
                  <a:pt x="9034" y="9964"/>
                  <a:pt x="9079" y="9996"/>
                </a:cubicBezTo>
                <a:cubicBezTo>
                  <a:pt x="9104" y="10013"/>
                  <a:pt x="9194" y="10085"/>
                  <a:pt x="9178" y="10120"/>
                </a:cubicBezTo>
                <a:cubicBezTo>
                  <a:pt x="9164" y="10151"/>
                  <a:pt x="9115" y="10228"/>
                  <a:pt x="9079" y="10244"/>
                </a:cubicBezTo>
                <a:cubicBezTo>
                  <a:pt x="9032" y="10265"/>
                  <a:pt x="8983" y="10269"/>
                  <a:pt x="8930" y="10269"/>
                </a:cubicBezTo>
                <a:cubicBezTo>
                  <a:pt x="8895" y="10269"/>
                  <a:pt x="8882" y="10260"/>
                  <a:pt x="8880" y="10220"/>
                </a:cubicBezTo>
              </a:path>
              <a:path w="10866" h="1514">
                <a:moveTo>
                  <a:pt x="9426" y="10021"/>
                </a:moveTo>
                <a:cubicBezTo>
                  <a:pt x="9495" y="10114"/>
                  <a:pt x="9548" y="10234"/>
                  <a:pt x="9624" y="10319"/>
                </a:cubicBezTo>
                <a:cubicBezTo>
                  <a:pt x="9640" y="10337"/>
                  <a:pt x="9691" y="10412"/>
                  <a:pt x="9699" y="10418"/>
                </a:cubicBezTo>
                <a:cubicBezTo>
                  <a:pt x="9723" y="10418"/>
                  <a:pt x="9732" y="10418"/>
                  <a:pt x="9748" y="10418"/>
                </a:cubicBezTo>
              </a:path>
              <a:path w="10866" h="1514">
                <a:moveTo>
                  <a:pt x="9748" y="9872"/>
                </a:moveTo>
                <a:cubicBezTo>
                  <a:pt x="9696" y="9951"/>
                  <a:pt x="9701" y="10030"/>
                  <a:pt x="9674" y="10120"/>
                </a:cubicBezTo>
                <a:cubicBezTo>
                  <a:pt x="9648" y="10207"/>
                  <a:pt x="9618" y="10313"/>
                  <a:pt x="9575" y="10393"/>
                </a:cubicBezTo>
                <a:cubicBezTo>
                  <a:pt x="9538" y="10463"/>
                  <a:pt x="9489" y="10524"/>
                  <a:pt x="9451" y="10592"/>
                </a:cubicBezTo>
              </a:path>
              <a:path w="10866" h="1514">
                <a:moveTo>
                  <a:pt x="10195" y="9748"/>
                </a:moveTo>
                <a:lnTo>
                  <a:pt x="10195" y="9723"/>
                </a:lnTo>
                <a:lnTo>
                  <a:pt x="10195" y="9798"/>
                </a:lnTo>
                <a:lnTo>
                  <a:pt x="10220" y="9847"/>
                </a:lnTo>
                <a:lnTo>
                  <a:pt x="10244" y="9947"/>
                </a:lnTo>
                <a:lnTo>
                  <a:pt x="10244" y="10021"/>
                </a:lnTo>
                <a:lnTo>
                  <a:pt x="10269" y="10120"/>
                </a:lnTo>
                <a:lnTo>
                  <a:pt x="10269" y="10220"/>
                </a:lnTo>
                <a:lnTo>
                  <a:pt x="10269" y="10294"/>
                </a:lnTo>
                <a:lnTo>
                  <a:pt x="10269" y="10393"/>
                </a:lnTo>
                <a:lnTo>
                  <a:pt x="10269" y="10443"/>
                </a:lnTo>
                <a:lnTo>
                  <a:pt x="10269" y="10517"/>
                </a:lnTo>
                <a:lnTo>
                  <a:pt x="10269" y="10542"/>
                </a:lnTo>
                <a:lnTo>
                  <a:pt x="10269" y="10567"/>
                </a:lnTo>
                <a:lnTo>
                  <a:pt x="10269" y="10592"/>
                </a:lnTo>
                <a:lnTo>
                  <a:pt x="10244" y="10592"/>
                </a:lnTo>
                <a:lnTo>
                  <a:pt x="10244" y="10567"/>
                </a:lnTo>
                <a:lnTo>
                  <a:pt x="10244" y="10542"/>
                </a:lnTo>
                <a:lnTo>
                  <a:pt x="10220" y="10492"/>
                </a:lnTo>
                <a:lnTo>
                  <a:pt x="10195" y="10443"/>
                </a:lnTo>
                <a:lnTo>
                  <a:pt x="10195" y="10368"/>
                </a:lnTo>
              </a:path>
              <a:path w="10866" h="1514">
                <a:moveTo>
                  <a:pt x="10120" y="10071"/>
                </a:moveTo>
                <a:cubicBezTo>
                  <a:pt x="10192" y="10085"/>
                  <a:pt x="10241" y="10096"/>
                  <a:pt x="10319" y="10096"/>
                </a:cubicBezTo>
                <a:cubicBezTo>
                  <a:pt x="10396" y="10096"/>
                  <a:pt x="10517" y="10103"/>
                  <a:pt x="10592" y="10120"/>
                </a:cubicBezTo>
                <a:cubicBezTo>
                  <a:pt x="10608" y="10128"/>
                  <a:pt x="10625" y="10137"/>
                  <a:pt x="10641" y="10145"/>
                </a:cubicBezTo>
              </a:path>
              <a:path w="10866" h="1514">
                <a:moveTo>
                  <a:pt x="11063" y="10096"/>
                </a:moveTo>
                <a:cubicBezTo>
                  <a:pt x="11079" y="9962"/>
                  <a:pt x="11099" y="9958"/>
                  <a:pt x="11013" y="9872"/>
                </a:cubicBezTo>
                <a:cubicBezTo>
                  <a:pt x="10972" y="9831"/>
                  <a:pt x="10911" y="9839"/>
                  <a:pt x="10864" y="9872"/>
                </a:cubicBezTo>
                <a:cubicBezTo>
                  <a:pt x="10784" y="9928"/>
                  <a:pt x="10730" y="10051"/>
                  <a:pt x="10716" y="10145"/>
                </a:cubicBezTo>
                <a:cubicBezTo>
                  <a:pt x="10701" y="10248"/>
                  <a:pt x="10714" y="10378"/>
                  <a:pt x="10765" y="10468"/>
                </a:cubicBezTo>
                <a:cubicBezTo>
                  <a:pt x="10803" y="10535"/>
                  <a:pt x="10867" y="10517"/>
                  <a:pt x="10914" y="10492"/>
                </a:cubicBezTo>
                <a:cubicBezTo>
                  <a:pt x="10988" y="10453"/>
                  <a:pt x="11029" y="10399"/>
                  <a:pt x="11063" y="10319"/>
                </a:cubicBezTo>
                <a:cubicBezTo>
                  <a:pt x="11098" y="10235"/>
                  <a:pt x="11123" y="10132"/>
                  <a:pt x="11137" y="10046"/>
                </a:cubicBezTo>
                <a:cubicBezTo>
                  <a:pt x="11144" y="10000"/>
                  <a:pt x="11123" y="9963"/>
                  <a:pt x="11112" y="9922"/>
                </a:cubicBezTo>
                <a:cubicBezTo>
                  <a:pt x="11112" y="10042"/>
                  <a:pt x="11125" y="10153"/>
                  <a:pt x="11137" y="10269"/>
                </a:cubicBezTo>
                <a:cubicBezTo>
                  <a:pt x="11146" y="10353"/>
                  <a:pt x="11139" y="10461"/>
                  <a:pt x="11162" y="10542"/>
                </a:cubicBezTo>
                <a:cubicBezTo>
                  <a:pt x="11170" y="10559"/>
                  <a:pt x="11179" y="10575"/>
                  <a:pt x="11187" y="10592"/>
                </a:cubicBezTo>
                <a:cubicBezTo>
                  <a:pt x="11187" y="10723"/>
                  <a:pt x="11187" y="10514"/>
                  <a:pt x="11187" y="10492"/>
                </a:cubicBezTo>
                <a:cubicBezTo>
                  <a:pt x="11187" y="10387"/>
                  <a:pt x="11182" y="10296"/>
                  <a:pt x="11212" y="10195"/>
                </a:cubicBezTo>
                <a:cubicBezTo>
                  <a:pt x="11237" y="10111"/>
                  <a:pt x="11269" y="10006"/>
                  <a:pt x="11336" y="9947"/>
                </a:cubicBezTo>
                <a:cubicBezTo>
                  <a:pt x="11384" y="9905"/>
                  <a:pt x="11480" y="9868"/>
                  <a:pt x="11534" y="9922"/>
                </a:cubicBezTo>
                <a:cubicBezTo>
                  <a:pt x="11601" y="9989"/>
                  <a:pt x="11655" y="10114"/>
                  <a:pt x="11708" y="10195"/>
                </a:cubicBezTo>
                <a:cubicBezTo>
                  <a:pt x="11768" y="10286"/>
                  <a:pt x="11792" y="10361"/>
                  <a:pt x="11807" y="10468"/>
                </a:cubicBezTo>
                <a:cubicBezTo>
                  <a:pt x="11813" y="10512"/>
                  <a:pt x="11794" y="10616"/>
                  <a:pt x="11832" y="10592"/>
                </a:cubicBezTo>
                <a:cubicBezTo>
                  <a:pt x="11840" y="10575"/>
                  <a:pt x="11849" y="10559"/>
                  <a:pt x="11857" y="10542"/>
                </a:cubicBezTo>
              </a:path>
              <a:path w="10866" h="1514">
                <a:moveTo>
                  <a:pt x="11906" y="9872"/>
                </a:moveTo>
                <a:cubicBezTo>
                  <a:pt x="11948" y="10032"/>
                  <a:pt x="11999" y="10155"/>
                  <a:pt x="12055" y="10294"/>
                </a:cubicBezTo>
                <a:cubicBezTo>
                  <a:pt x="12091" y="10385"/>
                  <a:pt x="12111" y="10478"/>
                  <a:pt x="12154" y="10567"/>
                </a:cubicBezTo>
                <a:cubicBezTo>
                  <a:pt x="12178" y="10618"/>
                  <a:pt x="12181" y="10629"/>
                  <a:pt x="12229" y="10641"/>
                </a:cubicBezTo>
                <a:cubicBezTo>
                  <a:pt x="12257" y="10613"/>
                  <a:pt x="12266" y="10600"/>
                  <a:pt x="12254" y="10567"/>
                </a:cubicBezTo>
              </a:path>
              <a:path w="10866" h="1514">
                <a:moveTo>
                  <a:pt x="12278" y="9773"/>
                </a:moveTo>
                <a:cubicBezTo>
                  <a:pt x="12268" y="9896"/>
                  <a:pt x="12241" y="9986"/>
                  <a:pt x="12204" y="10096"/>
                </a:cubicBezTo>
                <a:cubicBezTo>
                  <a:pt x="12165" y="10212"/>
                  <a:pt x="12134" y="10335"/>
                  <a:pt x="12080" y="10443"/>
                </a:cubicBezTo>
                <a:cubicBezTo>
                  <a:pt x="12043" y="10516"/>
                  <a:pt x="11983" y="10592"/>
                  <a:pt x="11956" y="10666"/>
                </a:cubicBezTo>
                <a:cubicBezTo>
                  <a:pt x="11935" y="10723"/>
                  <a:pt x="11975" y="10649"/>
                  <a:pt x="11981" y="10641"/>
                </a:cubicBezTo>
              </a:path>
              <a:path w="10866" h="1514">
                <a:moveTo>
                  <a:pt x="12923" y="9525"/>
                </a:moveTo>
                <a:cubicBezTo>
                  <a:pt x="12864" y="9608"/>
                  <a:pt x="12772" y="9693"/>
                  <a:pt x="12700" y="9773"/>
                </a:cubicBezTo>
                <a:cubicBezTo>
                  <a:pt x="12594" y="9891"/>
                  <a:pt x="12564" y="9965"/>
                  <a:pt x="12526" y="10120"/>
                </a:cubicBezTo>
                <a:cubicBezTo>
                  <a:pt x="12500" y="10226"/>
                  <a:pt x="12469" y="10287"/>
                  <a:pt x="12502" y="10393"/>
                </a:cubicBezTo>
                <a:cubicBezTo>
                  <a:pt x="12531" y="10488"/>
                  <a:pt x="12577" y="10491"/>
                  <a:pt x="12650" y="10542"/>
                </a:cubicBezTo>
                <a:cubicBezTo>
                  <a:pt x="12698" y="10575"/>
                  <a:pt x="12739" y="10567"/>
                  <a:pt x="12799" y="10567"/>
                </a:cubicBezTo>
                <a:cubicBezTo>
                  <a:pt x="12807" y="10567"/>
                  <a:pt x="12816" y="10567"/>
                  <a:pt x="12824" y="10567"/>
                </a:cubicBezTo>
              </a:path>
              <a:path w="10866" h="1514">
                <a:moveTo>
                  <a:pt x="13196" y="9773"/>
                </a:moveTo>
                <a:cubicBezTo>
                  <a:pt x="13196" y="9942"/>
                  <a:pt x="13203" y="10105"/>
                  <a:pt x="13221" y="10269"/>
                </a:cubicBezTo>
                <a:cubicBezTo>
                  <a:pt x="13231" y="10359"/>
                  <a:pt x="13243" y="10454"/>
                  <a:pt x="13246" y="10542"/>
                </a:cubicBezTo>
                <a:cubicBezTo>
                  <a:pt x="13248" y="10592"/>
                  <a:pt x="13246" y="10691"/>
                  <a:pt x="13246" y="10641"/>
                </a:cubicBezTo>
              </a:path>
              <a:path w="10866" h="1514">
                <a:moveTo>
                  <a:pt x="12998" y="10220"/>
                </a:moveTo>
                <a:cubicBezTo>
                  <a:pt x="13076" y="10161"/>
                  <a:pt x="13141" y="10149"/>
                  <a:pt x="13246" y="10145"/>
                </a:cubicBezTo>
                <a:cubicBezTo>
                  <a:pt x="13345" y="10141"/>
                  <a:pt x="13444" y="10145"/>
                  <a:pt x="13543" y="10145"/>
                </a:cubicBezTo>
              </a:path>
              <a:path w="10866" h="1514">
                <a:moveTo>
                  <a:pt x="14015" y="9922"/>
                </a:moveTo>
                <a:cubicBezTo>
                  <a:pt x="14005" y="9902"/>
                  <a:pt x="13978" y="9796"/>
                  <a:pt x="13940" y="9798"/>
                </a:cubicBezTo>
                <a:cubicBezTo>
                  <a:pt x="13814" y="9804"/>
                  <a:pt x="13757" y="9877"/>
                  <a:pt x="13692" y="9971"/>
                </a:cubicBezTo>
                <a:cubicBezTo>
                  <a:pt x="13616" y="10082"/>
                  <a:pt x="13573" y="10157"/>
                  <a:pt x="13568" y="10294"/>
                </a:cubicBezTo>
                <a:cubicBezTo>
                  <a:pt x="13564" y="10392"/>
                  <a:pt x="13583" y="10467"/>
                  <a:pt x="13667" y="10517"/>
                </a:cubicBezTo>
                <a:cubicBezTo>
                  <a:pt x="13747" y="10564"/>
                  <a:pt x="13811" y="10526"/>
                  <a:pt x="13891" y="10492"/>
                </a:cubicBezTo>
                <a:cubicBezTo>
                  <a:pt x="13978" y="10455"/>
                  <a:pt x="14017" y="10369"/>
                  <a:pt x="14064" y="10294"/>
                </a:cubicBezTo>
                <a:cubicBezTo>
                  <a:pt x="14114" y="10213"/>
                  <a:pt x="14114" y="10137"/>
                  <a:pt x="14114" y="10046"/>
                </a:cubicBezTo>
                <a:cubicBezTo>
                  <a:pt x="14114" y="10017"/>
                  <a:pt x="14137" y="9887"/>
                  <a:pt x="14089" y="9872"/>
                </a:cubicBezTo>
                <a:cubicBezTo>
                  <a:pt x="14089" y="9880"/>
                  <a:pt x="14089" y="9889"/>
                  <a:pt x="14089" y="9897"/>
                </a:cubicBezTo>
                <a:cubicBezTo>
                  <a:pt x="14089" y="9990"/>
                  <a:pt x="14110" y="10056"/>
                  <a:pt x="14139" y="10145"/>
                </a:cubicBezTo>
                <a:cubicBezTo>
                  <a:pt x="14177" y="10262"/>
                  <a:pt x="14220" y="10377"/>
                  <a:pt x="14263" y="10492"/>
                </a:cubicBezTo>
                <a:cubicBezTo>
                  <a:pt x="14277" y="10529"/>
                  <a:pt x="14289" y="10612"/>
                  <a:pt x="14312" y="10641"/>
                </a:cubicBezTo>
                <a:cubicBezTo>
                  <a:pt x="14312" y="10633"/>
                  <a:pt x="14312" y="10624"/>
                  <a:pt x="14312" y="10616"/>
                </a:cubicBezTo>
                <a:cubicBezTo>
                  <a:pt x="14268" y="10561"/>
                  <a:pt x="14245" y="10486"/>
                  <a:pt x="14238" y="10418"/>
                </a:cubicBezTo>
                <a:cubicBezTo>
                  <a:pt x="14226" y="10301"/>
                  <a:pt x="14225" y="10234"/>
                  <a:pt x="14238" y="10120"/>
                </a:cubicBezTo>
                <a:cubicBezTo>
                  <a:pt x="14250" y="10012"/>
                  <a:pt x="14287" y="9941"/>
                  <a:pt x="14362" y="9872"/>
                </a:cubicBezTo>
                <a:cubicBezTo>
                  <a:pt x="14473" y="9768"/>
                  <a:pt x="14614" y="9835"/>
                  <a:pt x="14734" y="9922"/>
                </a:cubicBezTo>
                <a:cubicBezTo>
                  <a:pt x="14810" y="9977"/>
                  <a:pt x="14877" y="10135"/>
                  <a:pt x="14908" y="10220"/>
                </a:cubicBezTo>
                <a:cubicBezTo>
                  <a:pt x="14938" y="10302"/>
                  <a:pt x="14952" y="10405"/>
                  <a:pt x="14957" y="10492"/>
                </a:cubicBezTo>
                <a:cubicBezTo>
                  <a:pt x="14961" y="10574"/>
                  <a:pt x="14978" y="10589"/>
                  <a:pt x="14982" y="10592"/>
                </a:cubicBezTo>
              </a:path>
              <a:path w="10866" h="1514">
                <a:moveTo>
                  <a:pt x="15032" y="9550"/>
                </a:moveTo>
                <a:cubicBezTo>
                  <a:pt x="15166" y="9488"/>
                  <a:pt x="15132" y="9504"/>
                  <a:pt x="15255" y="9525"/>
                </a:cubicBezTo>
                <a:cubicBezTo>
                  <a:pt x="15325" y="9537"/>
                  <a:pt x="15352" y="9548"/>
                  <a:pt x="15404" y="9599"/>
                </a:cubicBezTo>
                <a:cubicBezTo>
                  <a:pt x="15437" y="9631"/>
                  <a:pt x="15409" y="9666"/>
                  <a:pt x="15379" y="9699"/>
                </a:cubicBezTo>
                <a:cubicBezTo>
                  <a:pt x="15327" y="9756"/>
                  <a:pt x="15258" y="9807"/>
                  <a:pt x="15205" y="9847"/>
                </a:cubicBezTo>
                <a:cubicBezTo>
                  <a:pt x="15162" y="9880"/>
                  <a:pt x="15119" y="9883"/>
                  <a:pt x="15106" y="9922"/>
                </a:cubicBezTo>
                <a:cubicBezTo>
                  <a:pt x="15158" y="9931"/>
                  <a:pt x="15224" y="9964"/>
                  <a:pt x="15280" y="9947"/>
                </a:cubicBezTo>
                <a:cubicBezTo>
                  <a:pt x="15345" y="9928"/>
                  <a:pt x="15384" y="9922"/>
                  <a:pt x="15453" y="9922"/>
                </a:cubicBezTo>
                <a:cubicBezTo>
                  <a:pt x="15478" y="9922"/>
                  <a:pt x="15486" y="9922"/>
                  <a:pt x="15503" y="9922"/>
                </a:cubicBezTo>
              </a:path>
              <a:path w="10866" h="1514">
                <a:moveTo>
                  <a:pt x="15577" y="9971"/>
                </a:moveTo>
                <a:cubicBezTo>
                  <a:pt x="15625" y="10027"/>
                  <a:pt x="15653" y="10087"/>
                  <a:pt x="15701" y="10145"/>
                </a:cubicBezTo>
                <a:cubicBezTo>
                  <a:pt x="15757" y="10213"/>
                  <a:pt x="15815" y="10281"/>
                  <a:pt x="15875" y="10344"/>
                </a:cubicBezTo>
                <a:cubicBezTo>
                  <a:pt x="15918" y="10390"/>
                  <a:pt x="15976" y="10457"/>
                  <a:pt x="16024" y="10492"/>
                </a:cubicBezTo>
                <a:cubicBezTo>
                  <a:pt x="16042" y="10505"/>
                  <a:pt x="16116" y="10570"/>
                  <a:pt x="16123" y="10567"/>
                </a:cubicBezTo>
                <a:cubicBezTo>
                  <a:pt x="16131" y="10559"/>
                  <a:pt x="16140" y="10550"/>
                  <a:pt x="16148" y="10542"/>
                </a:cubicBezTo>
              </a:path>
              <a:path w="10866" h="1514">
                <a:moveTo>
                  <a:pt x="16073" y="9847"/>
                </a:moveTo>
                <a:cubicBezTo>
                  <a:pt x="16009" y="9949"/>
                  <a:pt x="15983" y="10029"/>
                  <a:pt x="15949" y="10145"/>
                </a:cubicBezTo>
                <a:cubicBezTo>
                  <a:pt x="15912" y="10270"/>
                  <a:pt x="15875" y="10398"/>
                  <a:pt x="15825" y="10517"/>
                </a:cubicBezTo>
                <a:cubicBezTo>
                  <a:pt x="15784" y="10615"/>
                  <a:pt x="15727" y="10711"/>
                  <a:pt x="15701" y="10815"/>
                </a:cubicBezTo>
                <a:cubicBezTo>
                  <a:pt x="15694" y="10843"/>
                  <a:pt x="15652" y="10889"/>
                  <a:pt x="15701" y="10840"/>
                </a:cubicBezTo>
              </a:path>
              <a:path w="10866" h="1514">
                <a:moveTo>
                  <a:pt x="16148" y="9723"/>
                </a:moveTo>
                <a:cubicBezTo>
                  <a:pt x="16244" y="9696"/>
                  <a:pt x="16302" y="9791"/>
                  <a:pt x="16371" y="9872"/>
                </a:cubicBezTo>
                <a:cubicBezTo>
                  <a:pt x="16470" y="9989"/>
                  <a:pt x="16554" y="10120"/>
                  <a:pt x="16644" y="10244"/>
                </a:cubicBezTo>
                <a:cubicBezTo>
                  <a:pt x="16731" y="10364"/>
                  <a:pt x="16774" y="10517"/>
                  <a:pt x="16793" y="10666"/>
                </a:cubicBezTo>
                <a:cubicBezTo>
                  <a:pt x="16804" y="10750"/>
                  <a:pt x="16759" y="10860"/>
                  <a:pt x="16694" y="10914"/>
                </a:cubicBezTo>
                <a:cubicBezTo>
                  <a:pt x="16620" y="10975"/>
                  <a:pt x="16566" y="11008"/>
                  <a:pt x="16470" y="11013"/>
                </a:cubicBezTo>
                <a:cubicBezTo>
                  <a:pt x="16409" y="11016"/>
                  <a:pt x="16367" y="11021"/>
                  <a:pt x="16321" y="10988"/>
                </a:cubicBezTo>
                <a:cubicBezTo>
                  <a:pt x="16313" y="10980"/>
                  <a:pt x="16305" y="10972"/>
                  <a:pt x="16297" y="10964"/>
                </a:cubicBezTo>
              </a:path>
              <a:path w="10866" h="1514">
                <a:moveTo>
                  <a:pt x="17090" y="10120"/>
                </a:moveTo>
                <a:cubicBezTo>
                  <a:pt x="17160" y="10095"/>
                  <a:pt x="17214" y="10096"/>
                  <a:pt x="17289" y="10096"/>
                </a:cubicBezTo>
                <a:cubicBezTo>
                  <a:pt x="17379" y="10096"/>
                  <a:pt x="17453" y="10084"/>
                  <a:pt x="17537" y="10071"/>
                </a:cubicBezTo>
                <a:cubicBezTo>
                  <a:pt x="17578" y="10071"/>
                  <a:pt x="17586" y="10071"/>
                  <a:pt x="17611" y="10071"/>
                </a:cubicBezTo>
              </a:path>
              <a:path w="10866" h="1514">
                <a:moveTo>
                  <a:pt x="17289" y="10418"/>
                </a:moveTo>
                <a:cubicBezTo>
                  <a:pt x="17395" y="10390"/>
                  <a:pt x="17504" y="10355"/>
                  <a:pt x="17611" y="10344"/>
                </a:cubicBezTo>
                <a:cubicBezTo>
                  <a:pt x="17680" y="10337"/>
                  <a:pt x="17742" y="10327"/>
                  <a:pt x="17810" y="1031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661080" y="3510000"/>
            <a:ext cx="223920" cy="249120"/>
          </a:xfrm>
          <a:custGeom>
            <a:avLst/>
            <a:gdLst/>
            <a:ahLst/>
            <a:rect l="l" t="t" r="r" b="b"/>
            <a:pathLst>
              <a:path w="621" h="696">
                <a:moveTo>
                  <a:pt x="18678" y="9748"/>
                </a:moveTo>
                <a:cubicBezTo>
                  <a:pt x="18732" y="9766"/>
                  <a:pt x="18678" y="9780"/>
                  <a:pt x="18703" y="9823"/>
                </a:cubicBezTo>
                <a:cubicBezTo>
                  <a:pt x="18734" y="9877"/>
                  <a:pt x="18769" y="9932"/>
                  <a:pt x="18777" y="9996"/>
                </a:cubicBezTo>
                <a:cubicBezTo>
                  <a:pt x="18787" y="10072"/>
                  <a:pt x="18796" y="10146"/>
                  <a:pt x="18802" y="10220"/>
                </a:cubicBezTo>
                <a:cubicBezTo>
                  <a:pt x="18806" y="10271"/>
                  <a:pt x="18822" y="10301"/>
                  <a:pt x="18827" y="10344"/>
                </a:cubicBezTo>
                <a:cubicBezTo>
                  <a:pt x="18830" y="10368"/>
                  <a:pt x="18827" y="10394"/>
                  <a:pt x="18827" y="10418"/>
                </a:cubicBezTo>
                <a:cubicBezTo>
                  <a:pt x="18789" y="10408"/>
                  <a:pt x="18729" y="10381"/>
                  <a:pt x="18703" y="10344"/>
                </a:cubicBezTo>
                <a:cubicBezTo>
                  <a:pt x="18661" y="10285"/>
                  <a:pt x="18633" y="10268"/>
                  <a:pt x="18579" y="10220"/>
                </a:cubicBezTo>
                <a:cubicBezTo>
                  <a:pt x="18553" y="10197"/>
                  <a:pt x="18529" y="10170"/>
                  <a:pt x="18504" y="10145"/>
                </a:cubicBezTo>
                <a:cubicBezTo>
                  <a:pt x="18514" y="10183"/>
                  <a:pt x="18527" y="10214"/>
                  <a:pt x="18554" y="10244"/>
                </a:cubicBezTo>
                <a:cubicBezTo>
                  <a:pt x="18596" y="10290"/>
                  <a:pt x="18610" y="10321"/>
                  <a:pt x="18653" y="10368"/>
                </a:cubicBezTo>
                <a:cubicBezTo>
                  <a:pt x="18682" y="10400"/>
                  <a:pt x="18737" y="10440"/>
                  <a:pt x="18777" y="10443"/>
                </a:cubicBezTo>
                <a:cubicBezTo>
                  <a:pt x="18831" y="10447"/>
                  <a:pt x="18880" y="10434"/>
                  <a:pt x="18926" y="10418"/>
                </a:cubicBezTo>
                <a:cubicBezTo>
                  <a:pt x="18981" y="10399"/>
                  <a:pt x="19030" y="10334"/>
                  <a:pt x="19075" y="10294"/>
                </a:cubicBezTo>
                <a:cubicBezTo>
                  <a:pt x="19097" y="10272"/>
                  <a:pt x="19102" y="10263"/>
                  <a:pt x="19124" y="1026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803240" y="3848040"/>
            <a:ext cx="6599520" cy="1009800"/>
          </a:xfrm>
          <a:custGeom>
            <a:avLst/>
            <a:gdLst/>
            <a:ahLst/>
            <a:rect l="l" t="t" r="r" b="b"/>
            <a:pathLst>
              <a:path w="18331" h="2804">
                <a:moveTo>
                  <a:pt x="5680" y="11038"/>
                </a:moveTo>
                <a:cubicBezTo>
                  <a:pt x="5734" y="11000"/>
                  <a:pt x="5725" y="11005"/>
                  <a:pt x="5755" y="10964"/>
                </a:cubicBezTo>
                <a:cubicBezTo>
                  <a:pt x="5733" y="10953"/>
                  <a:pt x="5678" y="10919"/>
                  <a:pt x="5655" y="10914"/>
                </a:cubicBezTo>
                <a:cubicBezTo>
                  <a:pt x="5627" y="10908"/>
                  <a:pt x="5498" y="10887"/>
                  <a:pt x="5482" y="10889"/>
                </a:cubicBezTo>
                <a:cubicBezTo>
                  <a:pt x="5387" y="10900"/>
                  <a:pt x="5337" y="10939"/>
                  <a:pt x="5259" y="10988"/>
                </a:cubicBezTo>
                <a:cubicBezTo>
                  <a:pt x="5201" y="11025"/>
                  <a:pt x="5151" y="11089"/>
                  <a:pt x="5135" y="11162"/>
                </a:cubicBezTo>
                <a:cubicBezTo>
                  <a:pt x="5118" y="11239"/>
                  <a:pt x="5109" y="11269"/>
                  <a:pt x="5159" y="11336"/>
                </a:cubicBezTo>
                <a:cubicBezTo>
                  <a:pt x="5217" y="11413"/>
                  <a:pt x="5279" y="11418"/>
                  <a:pt x="5358" y="11460"/>
                </a:cubicBezTo>
                <a:cubicBezTo>
                  <a:pt x="5450" y="11509"/>
                  <a:pt x="5542" y="11554"/>
                  <a:pt x="5631" y="11609"/>
                </a:cubicBezTo>
                <a:cubicBezTo>
                  <a:pt x="5714" y="11661"/>
                  <a:pt x="5801" y="11705"/>
                  <a:pt x="5854" y="11782"/>
                </a:cubicBezTo>
                <a:cubicBezTo>
                  <a:pt x="5900" y="11849"/>
                  <a:pt x="5951" y="11918"/>
                  <a:pt x="5928" y="12005"/>
                </a:cubicBezTo>
                <a:cubicBezTo>
                  <a:pt x="5899" y="12113"/>
                  <a:pt x="5713" y="12257"/>
                  <a:pt x="5631" y="12303"/>
                </a:cubicBezTo>
                <a:cubicBezTo>
                  <a:pt x="5546" y="12351"/>
                  <a:pt x="5428" y="12374"/>
                  <a:pt x="5333" y="12378"/>
                </a:cubicBezTo>
                <a:cubicBezTo>
                  <a:pt x="5244" y="12381"/>
                  <a:pt x="5172" y="12374"/>
                  <a:pt x="5110" y="12303"/>
                </a:cubicBezTo>
                <a:cubicBezTo>
                  <a:pt x="5073" y="12260"/>
                  <a:pt x="5005" y="12165"/>
                  <a:pt x="5011" y="12105"/>
                </a:cubicBezTo>
                <a:cubicBezTo>
                  <a:pt x="5019" y="12088"/>
                  <a:pt x="5027" y="12072"/>
                  <a:pt x="5035" y="12055"/>
                </a:cubicBezTo>
              </a:path>
              <a:path w="18331" h="2804">
                <a:moveTo>
                  <a:pt x="6028" y="11485"/>
                </a:moveTo>
                <a:cubicBezTo>
                  <a:pt x="6099" y="11485"/>
                  <a:pt x="6160" y="11470"/>
                  <a:pt x="6226" y="11460"/>
                </a:cubicBezTo>
                <a:cubicBezTo>
                  <a:pt x="6348" y="11441"/>
                  <a:pt x="6479" y="11454"/>
                  <a:pt x="6598" y="11435"/>
                </a:cubicBezTo>
                <a:cubicBezTo>
                  <a:pt x="6669" y="11424"/>
                  <a:pt x="6748" y="11443"/>
                  <a:pt x="6796" y="11361"/>
                </a:cubicBezTo>
                <a:cubicBezTo>
                  <a:pt x="6817" y="11324"/>
                  <a:pt x="6791" y="11214"/>
                  <a:pt x="6772" y="11187"/>
                </a:cubicBezTo>
                <a:cubicBezTo>
                  <a:pt x="6720" y="11114"/>
                  <a:pt x="6665" y="11068"/>
                  <a:pt x="6598" y="11013"/>
                </a:cubicBezTo>
                <a:cubicBezTo>
                  <a:pt x="6545" y="10970"/>
                  <a:pt x="6472" y="10902"/>
                  <a:pt x="6400" y="10889"/>
                </a:cubicBezTo>
                <a:cubicBezTo>
                  <a:pt x="6327" y="10876"/>
                  <a:pt x="6241" y="10885"/>
                  <a:pt x="6176" y="10914"/>
                </a:cubicBezTo>
                <a:cubicBezTo>
                  <a:pt x="6080" y="10957"/>
                  <a:pt x="6033" y="11040"/>
                  <a:pt x="6003" y="11137"/>
                </a:cubicBezTo>
                <a:cubicBezTo>
                  <a:pt x="5960" y="11273"/>
                  <a:pt x="5942" y="11368"/>
                  <a:pt x="5978" y="11509"/>
                </a:cubicBezTo>
                <a:cubicBezTo>
                  <a:pt x="6009" y="11630"/>
                  <a:pt x="6033" y="11775"/>
                  <a:pt x="6102" y="11881"/>
                </a:cubicBezTo>
                <a:cubicBezTo>
                  <a:pt x="6186" y="12009"/>
                  <a:pt x="6245" y="12123"/>
                  <a:pt x="6400" y="12129"/>
                </a:cubicBezTo>
                <a:cubicBezTo>
                  <a:pt x="6471" y="12132"/>
                  <a:pt x="6510" y="12112"/>
                  <a:pt x="6573" y="12080"/>
                </a:cubicBezTo>
                <a:cubicBezTo>
                  <a:pt x="6638" y="12047"/>
                  <a:pt x="6660" y="12016"/>
                  <a:pt x="6697" y="11956"/>
                </a:cubicBezTo>
              </a:path>
              <a:path w="18331" h="2804">
                <a:moveTo>
                  <a:pt x="7590" y="11137"/>
                </a:moveTo>
                <a:cubicBezTo>
                  <a:pt x="7577" y="11065"/>
                  <a:pt x="7583" y="11033"/>
                  <a:pt x="7516" y="10988"/>
                </a:cubicBezTo>
                <a:cubicBezTo>
                  <a:pt x="7464" y="10953"/>
                  <a:pt x="7403" y="10955"/>
                  <a:pt x="7342" y="10939"/>
                </a:cubicBezTo>
                <a:cubicBezTo>
                  <a:pt x="7233" y="10910"/>
                  <a:pt x="7199" y="10919"/>
                  <a:pt x="7094" y="10964"/>
                </a:cubicBezTo>
                <a:cubicBezTo>
                  <a:pt x="7043" y="10986"/>
                  <a:pt x="6896" y="11092"/>
                  <a:pt x="6871" y="11137"/>
                </a:cubicBezTo>
                <a:cubicBezTo>
                  <a:pt x="6822" y="11224"/>
                  <a:pt x="6758" y="11383"/>
                  <a:pt x="6747" y="11485"/>
                </a:cubicBezTo>
                <a:cubicBezTo>
                  <a:pt x="6734" y="11606"/>
                  <a:pt x="6768" y="11795"/>
                  <a:pt x="6821" y="11906"/>
                </a:cubicBezTo>
                <a:cubicBezTo>
                  <a:pt x="6909" y="12092"/>
                  <a:pt x="6964" y="12143"/>
                  <a:pt x="7144" y="12204"/>
                </a:cubicBezTo>
                <a:cubicBezTo>
                  <a:pt x="7292" y="12254"/>
                  <a:pt x="7435" y="12280"/>
                  <a:pt x="7590" y="12229"/>
                </a:cubicBezTo>
                <a:cubicBezTo>
                  <a:pt x="7672" y="12202"/>
                  <a:pt x="7775" y="12139"/>
                  <a:pt x="7838" y="12080"/>
                </a:cubicBezTo>
                <a:cubicBezTo>
                  <a:pt x="7907" y="12015"/>
                  <a:pt x="7925" y="11942"/>
                  <a:pt x="7962" y="11857"/>
                </a:cubicBezTo>
              </a:path>
              <a:path w="18331" h="2804">
                <a:moveTo>
                  <a:pt x="7987" y="10691"/>
                </a:moveTo>
                <a:cubicBezTo>
                  <a:pt x="8054" y="10691"/>
                  <a:pt x="8073" y="10711"/>
                  <a:pt x="8136" y="10716"/>
                </a:cubicBezTo>
                <a:cubicBezTo>
                  <a:pt x="8193" y="10721"/>
                  <a:pt x="8253" y="10716"/>
                  <a:pt x="8310" y="10716"/>
                </a:cubicBezTo>
                <a:cubicBezTo>
                  <a:pt x="8367" y="10716"/>
                  <a:pt x="8247" y="10694"/>
                  <a:pt x="8235" y="10691"/>
                </a:cubicBezTo>
                <a:cubicBezTo>
                  <a:pt x="8154" y="10671"/>
                  <a:pt x="8010" y="10684"/>
                  <a:pt x="7938" y="10716"/>
                </a:cubicBezTo>
                <a:cubicBezTo>
                  <a:pt x="7898" y="10734"/>
                  <a:pt x="7834" y="10743"/>
                  <a:pt x="7813" y="10790"/>
                </a:cubicBezTo>
                <a:cubicBezTo>
                  <a:pt x="7792" y="10838"/>
                  <a:pt x="7831" y="10876"/>
                  <a:pt x="7838" y="10889"/>
                </a:cubicBezTo>
                <a:cubicBezTo>
                  <a:pt x="7847" y="10908"/>
                  <a:pt x="7875" y="10935"/>
                  <a:pt x="7913" y="10914"/>
                </a:cubicBezTo>
                <a:cubicBezTo>
                  <a:pt x="7973" y="10881"/>
                  <a:pt x="7996" y="10883"/>
                  <a:pt x="8062" y="10914"/>
                </a:cubicBezTo>
                <a:cubicBezTo>
                  <a:pt x="8136" y="10949"/>
                  <a:pt x="8178" y="10980"/>
                  <a:pt x="8235" y="11038"/>
                </a:cubicBezTo>
                <a:cubicBezTo>
                  <a:pt x="8281" y="11084"/>
                  <a:pt x="8296" y="11152"/>
                  <a:pt x="8310" y="11212"/>
                </a:cubicBezTo>
                <a:cubicBezTo>
                  <a:pt x="8319" y="11253"/>
                  <a:pt x="8305" y="11307"/>
                  <a:pt x="8285" y="11336"/>
                </a:cubicBezTo>
                <a:cubicBezTo>
                  <a:pt x="8256" y="11379"/>
                  <a:pt x="8185" y="11424"/>
                  <a:pt x="8136" y="11435"/>
                </a:cubicBezTo>
                <a:cubicBezTo>
                  <a:pt x="8060" y="11452"/>
                  <a:pt x="7982" y="11426"/>
                  <a:pt x="7913" y="11410"/>
                </a:cubicBezTo>
                <a:cubicBezTo>
                  <a:pt x="7863" y="11398"/>
                  <a:pt x="7863" y="11386"/>
                  <a:pt x="7863" y="11336"/>
                </a:cubicBezTo>
              </a:path>
              <a:path w="18331" h="2804">
                <a:moveTo>
                  <a:pt x="8558" y="10914"/>
                </a:moveTo>
                <a:cubicBezTo>
                  <a:pt x="8573" y="11011"/>
                  <a:pt x="8581" y="11070"/>
                  <a:pt x="8632" y="11162"/>
                </a:cubicBezTo>
                <a:cubicBezTo>
                  <a:pt x="8693" y="11272"/>
                  <a:pt x="8770" y="11374"/>
                  <a:pt x="8830" y="11485"/>
                </a:cubicBezTo>
                <a:cubicBezTo>
                  <a:pt x="8896" y="11606"/>
                  <a:pt x="8940" y="11733"/>
                  <a:pt x="9004" y="11857"/>
                </a:cubicBezTo>
                <a:cubicBezTo>
                  <a:pt x="9055" y="11955"/>
                  <a:pt x="9106" y="12061"/>
                  <a:pt x="9153" y="12154"/>
                </a:cubicBezTo>
                <a:cubicBezTo>
                  <a:pt x="9183" y="12215"/>
                  <a:pt x="9219" y="12263"/>
                  <a:pt x="9252" y="12303"/>
                </a:cubicBezTo>
                <a:cubicBezTo>
                  <a:pt x="9270" y="12273"/>
                  <a:pt x="9277" y="12246"/>
                  <a:pt x="9277" y="12179"/>
                </a:cubicBezTo>
                <a:cubicBezTo>
                  <a:pt x="9277" y="12113"/>
                  <a:pt x="9277" y="12096"/>
                  <a:pt x="9277" y="12055"/>
                </a:cubicBezTo>
              </a:path>
              <a:path w="18331" h="2804">
                <a:moveTo>
                  <a:pt x="9252" y="10914"/>
                </a:moveTo>
                <a:cubicBezTo>
                  <a:pt x="9238" y="10946"/>
                  <a:pt x="9242" y="10971"/>
                  <a:pt x="9227" y="11038"/>
                </a:cubicBezTo>
                <a:cubicBezTo>
                  <a:pt x="9204" y="11139"/>
                  <a:pt x="9199" y="11263"/>
                  <a:pt x="9153" y="11361"/>
                </a:cubicBezTo>
                <a:cubicBezTo>
                  <a:pt x="9093" y="11489"/>
                  <a:pt x="9014" y="11609"/>
                  <a:pt x="8954" y="11733"/>
                </a:cubicBezTo>
                <a:cubicBezTo>
                  <a:pt x="8878" y="11890"/>
                  <a:pt x="8807" y="12047"/>
                  <a:pt x="8731" y="12204"/>
                </a:cubicBezTo>
                <a:cubicBezTo>
                  <a:pt x="8720" y="12226"/>
                  <a:pt x="8648" y="12370"/>
                  <a:pt x="8632" y="12378"/>
                </a:cubicBezTo>
                <a:cubicBezTo>
                  <a:pt x="8607" y="12391"/>
                  <a:pt x="8619" y="12353"/>
                  <a:pt x="8632" y="12328"/>
                </a:cubicBezTo>
              </a:path>
              <a:path w="18331" h="2804">
                <a:moveTo>
                  <a:pt x="10046" y="10790"/>
                </a:moveTo>
                <a:cubicBezTo>
                  <a:pt x="10079" y="10844"/>
                  <a:pt x="10110" y="10944"/>
                  <a:pt x="10120" y="11013"/>
                </a:cubicBezTo>
                <a:cubicBezTo>
                  <a:pt x="10139" y="11146"/>
                  <a:pt x="10145" y="11274"/>
                  <a:pt x="10145" y="11410"/>
                </a:cubicBezTo>
                <a:cubicBezTo>
                  <a:pt x="10145" y="11736"/>
                  <a:pt x="10224" y="12168"/>
                  <a:pt x="10120" y="12477"/>
                </a:cubicBezTo>
                <a:cubicBezTo>
                  <a:pt x="10102" y="12532"/>
                  <a:pt x="10120" y="12421"/>
                  <a:pt x="10120" y="12402"/>
                </a:cubicBezTo>
              </a:path>
              <a:path w="18331" h="2804">
                <a:moveTo>
                  <a:pt x="9475" y="11658"/>
                </a:moveTo>
                <a:cubicBezTo>
                  <a:pt x="9459" y="11650"/>
                  <a:pt x="9442" y="11641"/>
                  <a:pt x="9426" y="11633"/>
                </a:cubicBezTo>
                <a:cubicBezTo>
                  <a:pt x="9536" y="11622"/>
                  <a:pt x="9636" y="11609"/>
                  <a:pt x="9748" y="11609"/>
                </a:cubicBezTo>
                <a:cubicBezTo>
                  <a:pt x="9892" y="11609"/>
                  <a:pt x="10028" y="11587"/>
                  <a:pt x="10170" y="11584"/>
                </a:cubicBezTo>
                <a:cubicBezTo>
                  <a:pt x="10305" y="11581"/>
                  <a:pt x="10431" y="11559"/>
                  <a:pt x="10567" y="11559"/>
                </a:cubicBezTo>
                <a:cubicBezTo>
                  <a:pt x="10607" y="11559"/>
                  <a:pt x="10744" y="11525"/>
                  <a:pt x="10765" y="11534"/>
                </a:cubicBezTo>
                <a:cubicBezTo>
                  <a:pt x="10788" y="11557"/>
                  <a:pt x="10792" y="11565"/>
                  <a:pt x="10815" y="11559"/>
                </a:cubicBezTo>
              </a:path>
              <a:path w="18331" h="2804">
                <a:moveTo>
                  <a:pt x="11534" y="11460"/>
                </a:moveTo>
                <a:cubicBezTo>
                  <a:pt x="11505" y="11337"/>
                  <a:pt x="11505" y="11283"/>
                  <a:pt x="11410" y="11212"/>
                </a:cubicBezTo>
                <a:cubicBezTo>
                  <a:pt x="11303" y="11133"/>
                  <a:pt x="11216" y="11104"/>
                  <a:pt x="11088" y="11137"/>
                </a:cubicBezTo>
                <a:cubicBezTo>
                  <a:pt x="10980" y="11165"/>
                  <a:pt x="10875" y="11213"/>
                  <a:pt x="10790" y="11286"/>
                </a:cubicBezTo>
                <a:cubicBezTo>
                  <a:pt x="10696" y="11367"/>
                  <a:pt x="10649" y="11493"/>
                  <a:pt x="10616" y="11609"/>
                </a:cubicBezTo>
                <a:cubicBezTo>
                  <a:pt x="10569" y="11774"/>
                  <a:pt x="10561" y="11936"/>
                  <a:pt x="10616" y="12105"/>
                </a:cubicBezTo>
                <a:cubicBezTo>
                  <a:pt x="10639" y="12175"/>
                  <a:pt x="10731" y="12305"/>
                  <a:pt x="10790" y="12353"/>
                </a:cubicBezTo>
                <a:cubicBezTo>
                  <a:pt x="10855" y="12406"/>
                  <a:pt x="10951" y="12466"/>
                  <a:pt x="11038" y="12452"/>
                </a:cubicBezTo>
                <a:cubicBezTo>
                  <a:pt x="11136" y="12437"/>
                  <a:pt x="11217" y="12368"/>
                  <a:pt x="11286" y="12303"/>
                </a:cubicBezTo>
                <a:cubicBezTo>
                  <a:pt x="11393" y="12202"/>
                  <a:pt x="11478" y="12092"/>
                  <a:pt x="11534" y="11956"/>
                </a:cubicBezTo>
                <a:cubicBezTo>
                  <a:pt x="11570" y="11868"/>
                  <a:pt x="11580" y="11753"/>
                  <a:pt x="11584" y="11658"/>
                </a:cubicBezTo>
                <a:cubicBezTo>
                  <a:pt x="11587" y="11567"/>
                  <a:pt x="11573" y="11486"/>
                  <a:pt x="11559" y="11410"/>
                </a:cubicBezTo>
                <a:cubicBezTo>
                  <a:pt x="11559" y="11402"/>
                  <a:pt x="11559" y="11393"/>
                  <a:pt x="11559" y="11385"/>
                </a:cubicBezTo>
                <a:cubicBezTo>
                  <a:pt x="11541" y="11415"/>
                  <a:pt x="11534" y="11443"/>
                  <a:pt x="11534" y="11509"/>
                </a:cubicBezTo>
                <a:cubicBezTo>
                  <a:pt x="11534" y="11881"/>
                  <a:pt x="11337" y="12900"/>
                  <a:pt x="11559" y="12601"/>
                </a:cubicBezTo>
                <a:cubicBezTo>
                  <a:pt x="11574" y="12581"/>
                  <a:pt x="11581" y="12452"/>
                  <a:pt x="11584" y="12427"/>
                </a:cubicBezTo>
              </a:path>
              <a:path w="18331" h="2804">
                <a:moveTo>
                  <a:pt x="11881" y="11311"/>
                </a:moveTo>
                <a:cubicBezTo>
                  <a:pt x="11881" y="11691"/>
                  <a:pt x="11900" y="12077"/>
                  <a:pt x="11857" y="12452"/>
                </a:cubicBezTo>
                <a:cubicBezTo>
                  <a:pt x="11847" y="12534"/>
                  <a:pt x="11857" y="12567"/>
                  <a:pt x="11857" y="12650"/>
                </a:cubicBezTo>
                <a:cubicBezTo>
                  <a:pt x="11857" y="12579"/>
                  <a:pt x="11839" y="12516"/>
                  <a:pt x="11832" y="12452"/>
                </a:cubicBezTo>
                <a:cubicBezTo>
                  <a:pt x="11820" y="12338"/>
                  <a:pt x="11853" y="12240"/>
                  <a:pt x="11857" y="12129"/>
                </a:cubicBezTo>
                <a:cubicBezTo>
                  <a:pt x="11862" y="11990"/>
                  <a:pt x="11872" y="11871"/>
                  <a:pt x="11906" y="11733"/>
                </a:cubicBezTo>
                <a:cubicBezTo>
                  <a:pt x="11926" y="11652"/>
                  <a:pt x="11955" y="11528"/>
                  <a:pt x="12005" y="11460"/>
                </a:cubicBezTo>
                <a:cubicBezTo>
                  <a:pt x="12058" y="11387"/>
                  <a:pt x="12099" y="11351"/>
                  <a:pt x="12179" y="11311"/>
                </a:cubicBezTo>
                <a:cubicBezTo>
                  <a:pt x="12266" y="11267"/>
                  <a:pt x="12278" y="11296"/>
                  <a:pt x="12353" y="11336"/>
                </a:cubicBezTo>
                <a:cubicBezTo>
                  <a:pt x="12435" y="11379"/>
                  <a:pt x="12538" y="11470"/>
                  <a:pt x="12576" y="11559"/>
                </a:cubicBezTo>
                <a:cubicBezTo>
                  <a:pt x="12637" y="11703"/>
                  <a:pt x="12666" y="11852"/>
                  <a:pt x="12700" y="12005"/>
                </a:cubicBezTo>
                <a:cubicBezTo>
                  <a:pt x="12733" y="12151"/>
                  <a:pt x="12746" y="12303"/>
                  <a:pt x="12750" y="12452"/>
                </a:cubicBezTo>
                <a:cubicBezTo>
                  <a:pt x="12753" y="12570"/>
                  <a:pt x="12766" y="12690"/>
                  <a:pt x="12725" y="12799"/>
                </a:cubicBezTo>
                <a:cubicBezTo>
                  <a:pt x="12706" y="12849"/>
                  <a:pt x="12725" y="12748"/>
                  <a:pt x="12725" y="12725"/>
                </a:cubicBezTo>
              </a:path>
              <a:path w="18331" h="2804">
                <a:moveTo>
                  <a:pt x="12626" y="11162"/>
                </a:moveTo>
                <a:cubicBezTo>
                  <a:pt x="12612" y="11094"/>
                  <a:pt x="12605" y="11032"/>
                  <a:pt x="12700" y="11013"/>
                </a:cubicBezTo>
                <a:cubicBezTo>
                  <a:pt x="12791" y="10995"/>
                  <a:pt x="12888" y="11005"/>
                  <a:pt x="12973" y="11013"/>
                </a:cubicBezTo>
                <a:cubicBezTo>
                  <a:pt x="13032" y="11018"/>
                  <a:pt x="13102" y="11027"/>
                  <a:pt x="13146" y="11063"/>
                </a:cubicBezTo>
                <a:cubicBezTo>
                  <a:pt x="13192" y="11101"/>
                  <a:pt x="13175" y="11168"/>
                  <a:pt x="13146" y="11212"/>
                </a:cubicBezTo>
                <a:cubicBezTo>
                  <a:pt x="13124" y="11245"/>
                  <a:pt x="13011" y="11319"/>
                  <a:pt x="12973" y="11336"/>
                </a:cubicBezTo>
                <a:cubicBezTo>
                  <a:pt x="12948" y="11336"/>
                  <a:pt x="12940" y="11336"/>
                  <a:pt x="12948" y="11361"/>
                </a:cubicBezTo>
                <a:cubicBezTo>
                  <a:pt x="13017" y="11361"/>
                  <a:pt x="13081" y="11368"/>
                  <a:pt x="13146" y="11385"/>
                </a:cubicBezTo>
                <a:cubicBezTo>
                  <a:pt x="13181" y="11394"/>
                  <a:pt x="13317" y="11428"/>
                  <a:pt x="13345" y="11460"/>
                </a:cubicBezTo>
                <a:cubicBezTo>
                  <a:pt x="13374" y="11494"/>
                  <a:pt x="13362" y="11543"/>
                  <a:pt x="13345" y="11584"/>
                </a:cubicBezTo>
                <a:cubicBezTo>
                  <a:pt x="13314" y="11661"/>
                  <a:pt x="13237" y="11668"/>
                  <a:pt x="13171" y="11708"/>
                </a:cubicBezTo>
                <a:cubicBezTo>
                  <a:pt x="13079" y="11763"/>
                  <a:pt x="12980" y="11792"/>
                  <a:pt x="12874" y="11807"/>
                </a:cubicBezTo>
                <a:cubicBezTo>
                  <a:pt x="12783" y="11820"/>
                  <a:pt x="12774" y="11781"/>
                  <a:pt x="12774" y="11708"/>
                </a:cubicBezTo>
              </a:path>
              <a:path w="18331" h="2804">
                <a:moveTo>
                  <a:pt x="13494" y="11410"/>
                </a:moveTo>
                <a:cubicBezTo>
                  <a:pt x="13543" y="11567"/>
                  <a:pt x="13602" y="11729"/>
                  <a:pt x="13667" y="11881"/>
                </a:cubicBezTo>
                <a:cubicBezTo>
                  <a:pt x="13723" y="12012"/>
                  <a:pt x="13778" y="12141"/>
                  <a:pt x="13816" y="12278"/>
                </a:cubicBezTo>
                <a:cubicBezTo>
                  <a:pt x="13849" y="12398"/>
                  <a:pt x="13896" y="12527"/>
                  <a:pt x="13915" y="12650"/>
                </a:cubicBezTo>
                <a:cubicBezTo>
                  <a:pt x="13922" y="12697"/>
                  <a:pt x="13935" y="12788"/>
                  <a:pt x="13965" y="12824"/>
                </a:cubicBezTo>
                <a:cubicBezTo>
                  <a:pt x="13973" y="12824"/>
                  <a:pt x="13982" y="12824"/>
                  <a:pt x="13990" y="12824"/>
                </a:cubicBezTo>
                <a:cubicBezTo>
                  <a:pt x="14014" y="12794"/>
                  <a:pt x="14037" y="12767"/>
                  <a:pt x="14039" y="12700"/>
                </a:cubicBezTo>
                <a:cubicBezTo>
                  <a:pt x="14039" y="12659"/>
                  <a:pt x="14039" y="12617"/>
                  <a:pt x="14039" y="12576"/>
                </a:cubicBezTo>
              </a:path>
              <a:path w="18331" h="2804">
                <a:moveTo>
                  <a:pt x="14163" y="11485"/>
                </a:moveTo>
                <a:cubicBezTo>
                  <a:pt x="14009" y="11681"/>
                  <a:pt x="13942" y="11884"/>
                  <a:pt x="13816" y="12105"/>
                </a:cubicBezTo>
                <a:cubicBezTo>
                  <a:pt x="13730" y="12255"/>
                  <a:pt x="13643" y="12407"/>
                  <a:pt x="13543" y="12551"/>
                </a:cubicBezTo>
                <a:cubicBezTo>
                  <a:pt x="13478" y="12645"/>
                  <a:pt x="13386" y="12778"/>
                  <a:pt x="13295" y="12849"/>
                </a:cubicBezTo>
                <a:cubicBezTo>
                  <a:pt x="13240" y="12892"/>
                  <a:pt x="13224" y="12901"/>
                  <a:pt x="13196" y="12874"/>
                </a:cubicBezTo>
                <a:cubicBezTo>
                  <a:pt x="13196" y="12866"/>
                  <a:pt x="13196" y="12857"/>
                  <a:pt x="13196" y="12849"/>
                </a:cubicBezTo>
              </a:path>
              <a:path w="18331" h="2804">
                <a:moveTo>
                  <a:pt x="14114" y="11906"/>
                </a:moveTo>
                <a:cubicBezTo>
                  <a:pt x="14205" y="11894"/>
                  <a:pt x="14295" y="11879"/>
                  <a:pt x="14387" y="11857"/>
                </a:cubicBezTo>
                <a:cubicBezTo>
                  <a:pt x="14512" y="11827"/>
                  <a:pt x="14636" y="11795"/>
                  <a:pt x="14759" y="11757"/>
                </a:cubicBezTo>
              </a:path>
              <a:path w="18331" h="2804">
                <a:moveTo>
                  <a:pt x="14288" y="12303"/>
                </a:moveTo>
                <a:cubicBezTo>
                  <a:pt x="14415" y="12295"/>
                  <a:pt x="14532" y="12278"/>
                  <a:pt x="14660" y="12278"/>
                </a:cubicBezTo>
                <a:cubicBezTo>
                  <a:pt x="14746" y="12278"/>
                  <a:pt x="14874" y="12276"/>
                  <a:pt x="14957" y="12254"/>
                </a:cubicBezTo>
                <a:cubicBezTo>
                  <a:pt x="15001" y="12232"/>
                  <a:pt x="15013" y="12229"/>
                  <a:pt x="15032" y="12204"/>
                </a:cubicBezTo>
              </a:path>
              <a:path w="18331" h="2804">
                <a:moveTo>
                  <a:pt x="15850" y="11782"/>
                </a:moveTo>
                <a:cubicBezTo>
                  <a:pt x="15940" y="11611"/>
                  <a:pt x="15949" y="11618"/>
                  <a:pt x="15949" y="11460"/>
                </a:cubicBezTo>
                <a:cubicBezTo>
                  <a:pt x="15949" y="11379"/>
                  <a:pt x="15907" y="11315"/>
                  <a:pt x="15825" y="11286"/>
                </a:cubicBezTo>
                <a:cubicBezTo>
                  <a:pt x="15781" y="11270"/>
                  <a:pt x="15657" y="11329"/>
                  <a:pt x="15627" y="11361"/>
                </a:cubicBezTo>
                <a:cubicBezTo>
                  <a:pt x="15575" y="11417"/>
                  <a:pt x="15545" y="11484"/>
                  <a:pt x="15528" y="11559"/>
                </a:cubicBezTo>
                <a:cubicBezTo>
                  <a:pt x="15509" y="11642"/>
                  <a:pt x="15579" y="11770"/>
                  <a:pt x="15627" y="11832"/>
                </a:cubicBezTo>
                <a:cubicBezTo>
                  <a:pt x="15702" y="11928"/>
                  <a:pt x="15800" y="12009"/>
                  <a:pt x="15875" y="12105"/>
                </a:cubicBezTo>
                <a:cubicBezTo>
                  <a:pt x="15955" y="12208"/>
                  <a:pt x="16043" y="12307"/>
                  <a:pt x="16098" y="12427"/>
                </a:cubicBezTo>
                <a:cubicBezTo>
                  <a:pt x="16140" y="12518"/>
                  <a:pt x="16192" y="12598"/>
                  <a:pt x="16197" y="12700"/>
                </a:cubicBezTo>
                <a:cubicBezTo>
                  <a:pt x="16202" y="12797"/>
                  <a:pt x="16178" y="12860"/>
                  <a:pt x="16098" y="12923"/>
                </a:cubicBezTo>
                <a:cubicBezTo>
                  <a:pt x="16052" y="12959"/>
                  <a:pt x="15907" y="12982"/>
                  <a:pt x="15850" y="12973"/>
                </a:cubicBezTo>
                <a:cubicBezTo>
                  <a:pt x="15758" y="12959"/>
                  <a:pt x="15613" y="12887"/>
                  <a:pt x="15577" y="12799"/>
                </a:cubicBezTo>
                <a:cubicBezTo>
                  <a:pt x="15577" y="12740"/>
                  <a:pt x="15574" y="12714"/>
                  <a:pt x="15553" y="12675"/>
                </a:cubicBezTo>
              </a:path>
              <a:path w="18331" h="2804">
                <a:moveTo>
                  <a:pt x="16272" y="11906"/>
                </a:moveTo>
                <a:cubicBezTo>
                  <a:pt x="16393" y="11947"/>
                  <a:pt x="16427" y="11945"/>
                  <a:pt x="16545" y="11931"/>
                </a:cubicBezTo>
                <a:cubicBezTo>
                  <a:pt x="16674" y="11916"/>
                  <a:pt x="16787" y="11940"/>
                  <a:pt x="16917" y="11906"/>
                </a:cubicBezTo>
                <a:cubicBezTo>
                  <a:pt x="16986" y="11888"/>
                  <a:pt x="17008" y="11847"/>
                  <a:pt x="17041" y="11807"/>
                </a:cubicBezTo>
                <a:cubicBezTo>
                  <a:pt x="17062" y="11782"/>
                  <a:pt x="17052" y="11694"/>
                  <a:pt x="17016" y="11658"/>
                </a:cubicBezTo>
                <a:cubicBezTo>
                  <a:pt x="16953" y="11596"/>
                  <a:pt x="16904" y="11571"/>
                  <a:pt x="16818" y="11534"/>
                </a:cubicBezTo>
                <a:cubicBezTo>
                  <a:pt x="16750" y="11505"/>
                  <a:pt x="16673" y="11443"/>
                  <a:pt x="16594" y="11460"/>
                </a:cubicBezTo>
                <a:cubicBezTo>
                  <a:pt x="16510" y="11478"/>
                  <a:pt x="16432" y="11527"/>
                  <a:pt x="16371" y="11584"/>
                </a:cubicBezTo>
                <a:cubicBezTo>
                  <a:pt x="16280" y="11669"/>
                  <a:pt x="16254" y="11764"/>
                  <a:pt x="16222" y="11881"/>
                </a:cubicBezTo>
                <a:cubicBezTo>
                  <a:pt x="16176" y="12050"/>
                  <a:pt x="16206" y="12189"/>
                  <a:pt x="16247" y="12353"/>
                </a:cubicBezTo>
                <a:cubicBezTo>
                  <a:pt x="16271" y="12448"/>
                  <a:pt x="16337" y="12613"/>
                  <a:pt x="16421" y="12675"/>
                </a:cubicBezTo>
                <a:cubicBezTo>
                  <a:pt x="16480" y="12719"/>
                  <a:pt x="16616" y="12787"/>
                  <a:pt x="16694" y="12799"/>
                </a:cubicBezTo>
                <a:cubicBezTo>
                  <a:pt x="16788" y="12813"/>
                  <a:pt x="16880" y="12785"/>
                  <a:pt x="16966" y="12750"/>
                </a:cubicBezTo>
                <a:cubicBezTo>
                  <a:pt x="16983" y="12742"/>
                  <a:pt x="16999" y="12733"/>
                  <a:pt x="17016" y="12725"/>
                </a:cubicBezTo>
              </a:path>
              <a:path w="18331" h="2804">
                <a:moveTo>
                  <a:pt x="17611" y="11658"/>
                </a:moveTo>
                <a:cubicBezTo>
                  <a:pt x="17611" y="11573"/>
                  <a:pt x="17601" y="11548"/>
                  <a:pt x="17587" y="11485"/>
                </a:cubicBezTo>
                <a:cubicBezTo>
                  <a:pt x="17537" y="11496"/>
                  <a:pt x="17508" y="11496"/>
                  <a:pt x="17462" y="11534"/>
                </a:cubicBezTo>
                <a:cubicBezTo>
                  <a:pt x="17401" y="11585"/>
                  <a:pt x="17348" y="11662"/>
                  <a:pt x="17314" y="11733"/>
                </a:cubicBezTo>
                <a:cubicBezTo>
                  <a:pt x="17247" y="11872"/>
                  <a:pt x="17182" y="12048"/>
                  <a:pt x="17165" y="12204"/>
                </a:cubicBezTo>
                <a:cubicBezTo>
                  <a:pt x="17147" y="12363"/>
                  <a:pt x="17183" y="12460"/>
                  <a:pt x="17239" y="12601"/>
                </a:cubicBezTo>
                <a:cubicBezTo>
                  <a:pt x="17283" y="12712"/>
                  <a:pt x="17366" y="12765"/>
                  <a:pt x="17462" y="12824"/>
                </a:cubicBezTo>
                <a:cubicBezTo>
                  <a:pt x="17564" y="12887"/>
                  <a:pt x="17661" y="12922"/>
                  <a:pt x="17785" y="12898"/>
                </a:cubicBezTo>
                <a:cubicBezTo>
                  <a:pt x="17869" y="12882"/>
                  <a:pt x="17947" y="12831"/>
                  <a:pt x="18008" y="12774"/>
                </a:cubicBezTo>
                <a:cubicBezTo>
                  <a:pt x="18057" y="12728"/>
                  <a:pt x="18088" y="12677"/>
                  <a:pt x="18132" y="12626"/>
                </a:cubicBezTo>
              </a:path>
              <a:path w="18331" h="2804">
                <a:moveTo>
                  <a:pt x="17909" y="11137"/>
                </a:moveTo>
                <a:cubicBezTo>
                  <a:pt x="17954" y="11083"/>
                  <a:pt x="17983" y="11069"/>
                  <a:pt x="18058" y="11063"/>
                </a:cubicBezTo>
                <a:cubicBezTo>
                  <a:pt x="18114" y="11058"/>
                  <a:pt x="18211" y="11023"/>
                  <a:pt x="18256" y="11038"/>
                </a:cubicBezTo>
                <a:cubicBezTo>
                  <a:pt x="18264" y="11046"/>
                  <a:pt x="18273" y="11055"/>
                  <a:pt x="18281" y="11063"/>
                </a:cubicBezTo>
                <a:cubicBezTo>
                  <a:pt x="18228" y="11063"/>
                  <a:pt x="18208" y="11079"/>
                  <a:pt x="18157" y="11088"/>
                </a:cubicBezTo>
                <a:cubicBezTo>
                  <a:pt x="18087" y="11100"/>
                  <a:pt x="18021" y="11119"/>
                  <a:pt x="17959" y="11162"/>
                </a:cubicBezTo>
                <a:cubicBezTo>
                  <a:pt x="17925" y="11186"/>
                  <a:pt x="17853" y="11219"/>
                  <a:pt x="17835" y="11261"/>
                </a:cubicBezTo>
                <a:cubicBezTo>
                  <a:pt x="17817" y="11302"/>
                  <a:pt x="17849" y="11331"/>
                  <a:pt x="17859" y="11361"/>
                </a:cubicBezTo>
                <a:cubicBezTo>
                  <a:pt x="17859" y="11369"/>
                  <a:pt x="17859" y="11377"/>
                  <a:pt x="17859" y="11385"/>
                </a:cubicBezTo>
                <a:cubicBezTo>
                  <a:pt x="17867" y="11354"/>
                  <a:pt x="17898" y="11302"/>
                  <a:pt x="17934" y="11286"/>
                </a:cubicBezTo>
                <a:cubicBezTo>
                  <a:pt x="17974" y="11268"/>
                  <a:pt x="18050" y="11289"/>
                  <a:pt x="18083" y="11311"/>
                </a:cubicBezTo>
                <a:cubicBezTo>
                  <a:pt x="18129" y="11342"/>
                  <a:pt x="18201" y="11384"/>
                  <a:pt x="18231" y="11435"/>
                </a:cubicBezTo>
                <a:cubicBezTo>
                  <a:pt x="18237" y="11446"/>
                  <a:pt x="18283" y="11569"/>
                  <a:pt x="18281" y="11584"/>
                </a:cubicBezTo>
                <a:cubicBezTo>
                  <a:pt x="18272" y="11659"/>
                  <a:pt x="18221" y="11685"/>
                  <a:pt x="18182" y="11733"/>
                </a:cubicBezTo>
                <a:cubicBezTo>
                  <a:pt x="18136" y="11790"/>
                  <a:pt x="18086" y="11833"/>
                  <a:pt x="18008" y="11857"/>
                </a:cubicBezTo>
                <a:cubicBezTo>
                  <a:pt x="17922" y="11884"/>
                  <a:pt x="17893" y="11891"/>
                  <a:pt x="17835" y="11832"/>
                </a:cubicBezTo>
                <a:cubicBezTo>
                  <a:pt x="17827" y="11824"/>
                  <a:pt x="17818" y="11815"/>
                  <a:pt x="17810" y="11807"/>
                </a:cubicBezTo>
              </a:path>
              <a:path w="18331" h="2804">
                <a:moveTo>
                  <a:pt x="18554" y="11509"/>
                </a:moveTo>
                <a:cubicBezTo>
                  <a:pt x="18613" y="11635"/>
                  <a:pt x="18646" y="11745"/>
                  <a:pt x="18678" y="11881"/>
                </a:cubicBezTo>
                <a:cubicBezTo>
                  <a:pt x="18713" y="12027"/>
                  <a:pt x="18786" y="12161"/>
                  <a:pt x="18827" y="12303"/>
                </a:cubicBezTo>
                <a:cubicBezTo>
                  <a:pt x="18873" y="12464"/>
                  <a:pt x="18914" y="12656"/>
                  <a:pt x="19000" y="12799"/>
                </a:cubicBezTo>
                <a:cubicBezTo>
                  <a:pt x="19031" y="12851"/>
                  <a:pt x="19098" y="12939"/>
                  <a:pt x="19149" y="12973"/>
                </a:cubicBezTo>
                <a:cubicBezTo>
                  <a:pt x="19190" y="12993"/>
                  <a:pt x="19196" y="13002"/>
                  <a:pt x="19224" y="12998"/>
                </a:cubicBezTo>
                <a:cubicBezTo>
                  <a:pt x="19224" y="12932"/>
                  <a:pt x="19224" y="12865"/>
                  <a:pt x="19224" y="12799"/>
                </a:cubicBezTo>
              </a:path>
              <a:path w="18331" h="2804">
                <a:moveTo>
                  <a:pt x="19174" y="11807"/>
                </a:moveTo>
                <a:cubicBezTo>
                  <a:pt x="19182" y="11766"/>
                  <a:pt x="19191" y="11724"/>
                  <a:pt x="19199" y="11683"/>
                </a:cubicBezTo>
                <a:cubicBezTo>
                  <a:pt x="19154" y="11758"/>
                  <a:pt x="19131" y="11865"/>
                  <a:pt x="19100" y="11956"/>
                </a:cubicBezTo>
                <a:cubicBezTo>
                  <a:pt x="19059" y="12077"/>
                  <a:pt x="19046" y="12210"/>
                  <a:pt x="19000" y="12328"/>
                </a:cubicBezTo>
                <a:cubicBezTo>
                  <a:pt x="18951" y="12455"/>
                  <a:pt x="18911" y="12604"/>
                  <a:pt x="18852" y="12725"/>
                </a:cubicBezTo>
                <a:cubicBezTo>
                  <a:pt x="18808" y="12815"/>
                  <a:pt x="18757" y="12892"/>
                  <a:pt x="18703" y="12973"/>
                </a:cubicBezTo>
                <a:cubicBezTo>
                  <a:pt x="18665" y="13029"/>
                  <a:pt x="18681" y="13043"/>
                  <a:pt x="18653" y="12973"/>
                </a:cubicBezTo>
              </a:path>
              <a:path w="18331" h="2804">
                <a:moveTo>
                  <a:pt x="19943" y="11509"/>
                </a:moveTo>
                <a:cubicBezTo>
                  <a:pt x="19982" y="11626"/>
                  <a:pt x="19993" y="11708"/>
                  <a:pt x="19993" y="11832"/>
                </a:cubicBezTo>
                <a:cubicBezTo>
                  <a:pt x="19993" y="12287"/>
                  <a:pt x="19993" y="12741"/>
                  <a:pt x="19993" y="13196"/>
                </a:cubicBezTo>
              </a:path>
              <a:path w="18331" h="2804">
                <a:moveTo>
                  <a:pt x="19397" y="12303"/>
                </a:moveTo>
                <a:cubicBezTo>
                  <a:pt x="19508" y="12296"/>
                  <a:pt x="19607" y="12278"/>
                  <a:pt x="19720" y="12278"/>
                </a:cubicBezTo>
                <a:cubicBezTo>
                  <a:pt x="19951" y="12278"/>
                  <a:pt x="20183" y="12278"/>
                  <a:pt x="20414" y="12278"/>
                </a:cubicBezTo>
              </a:path>
              <a:path w="18331" h="2804">
                <a:moveTo>
                  <a:pt x="20910" y="12204"/>
                </a:moveTo>
                <a:cubicBezTo>
                  <a:pt x="20964" y="12119"/>
                  <a:pt x="20996" y="12127"/>
                  <a:pt x="20960" y="12055"/>
                </a:cubicBezTo>
                <a:cubicBezTo>
                  <a:pt x="20942" y="12019"/>
                  <a:pt x="20873" y="11966"/>
                  <a:pt x="20836" y="11956"/>
                </a:cubicBezTo>
                <a:cubicBezTo>
                  <a:pt x="20732" y="11927"/>
                  <a:pt x="20606" y="11969"/>
                  <a:pt x="20513" y="12005"/>
                </a:cubicBezTo>
                <a:cubicBezTo>
                  <a:pt x="20432" y="12037"/>
                  <a:pt x="20385" y="12110"/>
                  <a:pt x="20340" y="12179"/>
                </a:cubicBezTo>
                <a:cubicBezTo>
                  <a:pt x="20262" y="12298"/>
                  <a:pt x="20226" y="12387"/>
                  <a:pt x="20191" y="12526"/>
                </a:cubicBezTo>
                <a:cubicBezTo>
                  <a:pt x="20159" y="12655"/>
                  <a:pt x="20155" y="12771"/>
                  <a:pt x="20191" y="12898"/>
                </a:cubicBezTo>
                <a:cubicBezTo>
                  <a:pt x="20217" y="12987"/>
                  <a:pt x="20280" y="13098"/>
                  <a:pt x="20365" y="13146"/>
                </a:cubicBezTo>
                <a:cubicBezTo>
                  <a:pt x="20447" y="13192"/>
                  <a:pt x="20546" y="13218"/>
                  <a:pt x="20638" y="13221"/>
                </a:cubicBezTo>
                <a:cubicBezTo>
                  <a:pt x="20769" y="13226"/>
                  <a:pt x="20883" y="13152"/>
                  <a:pt x="20960" y="13047"/>
                </a:cubicBezTo>
                <a:cubicBezTo>
                  <a:pt x="21020" y="12965"/>
                  <a:pt x="21031" y="12847"/>
                  <a:pt x="21034" y="12750"/>
                </a:cubicBezTo>
                <a:cubicBezTo>
                  <a:pt x="21038" y="12625"/>
                  <a:pt x="21037" y="12501"/>
                  <a:pt x="21010" y="12378"/>
                </a:cubicBezTo>
                <a:cubicBezTo>
                  <a:pt x="20996" y="12313"/>
                  <a:pt x="21000" y="12242"/>
                  <a:pt x="20985" y="12179"/>
                </a:cubicBezTo>
                <a:cubicBezTo>
                  <a:pt x="20962" y="12156"/>
                  <a:pt x="20954" y="12152"/>
                  <a:pt x="20960" y="12129"/>
                </a:cubicBezTo>
                <a:cubicBezTo>
                  <a:pt x="20966" y="12200"/>
                  <a:pt x="20983" y="12256"/>
                  <a:pt x="20985" y="12328"/>
                </a:cubicBezTo>
                <a:cubicBezTo>
                  <a:pt x="20989" y="12448"/>
                  <a:pt x="21022" y="12556"/>
                  <a:pt x="21034" y="12675"/>
                </a:cubicBezTo>
                <a:cubicBezTo>
                  <a:pt x="21050" y="12837"/>
                  <a:pt x="21034" y="13008"/>
                  <a:pt x="21034" y="13171"/>
                </a:cubicBezTo>
                <a:cubicBezTo>
                  <a:pt x="21034" y="13300"/>
                  <a:pt x="21038" y="13118"/>
                  <a:pt x="21034" y="13097"/>
                </a:cubicBezTo>
                <a:cubicBezTo>
                  <a:pt x="21014" y="13001"/>
                  <a:pt x="20995" y="12899"/>
                  <a:pt x="21010" y="12799"/>
                </a:cubicBezTo>
                <a:cubicBezTo>
                  <a:pt x="21033" y="12647"/>
                  <a:pt x="21036" y="12501"/>
                  <a:pt x="21084" y="12353"/>
                </a:cubicBezTo>
                <a:cubicBezTo>
                  <a:pt x="21114" y="12259"/>
                  <a:pt x="21145" y="12180"/>
                  <a:pt x="21208" y="12105"/>
                </a:cubicBezTo>
                <a:cubicBezTo>
                  <a:pt x="21277" y="12023"/>
                  <a:pt x="21332" y="12030"/>
                  <a:pt x="21431" y="12030"/>
                </a:cubicBezTo>
                <a:cubicBezTo>
                  <a:pt x="21530" y="12030"/>
                  <a:pt x="21608" y="12093"/>
                  <a:pt x="21654" y="12179"/>
                </a:cubicBezTo>
                <a:cubicBezTo>
                  <a:pt x="21708" y="12280"/>
                  <a:pt x="21769" y="12391"/>
                  <a:pt x="21803" y="12502"/>
                </a:cubicBezTo>
                <a:cubicBezTo>
                  <a:pt x="21851" y="12662"/>
                  <a:pt x="21889" y="12833"/>
                  <a:pt x="21903" y="12998"/>
                </a:cubicBezTo>
                <a:cubicBezTo>
                  <a:pt x="21910" y="13080"/>
                  <a:pt x="21918" y="13228"/>
                  <a:pt x="21977" y="13295"/>
                </a:cubicBezTo>
                <a:cubicBezTo>
                  <a:pt x="22000" y="13318"/>
                  <a:pt x="22004" y="13326"/>
                  <a:pt x="22027" y="13320"/>
                </a:cubicBezTo>
              </a:path>
              <a:path w="18331" h="2804">
                <a:moveTo>
                  <a:pt x="21704" y="11485"/>
                </a:moveTo>
                <a:cubicBezTo>
                  <a:pt x="21774" y="11397"/>
                  <a:pt x="21812" y="11374"/>
                  <a:pt x="21927" y="11361"/>
                </a:cubicBezTo>
                <a:cubicBezTo>
                  <a:pt x="22026" y="11350"/>
                  <a:pt x="22090" y="11367"/>
                  <a:pt x="22175" y="11410"/>
                </a:cubicBezTo>
                <a:cubicBezTo>
                  <a:pt x="22208" y="11427"/>
                  <a:pt x="22277" y="11453"/>
                  <a:pt x="22275" y="11485"/>
                </a:cubicBezTo>
                <a:cubicBezTo>
                  <a:pt x="22272" y="11537"/>
                  <a:pt x="22240" y="11577"/>
                  <a:pt x="22200" y="11609"/>
                </a:cubicBezTo>
                <a:cubicBezTo>
                  <a:pt x="22104" y="11685"/>
                  <a:pt x="22048" y="11690"/>
                  <a:pt x="21952" y="11733"/>
                </a:cubicBezTo>
                <a:cubicBezTo>
                  <a:pt x="21925" y="11745"/>
                  <a:pt x="21901" y="11763"/>
                  <a:pt x="21878" y="11782"/>
                </a:cubicBezTo>
                <a:cubicBezTo>
                  <a:pt x="21938" y="11788"/>
                  <a:pt x="21994" y="11792"/>
                  <a:pt x="22051" y="11807"/>
                </a:cubicBezTo>
                <a:cubicBezTo>
                  <a:pt x="22163" y="11836"/>
                  <a:pt x="22222" y="11848"/>
                  <a:pt x="22324" y="11906"/>
                </a:cubicBezTo>
                <a:cubicBezTo>
                  <a:pt x="22393" y="11945"/>
                  <a:pt x="22496" y="11996"/>
                  <a:pt x="22547" y="12055"/>
                </a:cubicBezTo>
                <a:cubicBezTo>
                  <a:pt x="22586" y="12101"/>
                  <a:pt x="22611" y="12194"/>
                  <a:pt x="22597" y="12254"/>
                </a:cubicBezTo>
                <a:cubicBezTo>
                  <a:pt x="22581" y="12322"/>
                  <a:pt x="22493" y="12337"/>
                  <a:pt x="22448" y="12353"/>
                </a:cubicBezTo>
                <a:cubicBezTo>
                  <a:pt x="22390" y="12374"/>
                  <a:pt x="22315" y="12396"/>
                  <a:pt x="22250" y="12378"/>
                </a:cubicBezTo>
                <a:cubicBezTo>
                  <a:pt x="22197" y="12363"/>
                  <a:pt x="22142" y="12340"/>
                  <a:pt x="22101" y="12303"/>
                </a:cubicBezTo>
                <a:cubicBezTo>
                  <a:pt x="22093" y="12295"/>
                  <a:pt x="22084" y="12286"/>
                  <a:pt x="22076" y="12278"/>
                </a:cubicBezTo>
              </a:path>
              <a:path w="18331" h="2804">
                <a:moveTo>
                  <a:pt x="22845" y="12154"/>
                </a:moveTo>
                <a:cubicBezTo>
                  <a:pt x="22914" y="12350"/>
                  <a:pt x="22999" y="12533"/>
                  <a:pt x="23068" y="12725"/>
                </a:cubicBezTo>
                <a:cubicBezTo>
                  <a:pt x="23110" y="12840"/>
                  <a:pt x="23153" y="12955"/>
                  <a:pt x="23192" y="13072"/>
                </a:cubicBezTo>
                <a:cubicBezTo>
                  <a:pt x="23208" y="13121"/>
                  <a:pt x="23252" y="13300"/>
                  <a:pt x="23292" y="13320"/>
                </a:cubicBezTo>
                <a:cubicBezTo>
                  <a:pt x="23353" y="13351"/>
                  <a:pt x="23341" y="13280"/>
                  <a:pt x="23341" y="13246"/>
                </a:cubicBezTo>
              </a:path>
              <a:path w="18331" h="2804">
                <a:moveTo>
                  <a:pt x="23267" y="12229"/>
                </a:moveTo>
                <a:cubicBezTo>
                  <a:pt x="23223" y="12349"/>
                  <a:pt x="23199" y="12476"/>
                  <a:pt x="23168" y="12601"/>
                </a:cubicBezTo>
                <a:cubicBezTo>
                  <a:pt x="23134" y="12736"/>
                  <a:pt x="23078" y="12872"/>
                  <a:pt x="23019" y="12998"/>
                </a:cubicBezTo>
                <a:cubicBezTo>
                  <a:pt x="22966" y="13110"/>
                  <a:pt x="22911" y="13223"/>
                  <a:pt x="22845" y="13320"/>
                </a:cubicBezTo>
                <a:cubicBezTo>
                  <a:pt x="22789" y="13403"/>
                  <a:pt x="22752" y="13435"/>
                  <a:pt x="22671" y="1349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76120" y="4545000"/>
            <a:ext cx="8456760" cy="2268720"/>
          </a:xfrm>
          <a:custGeom>
            <a:avLst/>
            <a:gdLst/>
            <a:ahLst/>
            <a:rect l="l" t="t" r="r" b="b"/>
            <a:pathLst>
              <a:path w="23491" h="6301">
                <a:moveTo>
                  <a:pt x="1017" y="15701"/>
                </a:moveTo>
                <a:cubicBezTo>
                  <a:pt x="943" y="15635"/>
                  <a:pt x="868" y="15569"/>
                  <a:pt x="794" y="15503"/>
                </a:cubicBezTo>
                <a:cubicBezTo>
                  <a:pt x="813" y="15559"/>
                  <a:pt x="769" y="15598"/>
                  <a:pt x="794" y="15652"/>
                </a:cubicBezTo>
                <a:cubicBezTo>
                  <a:pt x="839" y="15750"/>
                  <a:pt x="880" y="15835"/>
                  <a:pt x="943" y="15925"/>
                </a:cubicBezTo>
                <a:cubicBezTo>
                  <a:pt x="1269" y="16386"/>
                  <a:pt x="2007" y="16806"/>
                  <a:pt x="2580" y="16594"/>
                </a:cubicBezTo>
                <a:cubicBezTo>
                  <a:pt x="2821" y="16505"/>
                  <a:pt x="3054" y="16275"/>
                  <a:pt x="3200" y="16073"/>
                </a:cubicBezTo>
                <a:cubicBezTo>
                  <a:pt x="3353" y="15860"/>
                  <a:pt x="3485" y="15575"/>
                  <a:pt x="3572" y="15329"/>
                </a:cubicBezTo>
                <a:cubicBezTo>
                  <a:pt x="3693" y="14989"/>
                  <a:pt x="3776" y="14621"/>
                  <a:pt x="3820" y="14263"/>
                </a:cubicBezTo>
                <a:cubicBezTo>
                  <a:pt x="3865" y="13890"/>
                  <a:pt x="3823" y="13538"/>
                  <a:pt x="3671" y="13196"/>
                </a:cubicBezTo>
                <a:cubicBezTo>
                  <a:pt x="3616" y="13072"/>
                  <a:pt x="3452" y="12764"/>
                  <a:pt x="3324" y="12700"/>
                </a:cubicBezTo>
                <a:cubicBezTo>
                  <a:pt x="3221" y="12648"/>
                  <a:pt x="3112" y="12700"/>
                  <a:pt x="3026" y="12675"/>
                </a:cubicBezTo>
                <a:cubicBezTo>
                  <a:pt x="2708" y="12965"/>
                  <a:pt x="2627" y="13097"/>
                  <a:pt x="2729" y="13593"/>
                </a:cubicBezTo>
                <a:cubicBezTo>
                  <a:pt x="2806" y="13969"/>
                  <a:pt x="2964" y="14247"/>
                  <a:pt x="3125" y="14585"/>
                </a:cubicBezTo>
                <a:cubicBezTo>
                  <a:pt x="3280" y="14911"/>
                  <a:pt x="3444" y="15238"/>
                  <a:pt x="3572" y="15577"/>
                </a:cubicBezTo>
                <a:cubicBezTo>
                  <a:pt x="3675" y="15851"/>
                  <a:pt x="3754" y="16226"/>
                  <a:pt x="3746" y="16520"/>
                </a:cubicBezTo>
                <a:cubicBezTo>
                  <a:pt x="3739" y="16784"/>
                  <a:pt x="3635" y="17076"/>
                  <a:pt x="3373" y="17190"/>
                </a:cubicBezTo>
                <a:cubicBezTo>
                  <a:pt x="2843" y="17421"/>
                  <a:pt x="2317" y="16779"/>
                  <a:pt x="2108" y="16396"/>
                </a:cubicBezTo>
                <a:cubicBezTo>
                  <a:pt x="1995" y="16189"/>
                  <a:pt x="1899" y="15956"/>
                  <a:pt x="1836" y="15726"/>
                </a:cubicBezTo>
                <a:cubicBezTo>
                  <a:pt x="1778" y="15515"/>
                  <a:pt x="1795" y="15339"/>
                  <a:pt x="1786" y="15131"/>
                </a:cubicBezTo>
                <a:cubicBezTo>
                  <a:pt x="1797" y="15138"/>
                  <a:pt x="1833" y="14987"/>
                  <a:pt x="1910" y="15081"/>
                </a:cubicBezTo>
                <a:cubicBezTo>
                  <a:pt x="2085" y="15295"/>
                  <a:pt x="2160" y="15568"/>
                  <a:pt x="2257" y="15825"/>
                </a:cubicBezTo>
                <a:cubicBezTo>
                  <a:pt x="2426" y="16273"/>
                  <a:pt x="2610" y="16769"/>
                  <a:pt x="2952" y="17115"/>
                </a:cubicBezTo>
                <a:cubicBezTo>
                  <a:pt x="3080" y="17245"/>
                  <a:pt x="3172" y="17224"/>
                  <a:pt x="3299" y="17314"/>
                </a:cubicBezTo>
                <a:cubicBezTo>
                  <a:pt x="3509" y="17152"/>
                  <a:pt x="3644" y="17130"/>
                  <a:pt x="3770" y="16842"/>
                </a:cubicBezTo>
                <a:cubicBezTo>
                  <a:pt x="3935" y="16463"/>
                  <a:pt x="3988" y="16024"/>
                  <a:pt x="4093" y="15627"/>
                </a:cubicBezTo>
                <a:cubicBezTo>
                  <a:pt x="4179" y="15303"/>
                  <a:pt x="4274" y="14989"/>
                  <a:pt x="4341" y="14660"/>
                </a:cubicBezTo>
                <a:cubicBezTo>
                  <a:pt x="4388" y="14427"/>
                  <a:pt x="4457" y="14154"/>
                  <a:pt x="4465" y="13915"/>
                </a:cubicBezTo>
                <a:cubicBezTo>
                  <a:pt x="4469" y="13812"/>
                  <a:pt x="4442" y="13714"/>
                  <a:pt x="4440" y="13618"/>
                </a:cubicBezTo>
                <a:cubicBezTo>
                  <a:pt x="4390" y="13698"/>
                  <a:pt x="4355" y="13681"/>
                  <a:pt x="4316" y="13767"/>
                </a:cubicBezTo>
                <a:cubicBezTo>
                  <a:pt x="4057" y="14343"/>
                  <a:pt x="3984" y="15209"/>
                  <a:pt x="3994" y="15825"/>
                </a:cubicBezTo>
                <a:cubicBezTo>
                  <a:pt x="4000" y="16170"/>
                  <a:pt x="4055" y="16569"/>
                  <a:pt x="4242" y="16867"/>
                </a:cubicBezTo>
                <a:cubicBezTo>
                  <a:pt x="4352" y="17041"/>
                  <a:pt x="4449" y="17003"/>
                  <a:pt x="4564" y="17115"/>
                </a:cubicBezTo>
                <a:cubicBezTo>
                  <a:pt x="4889" y="16938"/>
                  <a:pt x="5086" y="16871"/>
                  <a:pt x="5308" y="16495"/>
                </a:cubicBezTo>
                <a:cubicBezTo>
                  <a:pt x="5638" y="15934"/>
                  <a:pt x="5985" y="14860"/>
                  <a:pt x="5631" y="14238"/>
                </a:cubicBezTo>
                <a:cubicBezTo>
                  <a:pt x="5558" y="14110"/>
                  <a:pt x="5481" y="14090"/>
                  <a:pt x="5407" y="13990"/>
                </a:cubicBezTo>
                <a:cubicBezTo>
                  <a:pt x="5201" y="14083"/>
                  <a:pt x="5088" y="14066"/>
                  <a:pt x="4961" y="14288"/>
                </a:cubicBezTo>
                <a:cubicBezTo>
                  <a:pt x="4830" y="14518"/>
                  <a:pt x="4773" y="14799"/>
                  <a:pt x="4738" y="15056"/>
                </a:cubicBezTo>
                <a:cubicBezTo>
                  <a:pt x="4668" y="15568"/>
                  <a:pt x="4731" y="16281"/>
                  <a:pt x="5085" y="16694"/>
                </a:cubicBezTo>
                <a:cubicBezTo>
                  <a:pt x="5203" y="16831"/>
                  <a:pt x="5305" y="16782"/>
                  <a:pt x="5432" y="16867"/>
                </a:cubicBezTo>
                <a:cubicBezTo>
                  <a:pt x="5594" y="16736"/>
                  <a:pt x="5723" y="16719"/>
                  <a:pt x="5854" y="16520"/>
                </a:cubicBezTo>
                <a:cubicBezTo>
                  <a:pt x="6048" y="16223"/>
                  <a:pt x="6105" y="15896"/>
                  <a:pt x="6176" y="15553"/>
                </a:cubicBezTo>
                <a:cubicBezTo>
                  <a:pt x="6248" y="15207"/>
                  <a:pt x="6256" y="14859"/>
                  <a:pt x="6226" y="14511"/>
                </a:cubicBezTo>
                <a:cubicBezTo>
                  <a:pt x="6226" y="14419"/>
                  <a:pt x="6228" y="14392"/>
                  <a:pt x="6201" y="14337"/>
                </a:cubicBezTo>
                <a:cubicBezTo>
                  <a:pt x="6195" y="14398"/>
                  <a:pt x="6177" y="14351"/>
                  <a:pt x="6176" y="14412"/>
                </a:cubicBezTo>
                <a:cubicBezTo>
                  <a:pt x="6167" y="15240"/>
                  <a:pt x="6244" y="16065"/>
                  <a:pt x="6226" y="16892"/>
                </a:cubicBezTo>
                <a:cubicBezTo>
                  <a:pt x="6221" y="17102"/>
                  <a:pt x="6173" y="17305"/>
                  <a:pt x="6152" y="17512"/>
                </a:cubicBezTo>
                <a:cubicBezTo>
                  <a:pt x="6145" y="17442"/>
                  <a:pt x="6128" y="17532"/>
                  <a:pt x="6127" y="17462"/>
                </a:cubicBezTo>
                <a:cubicBezTo>
                  <a:pt x="6123" y="17123"/>
                  <a:pt x="6144" y="16783"/>
                  <a:pt x="6176" y="16446"/>
                </a:cubicBezTo>
                <a:cubicBezTo>
                  <a:pt x="6220" y="15976"/>
                  <a:pt x="6220" y="15499"/>
                  <a:pt x="6276" y="15032"/>
                </a:cubicBezTo>
                <a:cubicBezTo>
                  <a:pt x="6310" y="14753"/>
                  <a:pt x="6349" y="14622"/>
                  <a:pt x="6499" y="14412"/>
                </a:cubicBezTo>
                <a:cubicBezTo>
                  <a:pt x="6572" y="14338"/>
                  <a:pt x="6596" y="14313"/>
                  <a:pt x="6672" y="14312"/>
                </a:cubicBezTo>
                <a:cubicBezTo>
                  <a:pt x="7053" y="14480"/>
                  <a:pt x="7288" y="14516"/>
                  <a:pt x="7367" y="15032"/>
                </a:cubicBezTo>
                <a:cubicBezTo>
                  <a:pt x="7408" y="15300"/>
                  <a:pt x="7370" y="15574"/>
                  <a:pt x="7268" y="15825"/>
                </a:cubicBezTo>
                <a:cubicBezTo>
                  <a:pt x="7155" y="16105"/>
                  <a:pt x="6972" y="16309"/>
                  <a:pt x="6747" y="16495"/>
                </a:cubicBezTo>
                <a:cubicBezTo>
                  <a:pt x="6537" y="16669"/>
                  <a:pt x="6282" y="16801"/>
                  <a:pt x="6003" y="16743"/>
                </a:cubicBezTo>
                <a:cubicBezTo>
                  <a:pt x="5797" y="16700"/>
                  <a:pt x="5692" y="16549"/>
                  <a:pt x="5606" y="16371"/>
                </a:cubicBezTo>
                <a:cubicBezTo>
                  <a:pt x="5457" y="16064"/>
                  <a:pt x="5436" y="15756"/>
                  <a:pt x="5383" y="15429"/>
                </a:cubicBezTo>
                <a:cubicBezTo>
                  <a:pt x="5359" y="15356"/>
                  <a:pt x="5350" y="15332"/>
                  <a:pt x="5358" y="15280"/>
                </a:cubicBezTo>
                <a:cubicBezTo>
                  <a:pt x="5399" y="15345"/>
                  <a:pt x="5415" y="15364"/>
                  <a:pt x="5457" y="15429"/>
                </a:cubicBezTo>
                <a:cubicBezTo>
                  <a:pt x="5707" y="15815"/>
                  <a:pt x="5996" y="16248"/>
                  <a:pt x="6449" y="16421"/>
                </a:cubicBezTo>
                <a:cubicBezTo>
                  <a:pt x="6668" y="16505"/>
                  <a:pt x="6851" y="16476"/>
                  <a:pt x="7020" y="16346"/>
                </a:cubicBezTo>
                <a:cubicBezTo>
                  <a:pt x="7192" y="16214"/>
                  <a:pt x="7246" y="15946"/>
                  <a:pt x="7293" y="15751"/>
                </a:cubicBezTo>
                <a:cubicBezTo>
                  <a:pt x="7363" y="15460"/>
                  <a:pt x="7370" y="15178"/>
                  <a:pt x="7392" y="14883"/>
                </a:cubicBezTo>
                <a:cubicBezTo>
                  <a:pt x="7411" y="14630"/>
                  <a:pt x="7386" y="14390"/>
                  <a:pt x="7392" y="14139"/>
                </a:cubicBezTo>
                <a:cubicBezTo>
                  <a:pt x="7395" y="14022"/>
                  <a:pt x="7413" y="13905"/>
                  <a:pt x="7417" y="13791"/>
                </a:cubicBezTo>
                <a:cubicBezTo>
                  <a:pt x="7417" y="13874"/>
                  <a:pt x="7417" y="13708"/>
                  <a:pt x="7417" y="13791"/>
                </a:cubicBezTo>
                <a:cubicBezTo>
                  <a:pt x="7417" y="14313"/>
                  <a:pt x="7406" y="14833"/>
                  <a:pt x="7392" y="15354"/>
                </a:cubicBezTo>
                <a:cubicBezTo>
                  <a:pt x="7380" y="15809"/>
                  <a:pt x="7373" y="16263"/>
                  <a:pt x="7367" y="16718"/>
                </a:cubicBezTo>
                <a:cubicBezTo>
                  <a:pt x="7367" y="16652"/>
                  <a:pt x="7396" y="16760"/>
                  <a:pt x="7392" y="16694"/>
                </a:cubicBezTo>
                <a:cubicBezTo>
                  <a:pt x="7379" y="16482"/>
                  <a:pt x="7389" y="16285"/>
                  <a:pt x="7392" y="16073"/>
                </a:cubicBezTo>
                <a:cubicBezTo>
                  <a:pt x="7402" y="15466"/>
                  <a:pt x="7444" y="14940"/>
                  <a:pt x="7813" y="14461"/>
                </a:cubicBezTo>
                <a:cubicBezTo>
                  <a:pt x="7838" y="14436"/>
                  <a:pt x="7863" y="14412"/>
                  <a:pt x="7888" y="14387"/>
                </a:cubicBezTo>
                <a:cubicBezTo>
                  <a:pt x="8027" y="14460"/>
                  <a:pt x="8143" y="14403"/>
                  <a:pt x="8285" y="14560"/>
                </a:cubicBezTo>
                <a:cubicBezTo>
                  <a:pt x="8510" y="14809"/>
                  <a:pt x="8592" y="15233"/>
                  <a:pt x="8632" y="15553"/>
                </a:cubicBezTo>
                <a:cubicBezTo>
                  <a:pt x="8692" y="16035"/>
                  <a:pt x="8651" y="16519"/>
                  <a:pt x="8558" y="16991"/>
                </a:cubicBezTo>
                <a:cubicBezTo>
                  <a:pt x="8550" y="17016"/>
                  <a:pt x="8541" y="17041"/>
                  <a:pt x="8533" y="17066"/>
                </a:cubicBezTo>
                <a:cubicBezTo>
                  <a:pt x="8523" y="17016"/>
                  <a:pt x="8488" y="17041"/>
                  <a:pt x="8483" y="16991"/>
                </a:cubicBezTo>
                <a:cubicBezTo>
                  <a:pt x="8459" y="16745"/>
                  <a:pt x="8432" y="16494"/>
                  <a:pt x="8434" y="16247"/>
                </a:cubicBezTo>
                <a:cubicBezTo>
                  <a:pt x="8436" y="15983"/>
                  <a:pt x="8446" y="15717"/>
                  <a:pt x="8458" y="15453"/>
                </a:cubicBezTo>
                <a:cubicBezTo>
                  <a:pt x="8470" y="15196"/>
                  <a:pt x="8469" y="14898"/>
                  <a:pt x="8582" y="14660"/>
                </a:cubicBezTo>
                <a:cubicBezTo>
                  <a:pt x="8673" y="14470"/>
                  <a:pt x="8764" y="14412"/>
                  <a:pt x="8905" y="14288"/>
                </a:cubicBezTo>
                <a:cubicBezTo>
                  <a:pt x="8938" y="14280"/>
                  <a:pt x="8971" y="14271"/>
                  <a:pt x="9004" y="14263"/>
                </a:cubicBezTo>
                <a:cubicBezTo>
                  <a:pt x="9217" y="14402"/>
                  <a:pt x="9255" y="14325"/>
                  <a:pt x="9451" y="14585"/>
                </a:cubicBezTo>
                <a:cubicBezTo>
                  <a:pt x="9570" y="14743"/>
                  <a:pt x="9657" y="14948"/>
                  <a:pt x="9723" y="15131"/>
                </a:cubicBezTo>
                <a:cubicBezTo>
                  <a:pt x="9776" y="15278"/>
                  <a:pt x="9808" y="15425"/>
                  <a:pt x="9847" y="15577"/>
                </a:cubicBezTo>
                <a:cubicBezTo>
                  <a:pt x="9826" y="15537"/>
                  <a:pt x="9838" y="15694"/>
                  <a:pt x="9823" y="15652"/>
                </a:cubicBezTo>
                <a:cubicBezTo>
                  <a:pt x="9771" y="15500"/>
                  <a:pt x="9738" y="15333"/>
                  <a:pt x="9674" y="15180"/>
                </a:cubicBezTo>
                <a:cubicBezTo>
                  <a:pt x="9584" y="14965"/>
                  <a:pt x="9479" y="14629"/>
                  <a:pt x="9302" y="14461"/>
                </a:cubicBezTo>
                <a:cubicBezTo>
                  <a:pt x="9191" y="14355"/>
                  <a:pt x="9068" y="14390"/>
                  <a:pt x="8954" y="14337"/>
                </a:cubicBezTo>
                <a:cubicBezTo>
                  <a:pt x="8804" y="14491"/>
                  <a:pt x="8637" y="14590"/>
                  <a:pt x="8558" y="14808"/>
                </a:cubicBezTo>
                <a:cubicBezTo>
                  <a:pt x="8355" y="15368"/>
                  <a:pt x="8249" y="16151"/>
                  <a:pt x="8756" y="16594"/>
                </a:cubicBezTo>
                <a:cubicBezTo>
                  <a:pt x="9075" y="16873"/>
                  <a:pt x="9296" y="16777"/>
                  <a:pt x="9525" y="16470"/>
                </a:cubicBezTo>
                <a:cubicBezTo>
                  <a:pt x="9671" y="16274"/>
                  <a:pt x="9723" y="16012"/>
                  <a:pt x="9773" y="15776"/>
                </a:cubicBezTo>
                <a:cubicBezTo>
                  <a:pt x="9822" y="15542"/>
                  <a:pt x="9856" y="15298"/>
                  <a:pt x="9847" y="15056"/>
                </a:cubicBezTo>
                <a:cubicBezTo>
                  <a:pt x="9841" y="14907"/>
                  <a:pt x="9794" y="14755"/>
                  <a:pt x="9773" y="14610"/>
                </a:cubicBezTo>
                <a:cubicBezTo>
                  <a:pt x="9752" y="14651"/>
                  <a:pt x="9709" y="14515"/>
                  <a:pt x="9699" y="14560"/>
                </a:cubicBezTo>
                <a:cubicBezTo>
                  <a:pt x="9673" y="14680"/>
                  <a:pt x="9659" y="14780"/>
                  <a:pt x="9649" y="14908"/>
                </a:cubicBezTo>
                <a:cubicBezTo>
                  <a:pt x="9604" y="15487"/>
                  <a:pt x="9679" y="16381"/>
                  <a:pt x="10120" y="16793"/>
                </a:cubicBezTo>
                <a:cubicBezTo>
                  <a:pt x="10170" y="16793"/>
                  <a:pt x="10187" y="16793"/>
                  <a:pt x="10220" y="16793"/>
                </a:cubicBezTo>
                <a:cubicBezTo>
                  <a:pt x="10234" y="16665"/>
                  <a:pt x="10258" y="16529"/>
                  <a:pt x="10269" y="16396"/>
                </a:cubicBezTo>
                <a:cubicBezTo>
                  <a:pt x="10295" y="16085"/>
                  <a:pt x="10276" y="15788"/>
                  <a:pt x="10269" y="15478"/>
                </a:cubicBezTo>
                <a:cubicBezTo>
                  <a:pt x="10261" y="15136"/>
                  <a:pt x="10215" y="14746"/>
                  <a:pt x="10368" y="14436"/>
                </a:cubicBezTo>
                <a:cubicBezTo>
                  <a:pt x="10418" y="14412"/>
                  <a:pt x="10435" y="14404"/>
                  <a:pt x="10468" y="14387"/>
                </a:cubicBezTo>
                <a:cubicBezTo>
                  <a:pt x="10546" y="14474"/>
                  <a:pt x="10664" y="14516"/>
                  <a:pt x="10740" y="14635"/>
                </a:cubicBezTo>
                <a:cubicBezTo>
                  <a:pt x="11007" y="15052"/>
                  <a:pt x="11108" y="15509"/>
                  <a:pt x="11112" y="15999"/>
                </a:cubicBezTo>
                <a:cubicBezTo>
                  <a:pt x="11113" y="16166"/>
                  <a:pt x="11085" y="16354"/>
                  <a:pt x="11063" y="16520"/>
                </a:cubicBezTo>
                <a:cubicBezTo>
                  <a:pt x="11059" y="16548"/>
                  <a:pt x="11043" y="16517"/>
                  <a:pt x="11038" y="16545"/>
                </a:cubicBezTo>
                <a:cubicBezTo>
                  <a:pt x="11029" y="16350"/>
                  <a:pt x="11022" y="16130"/>
                  <a:pt x="11013" y="15925"/>
                </a:cubicBezTo>
                <a:cubicBezTo>
                  <a:pt x="11002" y="15684"/>
                  <a:pt x="10990" y="15447"/>
                  <a:pt x="10988" y="15205"/>
                </a:cubicBezTo>
                <a:cubicBezTo>
                  <a:pt x="10986" y="14941"/>
                  <a:pt x="11031" y="14719"/>
                  <a:pt x="11088" y="14511"/>
                </a:cubicBezTo>
                <a:cubicBezTo>
                  <a:pt x="11112" y="14553"/>
                  <a:pt x="11211" y="14587"/>
                  <a:pt x="11237" y="14660"/>
                </a:cubicBezTo>
                <a:cubicBezTo>
                  <a:pt x="11298" y="14831"/>
                  <a:pt x="11351" y="15028"/>
                  <a:pt x="11385" y="15205"/>
                </a:cubicBezTo>
                <a:cubicBezTo>
                  <a:pt x="11495" y="15787"/>
                  <a:pt x="11530" y="16247"/>
                  <a:pt x="11981" y="16644"/>
                </a:cubicBezTo>
                <a:cubicBezTo>
                  <a:pt x="12006" y="16652"/>
                  <a:pt x="12030" y="16661"/>
                  <a:pt x="12055" y="16669"/>
                </a:cubicBezTo>
                <a:cubicBezTo>
                  <a:pt x="12135" y="16577"/>
                  <a:pt x="12232" y="16574"/>
                  <a:pt x="12303" y="16446"/>
                </a:cubicBezTo>
                <a:cubicBezTo>
                  <a:pt x="12394" y="16280"/>
                  <a:pt x="12425" y="16035"/>
                  <a:pt x="12452" y="15850"/>
                </a:cubicBezTo>
                <a:cubicBezTo>
                  <a:pt x="12481" y="15655"/>
                  <a:pt x="12481" y="15425"/>
                  <a:pt x="12452" y="15230"/>
                </a:cubicBezTo>
                <a:cubicBezTo>
                  <a:pt x="12426" y="15057"/>
                  <a:pt x="12366" y="14941"/>
                  <a:pt x="12328" y="14784"/>
                </a:cubicBezTo>
                <a:cubicBezTo>
                  <a:pt x="12308" y="14845"/>
                  <a:pt x="12268" y="14845"/>
                  <a:pt x="12254" y="14908"/>
                </a:cubicBezTo>
                <a:cubicBezTo>
                  <a:pt x="12149" y="15384"/>
                  <a:pt x="12147" y="15870"/>
                  <a:pt x="12254" y="16346"/>
                </a:cubicBezTo>
                <a:cubicBezTo>
                  <a:pt x="12308" y="16585"/>
                  <a:pt x="12393" y="16802"/>
                  <a:pt x="12551" y="16991"/>
                </a:cubicBezTo>
                <a:cubicBezTo>
                  <a:pt x="12627" y="17067"/>
                  <a:pt x="12653" y="17093"/>
                  <a:pt x="12725" y="17115"/>
                </a:cubicBezTo>
                <a:cubicBezTo>
                  <a:pt x="12999" y="17020"/>
                  <a:pt x="13100" y="17066"/>
                  <a:pt x="13320" y="16818"/>
                </a:cubicBezTo>
                <a:cubicBezTo>
                  <a:pt x="13494" y="16622"/>
                  <a:pt x="13626" y="16316"/>
                  <a:pt x="13717" y="16073"/>
                </a:cubicBezTo>
                <a:cubicBezTo>
                  <a:pt x="13818" y="15804"/>
                  <a:pt x="13869" y="15516"/>
                  <a:pt x="13891" y="15230"/>
                </a:cubicBezTo>
                <a:cubicBezTo>
                  <a:pt x="13906" y="15033"/>
                  <a:pt x="13919" y="14748"/>
                  <a:pt x="13841" y="14560"/>
                </a:cubicBezTo>
                <a:cubicBezTo>
                  <a:pt x="13769" y="14385"/>
                  <a:pt x="13705" y="14314"/>
                  <a:pt x="13568" y="14188"/>
                </a:cubicBezTo>
                <a:cubicBezTo>
                  <a:pt x="13535" y="14180"/>
                  <a:pt x="13502" y="14171"/>
                  <a:pt x="13469" y="14163"/>
                </a:cubicBezTo>
                <a:cubicBezTo>
                  <a:pt x="13063" y="14420"/>
                  <a:pt x="12816" y="14604"/>
                  <a:pt x="12799" y="15156"/>
                </a:cubicBezTo>
                <a:cubicBezTo>
                  <a:pt x="12790" y="15466"/>
                  <a:pt x="12912" y="15800"/>
                  <a:pt x="13047" y="16073"/>
                </a:cubicBezTo>
                <a:cubicBezTo>
                  <a:pt x="13154" y="16288"/>
                  <a:pt x="13274" y="16460"/>
                  <a:pt x="13469" y="16594"/>
                </a:cubicBezTo>
                <a:cubicBezTo>
                  <a:pt x="13765" y="16798"/>
                  <a:pt x="13622" y="16584"/>
                  <a:pt x="13866" y="16594"/>
                </a:cubicBezTo>
              </a:path>
              <a:path w="23491" h="6301">
                <a:moveTo>
                  <a:pt x="11981" y="13940"/>
                </a:moveTo>
                <a:cubicBezTo>
                  <a:pt x="11973" y="13940"/>
                  <a:pt x="11964" y="13940"/>
                  <a:pt x="11956" y="13940"/>
                </a:cubicBezTo>
                <a:cubicBezTo>
                  <a:pt x="11975" y="14016"/>
                  <a:pt x="12036" y="14033"/>
                  <a:pt x="12105" y="14064"/>
                </a:cubicBezTo>
              </a:path>
              <a:path w="23491" h="6301">
                <a:moveTo>
                  <a:pt x="12154" y="13519"/>
                </a:moveTo>
                <a:cubicBezTo>
                  <a:pt x="12175" y="13717"/>
                  <a:pt x="12252" y="13835"/>
                  <a:pt x="12378" y="13990"/>
                </a:cubicBezTo>
                <a:cubicBezTo>
                  <a:pt x="12571" y="14228"/>
                  <a:pt x="12877" y="14442"/>
                  <a:pt x="13196" y="14436"/>
                </a:cubicBezTo>
                <a:cubicBezTo>
                  <a:pt x="13392" y="14432"/>
                  <a:pt x="13583" y="14348"/>
                  <a:pt x="13742" y="14238"/>
                </a:cubicBezTo>
                <a:cubicBezTo>
                  <a:pt x="13928" y="14109"/>
                  <a:pt x="14075" y="13920"/>
                  <a:pt x="14163" y="13717"/>
                </a:cubicBezTo>
                <a:cubicBezTo>
                  <a:pt x="14284" y="13437"/>
                  <a:pt x="14325" y="13259"/>
                  <a:pt x="14312" y="12973"/>
                </a:cubicBezTo>
                <a:cubicBezTo>
                  <a:pt x="14307" y="12856"/>
                  <a:pt x="14279" y="12752"/>
                  <a:pt x="14213" y="12650"/>
                </a:cubicBezTo>
                <a:cubicBezTo>
                  <a:pt x="14190" y="12628"/>
                  <a:pt x="14185" y="12620"/>
                  <a:pt x="14163" y="12626"/>
                </a:cubicBezTo>
                <a:cubicBezTo>
                  <a:pt x="14129" y="12703"/>
                  <a:pt x="14087" y="12754"/>
                  <a:pt x="14064" y="12849"/>
                </a:cubicBezTo>
                <a:cubicBezTo>
                  <a:pt x="13877" y="13607"/>
                  <a:pt x="13861" y="14456"/>
                  <a:pt x="13841" y="15230"/>
                </a:cubicBezTo>
                <a:cubicBezTo>
                  <a:pt x="13825" y="15846"/>
                  <a:pt x="13872" y="16476"/>
                  <a:pt x="13915" y="17090"/>
                </a:cubicBezTo>
                <a:cubicBezTo>
                  <a:pt x="13928" y="17272"/>
                  <a:pt x="13967" y="17440"/>
                  <a:pt x="14015" y="17611"/>
                </a:cubicBezTo>
                <a:cubicBezTo>
                  <a:pt x="14044" y="17508"/>
                  <a:pt x="14096" y="17329"/>
                  <a:pt x="14114" y="17190"/>
                </a:cubicBezTo>
                <a:cubicBezTo>
                  <a:pt x="14122" y="17124"/>
                  <a:pt x="14131" y="17057"/>
                  <a:pt x="14139" y="16991"/>
                </a:cubicBezTo>
              </a:path>
              <a:path w="23491" h="6301">
                <a:moveTo>
                  <a:pt x="14833" y="13271"/>
                </a:moveTo>
                <a:cubicBezTo>
                  <a:pt x="14851" y="13298"/>
                  <a:pt x="14880" y="13296"/>
                  <a:pt x="14908" y="13419"/>
                </a:cubicBezTo>
                <a:cubicBezTo>
                  <a:pt x="14957" y="13633"/>
                  <a:pt x="14954" y="13871"/>
                  <a:pt x="14957" y="14089"/>
                </a:cubicBezTo>
                <a:cubicBezTo>
                  <a:pt x="14965" y="14759"/>
                  <a:pt x="14965" y="15429"/>
                  <a:pt x="14982" y="16098"/>
                </a:cubicBezTo>
                <a:cubicBezTo>
                  <a:pt x="14993" y="16516"/>
                  <a:pt x="15021" y="16924"/>
                  <a:pt x="15081" y="17338"/>
                </a:cubicBezTo>
                <a:cubicBezTo>
                  <a:pt x="15108" y="17527"/>
                  <a:pt x="15109" y="17534"/>
                  <a:pt x="15081" y="17338"/>
                </a:cubicBezTo>
                <a:cubicBezTo>
                  <a:pt x="15041" y="17064"/>
                  <a:pt x="14986" y="16792"/>
                  <a:pt x="14932" y="16520"/>
                </a:cubicBezTo>
                <a:cubicBezTo>
                  <a:pt x="14871" y="16211"/>
                  <a:pt x="14800" y="15904"/>
                  <a:pt x="14709" y="15602"/>
                </a:cubicBezTo>
                <a:cubicBezTo>
                  <a:pt x="14632" y="15347"/>
                  <a:pt x="14467" y="14970"/>
                  <a:pt x="14238" y="14808"/>
                </a:cubicBezTo>
                <a:cubicBezTo>
                  <a:pt x="14051" y="14676"/>
                  <a:pt x="13910" y="14646"/>
                  <a:pt x="13692" y="14660"/>
                </a:cubicBezTo>
                <a:cubicBezTo>
                  <a:pt x="13496" y="14673"/>
                  <a:pt x="13378" y="14989"/>
                  <a:pt x="13345" y="15131"/>
                </a:cubicBezTo>
                <a:cubicBezTo>
                  <a:pt x="13301" y="15320"/>
                  <a:pt x="13300" y="15520"/>
                  <a:pt x="13370" y="15701"/>
                </a:cubicBezTo>
                <a:cubicBezTo>
                  <a:pt x="13441" y="15883"/>
                  <a:pt x="13564" y="16076"/>
                  <a:pt x="13692" y="16222"/>
                </a:cubicBezTo>
                <a:cubicBezTo>
                  <a:pt x="13774" y="16316"/>
                  <a:pt x="13977" y="16453"/>
                  <a:pt x="14114" y="16446"/>
                </a:cubicBezTo>
                <a:cubicBezTo>
                  <a:pt x="14374" y="16434"/>
                  <a:pt x="14509" y="16279"/>
                  <a:pt x="14610" y="16049"/>
                </a:cubicBezTo>
                <a:cubicBezTo>
                  <a:pt x="14695" y="15857"/>
                  <a:pt x="14740" y="15632"/>
                  <a:pt x="14784" y="15429"/>
                </a:cubicBezTo>
                <a:cubicBezTo>
                  <a:pt x="14824" y="15245"/>
                  <a:pt x="14873" y="15061"/>
                  <a:pt x="14932" y="14883"/>
                </a:cubicBezTo>
                <a:cubicBezTo>
                  <a:pt x="14966" y="14781"/>
                  <a:pt x="15066" y="14577"/>
                  <a:pt x="15180" y="14536"/>
                </a:cubicBezTo>
                <a:cubicBezTo>
                  <a:pt x="15286" y="14498"/>
                  <a:pt x="15422" y="14494"/>
                  <a:pt x="15528" y="14536"/>
                </a:cubicBezTo>
                <a:cubicBezTo>
                  <a:pt x="15697" y="14603"/>
                  <a:pt x="15794" y="14901"/>
                  <a:pt x="15850" y="15032"/>
                </a:cubicBezTo>
                <a:cubicBezTo>
                  <a:pt x="15933" y="15228"/>
                  <a:pt x="15984" y="15416"/>
                  <a:pt x="15999" y="15627"/>
                </a:cubicBezTo>
                <a:cubicBezTo>
                  <a:pt x="16002" y="15676"/>
                  <a:pt x="15997" y="15727"/>
                  <a:pt x="15999" y="15776"/>
                </a:cubicBezTo>
                <a:cubicBezTo>
                  <a:pt x="15999" y="15591"/>
                  <a:pt x="15978" y="15413"/>
                  <a:pt x="15974" y="15230"/>
                </a:cubicBezTo>
                <a:cubicBezTo>
                  <a:pt x="15970" y="15059"/>
                  <a:pt x="15940" y="14917"/>
                  <a:pt x="15875" y="14759"/>
                </a:cubicBezTo>
                <a:cubicBezTo>
                  <a:pt x="15819" y="14622"/>
                  <a:pt x="15785" y="14578"/>
                  <a:pt x="15677" y="14486"/>
                </a:cubicBezTo>
                <a:cubicBezTo>
                  <a:pt x="15660" y="14478"/>
                  <a:pt x="15644" y="14469"/>
                  <a:pt x="15627" y="14461"/>
                </a:cubicBezTo>
                <a:cubicBezTo>
                  <a:pt x="15442" y="14507"/>
                  <a:pt x="15422" y="14497"/>
                  <a:pt x="15329" y="14684"/>
                </a:cubicBezTo>
                <a:cubicBezTo>
                  <a:pt x="15229" y="14884"/>
                  <a:pt x="15207" y="15085"/>
                  <a:pt x="15180" y="15304"/>
                </a:cubicBezTo>
                <a:cubicBezTo>
                  <a:pt x="15140" y="15627"/>
                  <a:pt x="15152" y="15948"/>
                  <a:pt x="15180" y="16272"/>
                </a:cubicBezTo>
                <a:cubicBezTo>
                  <a:pt x="15205" y="16568"/>
                  <a:pt x="15276" y="16909"/>
                  <a:pt x="15379" y="17190"/>
                </a:cubicBezTo>
                <a:cubicBezTo>
                  <a:pt x="15404" y="17239"/>
                  <a:pt x="15428" y="17289"/>
                  <a:pt x="15453" y="17338"/>
                </a:cubicBezTo>
              </a:path>
              <a:path w="23491" h="6301">
                <a:moveTo>
                  <a:pt x="15925" y="17413"/>
                </a:moveTo>
                <a:cubicBezTo>
                  <a:pt x="15989" y="17064"/>
                  <a:pt x="16027" y="16817"/>
                  <a:pt x="16024" y="16470"/>
                </a:cubicBezTo>
                <a:cubicBezTo>
                  <a:pt x="16022" y="16256"/>
                  <a:pt x="16011" y="16039"/>
                  <a:pt x="15999" y="15825"/>
                </a:cubicBezTo>
                <a:cubicBezTo>
                  <a:pt x="15991" y="15686"/>
                  <a:pt x="15958" y="15540"/>
                  <a:pt x="15949" y="15404"/>
                </a:cubicBezTo>
                <a:cubicBezTo>
                  <a:pt x="15949" y="15362"/>
                  <a:pt x="15949" y="15354"/>
                  <a:pt x="15949" y="15329"/>
                </a:cubicBezTo>
                <a:cubicBezTo>
                  <a:pt x="15930" y="15397"/>
                  <a:pt x="15889" y="15474"/>
                  <a:pt x="15875" y="15553"/>
                </a:cubicBezTo>
                <a:cubicBezTo>
                  <a:pt x="15838" y="15766"/>
                  <a:pt x="15865" y="15985"/>
                  <a:pt x="15900" y="16197"/>
                </a:cubicBezTo>
                <a:cubicBezTo>
                  <a:pt x="15934" y="16401"/>
                  <a:pt x="16010" y="16585"/>
                  <a:pt x="16098" y="16768"/>
                </a:cubicBezTo>
                <a:cubicBezTo>
                  <a:pt x="16163" y="16905"/>
                  <a:pt x="16229" y="17038"/>
                  <a:pt x="16346" y="17140"/>
                </a:cubicBezTo>
                <a:cubicBezTo>
                  <a:pt x="16411" y="17196"/>
                  <a:pt x="16480" y="17194"/>
                  <a:pt x="16545" y="17239"/>
                </a:cubicBezTo>
                <a:cubicBezTo>
                  <a:pt x="16599" y="17160"/>
                  <a:pt x="16671" y="17153"/>
                  <a:pt x="16718" y="17041"/>
                </a:cubicBezTo>
                <a:cubicBezTo>
                  <a:pt x="16820" y="16797"/>
                  <a:pt x="16816" y="16534"/>
                  <a:pt x="16818" y="16272"/>
                </a:cubicBezTo>
                <a:cubicBezTo>
                  <a:pt x="16820" y="16017"/>
                  <a:pt x="16782" y="15813"/>
                  <a:pt x="16694" y="15577"/>
                </a:cubicBezTo>
                <a:cubicBezTo>
                  <a:pt x="16619" y="15375"/>
                  <a:pt x="16524" y="15248"/>
                  <a:pt x="16396" y="15081"/>
                </a:cubicBezTo>
                <a:cubicBezTo>
                  <a:pt x="16313" y="14973"/>
                  <a:pt x="16207" y="14908"/>
                  <a:pt x="16123" y="14808"/>
                </a:cubicBezTo>
                <a:cubicBezTo>
                  <a:pt x="16095" y="14775"/>
                  <a:pt x="16090" y="14729"/>
                  <a:pt x="16073" y="14709"/>
                </a:cubicBezTo>
                <a:cubicBezTo>
                  <a:pt x="16148" y="14707"/>
                  <a:pt x="16213" y="14676"/>
                  <a:pt x="16297" y="14684"/>
                </a:cubicBezTo>
                <a:cubicBezTo>
                  <a:pt x="16496" y="14704"/>
                  <a:pt x="16763" y="14783"/>
                  <a:pt x="16917" y="14908"/>
                </a:cubicBezTo>
                <a:cubicBezTo>
                  <a:pt x="17019" y="14991"/>
                  <a:pt x="17068" y="15085"/>
                  <a:pt x="17090" y="15205"/>
                </a:cubicBezTo>
                <a:cubicBezTo>
                  <a:pt x="17127" y="15405"/>
                  <a:pt x="17001" y="15641"/>
                  <a:pt x="16942" y="15825"/>
                </a:cubicBezTo>
                <a:cubicBezTo>
                  <a:pt x="16876" y="16032"/>
                  <a:pt x="16814" y="16227"/>
                  <a:pt x="16793" y="16446"/>
                </a:cubicBezTo>
                <a:cubicBezTo>
                  <a:pt x="16781" y="16574"/>
                  <a:pt x="16769" y="16826"/>
                  <a:pt x="16842" y="16942"/>
                </a:cubicBezTo>
                <a:cubicBezTo>
                  <a:pt x="16914" y="17055"/>
                  <a:pt x="17036" y="17058"/>
                  <a:pt x="17115" y="17115"/>
                </a:cubicBezTo>
                <a:cubicBezTo>
                  <a:pt x="17313" y="16961"/>
                  <a:pt x="17357" y="16955"/>
                  <a:pt x="17413" y="16669"/>
                </a:cubicBezTo>
                <a:cubicBezTo>
                  <a:pt x="17459" y="16431"/>
                  <a:pt x="17427" y="16190"/>
                  <a:pt x="17438" y="15949"/>
                </a:cubicBezTo>
                <a:cubicBezTo>
                  <a:pt x="17446" y="15783"/>
                  <a:pt x="17459" y="15588"/>
                  <a:pt x="17512" y="15429"/>
                </a:cubicBezTo>
                <a:cubicBezTo>
                  <a:pt x="17558" y="15292"/>
                  <a:pt x="17616" y="15162"/>
                  <a:pt x="17760" y="15106"/>
                </a:cubicBezTo>
                <a:cubicBezTo>
                  <a:pt x="17891" y="15055"/>
                  <a:pt x="17950" y="15068"/>
                  <a:pt x="18083" y="15106"/>
                </a:cubicBezTo>
                <a:cubicBezTo>
                  <a:pt x="18418" y="15203"/>
                  <a:pt x="18513" y="15498"/>
                  <a:pt x="18604" y="15801"/>
                </a:cubicBezTo>
                <a:cubicBezTo>
                  <a:pt x="18641" y="15924"/>
                  <a:pt x="18657" y="16050"/>
                  <a:pt x="18678" y="16173"/>
                </a:cubicBezTo>
                <a:cubicBezTo>
                  <a:pt x="18678" y="16189"/>
                  <a:pt x="18678" y="16206"/>
                  <a:pt x="18678" y="16222"/>
                </a:cubicBezTo>
                <a:cubicBezTo>
                  <a:pt x="18643" y="16133"/>
                  <a:pt x="18636" y="16139"/>
                  <a:pt x="18604" y="16049"/>
                </a:cubicBezTo>
                <a:cubicBezTo>
                  <a:pt x="18549" y="15893"/>
                  <a:pt x="18515" y="15733"/>
                  <a:pt x="18455" y="15577"/>
                </a:cubicBezTo>
                <a:cubicBezTo>
                  <a:pt x="18374" y="15364"/>
                  <a:pt x="18170" y="14985"/>
                  <a:pt x="17884" y="15032"/>
                </a:cubicBezTo>
                <a:cubicBezTo>
                  <a:pt x="17756" y="15053"/>
                  <a:pt x="17613" y="15149"/>
                  <a:pt x="17537" y="15255"/>
                </a:cubicBezTo>
                <a:cubicBezTo>
                  <a:pt x="17339" y="15531"/>
                  <a:pt x="17326" y="16009"/>
                  <a:pt x="17388" y="16321"/>
                </a:cubicBezTo>
                <a:cubicBezTo>
                  <a:pt x="17428" y="16520"/>
                  <a:pt x="17644" y="17020"/>
                  <a:pt x="17909" y="17016"/>
                </a:cubicBezTo>
                <a:cubicBezTo>
                  <a:pt x="18046" y="17014"/>
                  <a:pt x="18123" y="16951"/>
                  <a:pt x="18207" y="16842"/>
                </a:cubicBezTo>
                <a:cubicBezTo>
                  <a:pt x="18326" y="16689"/>
                  <a:pt x="18379" y="16483"/>
                  <a:pt x="18430" y="16297"/>
                </a:cubicBezTo>
                <a:cubicBezTo>
                  <a:pt x="18526" y="15946"/>
                  <a:pt x="18554" y="15589"/>
                  <a:pt x="18579" y="15230"/>
                </a:cubicBezTo>
                <a:cubicBezTo>
                  <a:pt x="18593" y="15031"/>
                  <a:pt x="18602" y="14835"/>
                  <a:pt x="18604" y="14635"/>
                </a:cubicBezTo>
                <a:cubicBezTo>
                  <a:pt x="18605" y="14517"/>
                  <a:pt x="18604" y="14197"/>
                  <a:pt x="18604" y="14163"/>
                </a:cubicBezTo>
                <a:cubicBezTo>
                  <a:pt x="18606" y="14208"/>
                  <a:pt x="18631" y="14449"/>
                  <a:pt x="18628" y="14511"/>
                </a:cubicBezTo>
                <a:cubicBezTo>
                  <a:pt x="18616" y="14792"/>
                  <a:pt x="18583" y="15072"/>
                  <a:pt x="18579" y="15354"/>
                </a:cubicBezTo>
                <a:cubicBezTo>
                  <a:pt x="18576" y="15602"/>
                  <a:pt x="18575" y="15854"/>
                  <a:pt x="18628" y="16098"/>
                </a:cubicBezTo>
                <a:cubicBezTo>
                  <a:pt x="18681" y="16344"/>
                  <a:pt x="18798" y="16507"/>
                  <a:pt x="18926" y="16694"/>
                </a:cubicBezTo>
                <a:cubicBezTo>
                  <a:pt x="18999" y="16639"/>
                  <a:pt x="19096" y="16663"/>
                  <a:pt x="19174" y="16495"/>
                </a:cubicBezTo>
                <a:cubicBezTo>
                  <a:pt x="19260" y="16311"/>
                  <a:pt x="19265" y="16098"/>
                  <a:pt x="19298" y="15900"/>
                </a:cubicBezTo>
                <a:cubicBezTo>
                  <a:pt x="19345" y="15618"/>
                  <a:pt x="19385" y="15343"/>
                  <a:pt x="19372" y="15056"/>
                </a:cubicBezTo>
                <a:cubicBezTo>
                  <a:pt x="19368" y="14968"/>
                  <a:pt x="19354" y="14893"/>
                  <a:pt x="19348" y="14808"/>
                </a:cubicBezTo>
                <a:cubicBezTo>
                  <a:pt x="19339" y="14927"/>
                  <a:pt x="19332" y="15032"/>
                  <a:pt x="19323" y="15156"/>
                </a:cubicBezTo>
                <a:cubicBezTo>
                  <a:pt x="19305" y="15411"/>
                  <a:pt x="19287" y="15666"/>
                  <a:pt x="19298" y="15925"/>
                </a:cubicBezTo>
                <a:cubicBezTo>
                  <a:pt x="19310" y="16212"/>
                  <a:pt x="19350" y="16540"/>
                  <a:pt x="19546" y="16768"/>
                </a:cubicBezTo>
                <a:cubicBezTo>
                  <a:pt x="19606" y="16838"/>
                  <a:pt x="19683" y="16860"/>
                  <a:pt x="19745" y="16917"/>
                </a:cubicBezTo>
                <a:cubicBezTo>
                  <a:pt x="19826" y="16808"/>
                  <a:pt x="19892" y="16812"/>
                  <a:pt x="19943" y="16619"/>
                </a:cubicBezTo>
                <a:cubicBezTo>
                  <a:pt x="20064" y="16163"/>
                  <a:pt x="20012" y="15684"/>
                  <a:pt x="20117" y="15230"/>
                </a:cubicBezTo>
                <a:cubicBezTo>
                  <a:pt x="20147" y="15102"/>
                  <a:pt x="20167" y="15054"/>
                  <a:pt x="20241" y="14957"/>
                </a:cubicBezTo>
                <a:cubicBezTo>
                  <a:pt x="20257" y="14949"/>
                  <a:pt x="20274" y="14940"/>
                  <a:pt x="20290" y="14932"/>
                </a:cubicBezTo>
                <a:cubicBezTo>
                  <a:pt x="20366" y="14984"/>
                  <a:pt x="20426" y="14966"/>
                  <a:pt x="20513" y="15056"/>
                </a:cubicBezTo>
                <a:cubicBezTo>
                  <a:pt x="20630" y="15178"/>
                  <a:pt x="20671" y="15320"/>
                  <a:pt x="20712" y="15478"/>
                </a:cubicBezTo>
                <a:cubicBezTo>
                  <a:pt x="20770" y="15699"/>
                  <a:pt x="20797" y="15946"/>
                  <a:pt x="20811" y="16173"/>
                </a:cubicBezTo>
                <a:cubicBezTo>
                  <a:pt x="20818" y="16296"/>
                  <a:pt x="20808" y="16421"/>
                  <a:pt x="20811" y="16545"/>
                </a:cubicBezTo>
                <a:cubicBezTo>
                  <a:pt x="20803" y="16255"/>
                  <a:pt x="20771" y="15969"/>
                  <a:pt x="20786" y="15677"/>
                </a:cubicBezTo>
                <a:cubicBezTo>
                  <a:pt x="20794" y="15518"/>
                  <a:pt x="20808" y="15332"/>
                  <a:pt x="20861" y="15180"/>
                </a:cubicBezTo>
                <a:cubicBezTo>
                  <a:pt x="20908" y="15042"/>
                  <a:pt x="20958" y="14979"/>
                  <a:pt x="21034" y="14858"/>
                </a:cubicBezTo>
                <a:cubicBezTo>
                  <a:pt x="21042" y="14850"/>
                  <a:pt x="21051" y="14841"/>
                  <a:pt x="21059" y="14833"/>
                </a:cubicBezTo>
                <a:cubicBezTo>
                  <a:pt x="21134" y="14930"/>
                  <a:pt x="21206" y="14947"/>
                  <a:pt x="21258" y="15106"/>
                </a:cubicBezTo>
                <a:cubicBezTo>
                  <a:pt x="21316" y="15281"/>
                  <a:pt x="21306" y="15472"/>
                  <a:pt x="21332" y="15652"/>
                </a:cubicBezTo>
                <a:cubicBezTo>
                  <a:pt x="21393" y="16083"/>
                  <a:pt x="21470" y="16501"/>
                  <a:pt x="21654" y="16892"/>
                </a:cubicBezTo>
                <a:cubicBezTo>
                  <a:pt x="21711" y="17012"/>
                  <a:pt x="21763" y="17110"/>
                  <a:pt x="21903" y="17140"/>
                </a:cubicBezTo>
                <a:cubicBezTo>
                  <a:pt x="22085" y="17179"/>
                  <a:pt x="22208" y="17075"/>
                  <a:pt x="22324" y="16942"/>
                </a:cubicBezTo>
                <a:cubicBezTo>
                  <a:pt x="22453" y="16794"/>
                  <a:pt x="22555" y="16552"/>
                  <a:pt x="22622" y="16371"/>
                </a:cubicBezTo>
                <a:cubicBezTo>
                  <a:pt x="22723" y="16097"/>
                  <a:pt x="22776" y="15795"/>
                  <a:pt x="22771" y="15503"/>
                </a:cubicBezTo>
                <a:cubicBezTo>
                  <a:pt x="22767" y="15229"/>
                  <a:pt x="22681" y="15001"/>
                  <a:pt x="22523" y="14784"/>
                </a:cubicBezTo>
                <a:cubicBezTo>
                  <a:pt x="22422" y="14646"/>
                  <a:pt x="22341" y="14602"/>
                  <a:pt x="22175" y="14585"/>
                </a:cubicBezTo>
                <a:cubicBezTo>
                  <a:pt x="21694" y="14537"/>
                  <a:pt x="21557" y="15082"/>
                  <a:pt x="21605" y="15453"/>
                </a:cubicBezTo>
                <a:cubicBezTo>
                  <a:pt x="21629" y="15644"/>
                  <a:pt x="21705" y="15835"/>
                  <a:pt x="21803" y="15999"/>
                </a:cubicBezTo>
                <a:cubicBezTo>
                  <a:pt x="21878" y="16125"/>
                  <a:pt x="22039" y="16312"/>
                  <a:pt x="22175" y="16371"/>
                </a:cubicBezTo>
                <a:cubicBezTo>
                  <a:pt x="22306" y="16428"/>
                  <a:pt x="22386" y="16426"/>
                  <a:pt x="22498" y="16371"/>
                </a:cubicBezTo>
                <a:cubicBezTo>
                  <a:pt x="22637" y="16302"/>
                  <a:pt x="22697" y="16203"/>
                  <a:pt x="22771" y="16073"/>
                </a:cubicBezTo>
                <a:cubicBezTo>
                  <a:pt x="22874" y="15894"/>
                  <a:pt x="22916" y="15680"/>
                  <a:pt x="22944" y="15478"/>
                </a:cubicBezTo>
                <a:cubicBezTo>
                  <a:pt x="22958" y="15376"/>
                  <a:pt x="22959" y="15254"/>
                  <a:pt x="22969" y="15156"/>
                </a:cubicBezTo>
                <a:cubicBezTo>
                  <a:pt x="22969" y="15148"/>
                  <a:pt x="22969" y="15139"/>
                  <a:pt x="22969" y="15131"/>
                </a:cubicBezTo>
                <a:cubicBezTo>
                  <a:pt x="22958" y="15231"/>
                  <a:pt x="22925" y="15348"/>
                  <a:pt x="22920" y="15453"/>
                </a:cubicBezTo>
                <a:cubicBezTo>
                  <a:pt x="22882" y="16261"/>
                  <a:pt x="22870" y="17090"/>
                  <a:pt x="22696" y="17884"/>
                </a:cubicBezTo>
                <a:cubicBezTo>
                  <a:pt x="22646" y="18115"/>
                  <a:pt x="22563" y="18372"/>
                  <a:pt x="22448" y="18579"/>
                </a:cubicBezTo>
                <a:cubicBezTo>
                  <a:pt x="22362" y="18734"/>
                  <a:pt x="22231" y="18868"/>
                  <a:pt x="22076" y="18926"/>
                </a:cubicBezTo>
                <a:cubicBezTo>
                  <a:pt x="22025" y="18926"/>
                  <a:pt x="22006" y="18925"/>
                  <a:pt x="21977" y="18901"/>
                </a:cubicBezTo>
                <a:cubicBezTo>
                  <a:pt x="21961" y="18780"/>
                  <a:pt x="21901" y="18691"/>
                  <a:pt x="21927" y="18554"/>
                </a:cubicBezTo>
                <a:cubicBezTo>
                  <a:pt x="21972" y="18312"/>
                  <a:pt x="22070" y="18093"/>
                  <a:pt x="22151" y="17859"/>
                </a:cubicBezTo>
                <a:cubicBezTo>
                  <a:pt x="22386" y="17181"/>
                  <a:pt x="22645" y="16579"/>
                  <a:pt x="23292" y="16197"/>
                </a:cubicBezTo>
                <a:cubicBezTo>
                  <a:pt x="23562" y="16038"/>
                  <a:pt x="23875" y="15964"/>
                  <a:pt x="24160" y="15850"/>
                </a:cubicBezTo>
                <a:cubicBezTo>
                  <a:pt x="24193" y="15834"/>
                  <a:pt x="24226" y="15817"/>
                  <a:pt x="24259" y="15801"/>
                </a:cubicBezTo>
              </a:path>
              <a:path w="23491" h="6301">
                <a:moveTo>
                  <a:pt x="19645" y="14436"/>
                </a:moveTo>
                <a:cubicBezTo>
                  <a:pt x="19691" y="14445"/>
                  <a:pt x="19726" y="14464"/>
                  <a:pt x="19769" y="14486"/>
                </a:cubicBezTo>
              </a:path>
              <a:path w="23491" h="6301">
                <a:moveTo>
                  <a:pt x="3671" y="14709"/>
                </a:moveTo>
                <a:cubicBezTo>
                  <a:pt x="3911" y="14803"/>
                  <a:pt x="4065" y="14764"/>
                  <a:pt x="4316" y="14709"/>
                </a:cubicBezTo>
                <a:cubicBezTo>
                  <a:pt x="4534" y="14661"/>
                  <a:pt x="4603" y="14647"/>
                  <a:pt x="4738" y="1458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6b6b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rify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762120" y="1143000"/>
          <a:ext cx="769608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143000"/>
                    <a:ext cx="769608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2" name=""/>
          <p:cNvSpPr/>
          <p:nvPr/>
        </p:nvSpPr>
        <p:spPr>
          <a:xfrm>
            <a:off x="1133640" y="1116000"/>
            <a:ext cx="1974600" cy="473040"/>
          </a:xfrm>
          <a:custGeom>
            <a:avLst/>
            <a:gdLst/>
            <a:ahLst/>
            <a:rect l="l" t="t" r="r" b="b"/>
            <a:pathLst>
              <a:path w="5483" h="1315">
                <a:moveTo>
                  <a:pt x="3150" y="4291"/>
                </a:moveTo>
                <a:cubicBezTo>
                  <a:pt x="3171" y="4258"/>
                  <a:pt x="3193" y="4227"/>
                  <a:pt x="3225" y="4192"/>
                </a:cubicBezTo>
                <a:cubicBezTo>
                  <a:pt x="3259" y="4156"/>
                  <a:pt x="3286" y="4143"/>
                  <a:pt x="3324" y="4118"/>
                </a:cubicBezTo>
                <a:cubicBezTo>
                  <a:pt x="3375" y="4085"/>
                  <a:pt x="3418" y="4046"/>
                  <a:pt x="3473" y="4018"/>
                </a:cubicBezTo>
                <a:cubicBezTo>
                  <a:pt x="3614" y="3944"/>
                  <a:pt x="3748" y="3887"/>
                  <a:pt x="3894" y="3845"/>
                </a:cubicBezTo>
                <a:cubicBezTo>
                  <a:pt x="3979" y="3821"/>
                  <a:pt x="4055" y="3810"/>
                  <a:pt x="4142" y="3795"/>
                </a:cubicBezTo>
                <a:cubicBezTo>
                  <a:pt x="4255" y="3776"/>
                  <a:pt x="4351" y="3770"/>
                  <a:pt x="4465" y="3770"/>
                </a:cubicBezTo>
                <a:cubicBezTo>
                  <a:pt x="4572" y="3770"/>
                  <a:pt x="4684" y="3773"/>
                  <a:pt x="4787" y="3795"/>
                </a:cubicBezTo>
                <a:cubicBezTo>
                  <a:pt x="4969" y="3834"/>
                  <a:pt x="5142" y="3921"/>
                  <a:pt x="5308" y="3994"/>
                </a:cubicBezTo>
                <a:cubicBezTo>
                  <a:pt x="5378" y="4025"/>
                  <a:pt x="5446" y="4045"/>
                  <a:pt x="5507" y="4093"/>
                </a:cubicBezTo>
                <a:cubicBezTo>
                  <a:pt x="5523" y="4106"/>
                  <a:pt x="5593" y="4155"/>
                  <a:pt x="5581" y="4167"/>
                </a:cubicBezTo>
                <a:cubicBezTo>
                  <a:pt x="5556" y="4167"/>
                  <a:pt x="5548" y="4167"/>
                  <a:pt x="5531" y="4167"/>
                </a:cubicBezTo>
              </a:path>
              <a:path w="5483" h="1315">
                <a:moveTo>
                  <a:pt x="5358" y="4217"/>
                </a:moveTo>
                <a:cubicBezTo>
                  <a:pt x="5410" y="4247"/>
                  <a:pt x="5455" y="4270"/>
                  <a:pt x="5507" y="4291"/>
                </a:cubicBezTo>
                <a:cubicBezTo>
                  <a:pt x="5562" y="4313"/>
                  <a:pt x="5608" y="4341"/>
                  <a:pt x="5655" y="4366"/>
                </a:cubicBezTo>
                <a:cubicBezTo>
                  <a:pt x="5701" y="4390"/>
                  <a:pt x="5760" y="4400"/>
                  <a:pt x="5804" y="4415"/>
                </a:cubicBezTo>
                <a:cubicBezTo>
                  <a:pt x="5812" y="4415"/>
                  <a:pt x="5821" y="4415"/>
                  <a:pt x="5829" y="4415"/>
                </a:cubicBezTo>
                <a:cubicBezTo>
                  <a:pt x="5829" y="4368"/>
                  <a:pt x="5846" y="4352"/>
                  <a:pt x="5854" y="4316"/>
                </a:cubicBezTo>
                <a:cubicBezTo>
                  <a:pt x="5863" y="4273"/>
                  <a:pt x="5864" y="4233"/>
                  <a:pt x="5879" y="4192"/>
                </a:cubicBezTo>
                <a:cubicBezTo>
                  <a:pt x="5898" y="4138"/>
                  <a:pt x="5904" y="4123"/>
                  <a:pt x="5904" y="4068"/>
                </a:cubicBezTo>
                <a:cubicBezTo>
                  <a:pt x="5904" y="4031"/>
                  <a:pt x="5876" y="3997"/>
                  <a:pt x="5854" y="3969"/>
                </a:cubicBezTo>
              </a:path>
              <a:path w="5483" h="1315">
                <a:moveTo>
                  <a:pt x="3349" y="4093"/>
                </a:moveTo>
                <a:cubicBezTo>
                  <a:pt x="3370" y="4058"/>
                  <a:pt x="3364" y="4034"/>
                  <a:pt x="3398" y="3994"/>
                </a:cubicBezTo>
                <a:cubicBezTo>
                  <a:pt x="3448" y="3935"/>
                  <a:pt x="3488" y="3895"/>
                  <a:pt x="3547" y="3845"/>
                </a:cubicBezTo>
                <a:cubicBezTo>
                  <a:pt x="3619" y="3784"/>
                  <a:pt x="3690" y="3725"/>
                  <a:pt x="3770" y="3671"/>
                </a:cubicBezTo>
                <a:cubicBezTo>
                  <a:pt x="3899" y="3584"/>
                  <a:pt x="4032" y="3524"/>
                  <a:pt x="4167" y="3448"/>
                </a:cubicBezTo>
                <a:cubicBezTo>
                  <a:pt x="4289" y="3379"/>
                  <a:pt x="4451" y="3315"/>
                  <a:pt x="4589" y="3274"/>
                </a:cubicBezTo>
                <a:cubicBezTo>
                  <a:pt x="4749" y="3226"/>
                  <a:pt x="4921" y="3207"/>
                  <a:pt x="5085" y="3175"/>
                </a:cubicBezTo>
                <a:cubicBezTo>
                  <a:pt x="5259" y="3141"/>
                  <a:pt x="5429" y="3104"/>
                  <a:pt x="5606" y="3101"/>
                </a:cubicBezTo>
                <a:cubicBezTo>
                  <a:pt x="6053" y="3092"/>
                  <a:pt x="6513" y="3096"/>
                  <a:pt x="6945" y="3225"/>
                </a:cubicBezTo>
                <a:cubicBezTo>
                  <a:pt x="7148" y="3285"/>
                  <a:pt x="7350" y="3329"/>
                  <a:pt x="7541" y="3423"/>
                </a:cubicBezTo>
                <a:cubicBezTo>
                  <a:pt x="7667" y="3485"/>
                  <a:pt x="7775" y="3552"/>
                  <a:pt x="7888" y="3621"/>
                </a:cubicBezTo>
                <a:cubicBezTo>
                  <a:pt x="8010" y="3695"/>
                  <a:pt x="8105" y="3747"/>
                  <a:pt x="8210" y="3845"/>
                </a:cubicBezTo>
                <a:cubicBezTo>
                  <a:pt x="8246" y="3879"/>
                  <a:pt x="8268" y="3904"/>
                  <a:pt x="8285" y="3944"/>
                </a:cubicBezTo>
                <a:cubicBezTo>
                  <a:pt x="8295" y="3967"/>
                  <a:pt x="8260" y="3919"/>
                  <a:pt x="8260" y="3944"/>
                </a:cubicBezTo>
              </a:path>
              <a:path w="5483" h="1315">
                <a:moveTo>
                  <a:pt x="7987" y="3919"/>
                </a:moveTo>
                <a:cubicBezTo>
                  <a:pt x="8000" y="3972"/>
                  <a:pt x="8024" y="3969"/>
                  <a:pt x="8062" y="3994"/>
                </a:cubicBezTo>
                <a:cubicBezTo>
                  <a:pt x="8111" y="4026"/>
                  <a:pt x="8157" y="4047"/>
                  <a:pt x="8210" y="4068"/>
                </a:cubicBezTo>
                <a:cubicBezTo>
                  <a:pt x="8268" y="4091"/>
                  <a:pt x="8329" y="4120"/>
                  <a:pt x="8384" y="4142"/>
                </a:cubicBezTo>
                <a:cubicBezTo>
                  <a:pt x="8411" y="4153"/>
                  <a:pt x="8473" y="4186"/>
                  <a:pt x="8508" y="4167"/>
                </a:cubicBezTo>
                <a:cubicBezTo>
                  <a:pt x="8546" y="4146"/>
                  <a:pt x="8533" y="4104"/>
                  <a:pt x="8533" y="4068"/>
                </a:cubicBezTo>
                <a:cubicBezTo>
                  <a:pt x="8533" y="4024"/>
                  <a:pt x="8570" y="4006"/>
                  <a:pt x="8582" y="3969"/>
                </a:cubicBezTo>
                <a:cubicBezTo>
                  <a:pt x="8594" y="3933"/>
                  <a:pt x="8625" y="3908"/>
                  <a:pt x="8632" y="3894"/>
                </a:cubicBezTo>
                <a:cubicBezTo>
                  <a:pt x="8632" y="3870"/>
                  <a:pt x="8632" y="3862"/>
                  <a:pt x="8607" y="387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714240" y="2830680"/>
            <a:ext cx="3813480" cy="438120"/>
          </a:xfrm>
          <a:custGeom>
            <a:avLst/>
            <a:gdLst/>
            <a:ahLst/>
            <a:rect l="l" t="t" r="r" b="b"/>
            <a:pathLst>
              <a:path w="10593" h="1217">
                <a:moveTo>
                  <a:pt x="10244" y="8062"/>
                </a:moveTo>
                <a:cubicBezTo>
                  <a:pt x="10244" y="8136"/>
                  <a:pt x="10232" y="8191"/>
                  <a:pt x="10220" y="8260"/>
                </a:cubicBezTo>
                <a:cubicBezTo>
                  <a:pt x="10197" y="8394"/>
                  <a:pt x="10220" y="8545"/>
                  <a:pt x="10220" y="8682"/>
                </a:cubicBezTo>
              </a:path>
              <a:path w="10593" h="1217">
                <a:moveTo>
                  <a:pt x="9996" y="8434"/>
                </a:moveTo>
                <a:cubicBezTo>
                  <a:pt x="10048" y="8434"/>
                  <a:pt x="10071" y="8450"/>
                  <a:pt x="10120" y="8458"/>
                </a:cubicBezTo>
                <a:cubicBezTo>
                  <a:pt x="10177" y="8468"/>
                  <a:pt x="10239" y="8474"/>
                  <a:pt x="10294" y="8483"/>
                </a:cubicBezTo>
                <a:cubicBezTo>
                  <a:pt x="10359" y="8494"/>
                  <a:pt x="10406" y="8492"/>
                  <a:pt x="10468" y="8508"/>
                </a:cubicBezTo>
                <a:cubicBezTo>
                  <a:pt x="10503" y="8508"/>
                  <a:pt x="10520" y="8503"/>
                  <a:pt x="10542" y="8483"/>
                </a:cubicBezTo>
              </a:path>
              <a:path w="10593" h="1217">
                <a:moveTo>
                  <a:pt x="11013" y="8111"/>
                </a:moveTo>
                <a:cubicBezTo>
                  <a:pt x="11036" y="8134"/>
                  <a:pt x="11040" y="8142"/>
                  <a:pt x="11063" y="8136"/>
                </a:cubicBezTo>
                <a:cubicBezTo>
                  <a:pt x="11030" y="8125"/>
                  <a:pt x="11033" y="8096"/>
                  <a:pt x="11013" y="8086"/>
                </a:cubicBezTo>
                <a:cubicBezTo>
                  <a:pt x="10988" y="8074"/>
                  <a:pt x="10958" y="8064"/>
                  <a:pt x="10939" y="8062"/>
                </a:cubicBezTo>
                <a:cubicBezTo>
                  <a:pt x="10905" y="8058"/>
                  <a:pt x="10864" y="8070"/>
                  <a:pt x="10840" y="8086"/>
                </a:cubicBezTo>
                <a:cubicBezTo>
                  <a:pt x="10817" y="8102"/>
                  <a:pt x="10799" y="8158"/>
                  <a:pt x="10815" y="8186"/>
                </a:cubicBezTo>
                <a:cubicBezTo>
                  <a:pt x="10841" y="8232"/>
                  <a:pt x="10924" y="8254"/>
                  <a:pt x="10964" y="8285"/>
                </a:cubicBezTo>
                <a:cubicBezTo>
                  <a:pt x="11010" y="8320"/>
                  <a:pt x="11065" y="8353"/>
                  <a:pt x="11088" y="8409"/>
                </a:cubicBezTo>
                <a:cubicBezTo>
                  <a:pt x="11114" y="8474"/>
                  <a:pt x="11111" y="8485"/>
                  <a:pt x="11063" y="8533"/>
                </a:cubicBezTo>
                <a:cubicBezTo>
                  <a:pt x="11011" y="8586"/>
                  <a:pt x="10989" y="8582"/>
                  <a:pt x="10914" y="8582"/>
                </a:cubicBezTo>
                <a:cubicBezTo>
                  <a:pt x="10876" y="8582"/>
                  <a:pt x="10787" y="8601"/>
                  <a:pt x="10765" y="8558"/>
                </a:cubicBezTo>
                <a:cubicBezTo>
                  <a:pt x="10749" y="8527"/>
                  <a:pt x="10775" y="8503"/>
                  <a:pt x="10790" y="8483"/>
                </a:cubicBezTo>
              </a:path>
              <a:path w="10593" h="1217">
                <a:moveTo>
                  <a:pt x="11336" y="8235"/>
                </a:moveTo>
                <a:cubicBezTo>
                  <a:pt x="11318" y="8318"/>
                  <a:pt x="11311" y="8375"/>
                  <a:pt x="11311" y="8458"/>
                </a:cubicBezTo>
                <a:cubicBezTo>
                  <a:pt x="11311" y="8468"/>
                  <a:pt x="11311" y="8622"/>
                  <a:pt x="11311" y="8558"/>
                </a:cubicBezTo>
                <a:cubicBezTo>
                  <a:pt x="11311" y="8533"/>
                  <a:pt x="11311" y="8525"/>
                  <a:pt x="11311" y="8508"/>
                </a:cubicBezTo>
              </a:path>
              <a:path w="10593" h="1217">
                <a:moveTo>
                  <a:pt x="11385" y="7962"/>
                </a:moveTo>
                <a:lnTo>
                  <a:pt x="11385" y="7962"/>
                </a:lnTo>
              </a:path>
              <a:path w="10593" h="1217">
                <a:moveTo>
                  <a:pt x="11509" y="8285"/>
                </a:moveTo>
                <a:cubicBezTo>
                  <a:pt x="11521" y="8360"/>
                  <a:pt x="11552" y="8458"/>
                  <a:pt x="11559" y="8533"/>
                </a:cubicBezTo>
                <a:cubicBezTo>
                  <a:pt x="11559" y="8541"/>
                  <a:pt x="11559" y="8550"/>
                  <a:pt x="11559" y="8558"/>
                </a:cubicBezTo>
                <a:cubicBezTo>
                  <a:pt x="11592" y="8514"/>
                  <a:pt x="11584" y="8492"/>
                  <a:pt x="11584" y="8434"/>
                </a:cubicBezTo>
                <a:cubicBezTo>
                  <a:pt x="11584" y="8386"/>
                  <a:pt x="11589" y="8325"/>
                  <a:pt x="11609" y="8285"/>
                </a:cubicBezTo>
                <a:cubicBezTo>
                  <a:pt x="11637" y="8229"/>
                  <a:pt x="11636" y="8217"/>
                  <a:pt x="11683" y="8186"/>
                </a:cubicBezTo>
                <a:cubicBezTo>
                  <a:pt x="11714" y="8165"/>
                  <a:pt x="11753" y="8151"/>
                  <a:pt x="11782" y="8186"/>
                </a:cubicBezTo>
                <a:cubicBezTo>
                  <a:pt x="11818" y="8230"/>
                  <a:pt x="11838" y="8285"/>
                  <a:pt x="11857" y="8334"/>
                </a:cubicBezTo>
                <a:cubicBezTo>
                  <a:pt x="11878" y="8387"/>
                  <a:pt x="11911" y="8437"/>
                  <a:pt x="11931" y="8483"/>
                </a:cubicBezTo>
                <a:cubicBezTo>
                  <a:pt x="11943" y="8511"/>
                  <a:pt x="11998" y="8583"/>
                  <a:pt x="12005" y="8533"/>
                </a:cubicBezTo>
                <a:cubicBezTo>
                  <a:pt x="12005" y="8525"/>
                  <a:pt x="12005" y="8516"/>
                  <a:pt x="12005" y="8508"/>
                </a:cubicBezTo>
              </a:path>
              <a:path w="10593" h="1217">
                <a:moveTo>
                  <a:pt x="12105" y="8186"/>
                </a:moveTo>
                <a:cubicBezTo>
                  <a:pt x="12133" y="8257"/>
                  <a:pt x="12166" y="8295"/>
                  <a:pt x="12204" y="8359"/>
                </a:cubicBezTo>
                <a:cubicBezTo>
                  <a:pt x="12244" y="8426"/>
                  <a:pt x="12297" y="8458"/>
                  <a:pt x="12353" y="8508"/>
                </a:cubicBezTo>
                <a:cubicBezTo>
                  <a:pt x="12418" y="8566"/>
                  <a:pt x="12441" y="8587"/>
                  <a:pt x="12526" y="8607"/>
                </a:cubicBezTo>
                <a:cubicBezTo>
                  <a:pt x="12554" y="8607"/>
                  <a:pt x="12565" y="8605"/>
                  <a:pt x="12576" y="8582"/>
                </a:cubicBezTo>
              </a:path>
              <a:path w="10593" h="1217">
                <a:moveTo>
                  <a:pt x="12502" y="8186"/>
                </a:moveTo>
                <a:cubicBezTo>
                  <a:pt x="12429" y="8243"/>
                  <a:pt x="12332" y="8316"/>
                  <a:pt x="12278" y="8384"/>
                </a:cubicBezTo>
                <a:cubicBezTo>
                  <a:pt x="12239" y="8434"/>
                  <a:pt x="12202" y="8494"/>
                  <a:pt x="12154" y="8533"/>
                </a:cubicBezTo>
                <a:cubicBezTo>
                  <a:pt x="12138" y="8541"/>
                  <a:pt x="12121" y="8550"/>
                  <a:pt x="12105" y="8558"/>
                </a:cubicBezTo>
              </a:path>
              <a:path w="10593" h="1217">
                <a:moveTo>
                  <a:pt x="2530" y="8483"/>
                </a:moveTo>
                <a:cubicBezTo>
                  <a:pt x="2530" y="8432"/>
                  <a:pt x="2515" y="8430"/>
                  <a:pt x="2505" y="8409"/>
                </a:cubicBezTo>
                <a:cubicBezTo>
                  <a:pt x="2477" y="8353"/>
                  <a:pt x="2479" y="8359"/>
                  <a:pt x="2406" y="8359"/>
                </a:cubicBezTo>
                <a:cubicBezTo>
                  <a:pt x="2335" y="8359"/>
                  <a:pt x="2315" y="8374"/>
                  <a:pt x="2257" y="8409"/>
                </a:cubicBezTo>
                <a:cubicBezTo>
                  <a:pt x="2155" y="8471"/>
                  <a:pt x="2106" y="8499"/>
                  <a:pt x="2034" y="8607"/>
                </a:cubicBezTo>
                <a:cubicBezTo>
                  <a:pt x="2000" y="8658"/>
                  <a:pt x="1987" y="8746"/>
                  <a:pt x="1984" y="8806"/>
                </a:cubicBezTo>
                <a:cubicBezTo>
                  <a:pt x="1980" y="8869"/>
                  <a:pt x="1976" y="8938"/>
                  <a:pt x="2034" y="8979"/>
                </a:cubicBezTo>
                <a:cubicBezTo>
                  <a:pt x="2073" y="9007"/>
                  <a:pt x="2161" y="9068"/>
                  <a:pt x="2208" y="9079"/>
                </a:cubicBezTo>
                <a:cubicBezTo>
                  <a:pt x="2268" y="9093"/>
                  <a:pt x="2329" y="9079"/>
                  <a:pt x="2381" y="9054"/>
                </a:cubicBezTo>
                <a:cubicBezTo>
                  <a:pt x="2431" y="9029"/>
                  <a:pt x="2447" y="9021"/>
                  <a:pt x="2480" y="9004"/>
                </a:cubicBezTo>
              </a:path>
              <a:path w="10593" h="1217">
                <a:moveTo>
                  <a:pt x="3101" y="8434"/>
                </a:moveTo>
                <a:cubicBezTo>
                  <a:pt x="3142" y="8434"/>
                  <a:pt x="3096" y="8412"/>
                  <a:pt x="3076" y="8409"/>
                </a:cubicBezTo>
                <a:cubicBezTo>
                  <a:pt x="3029" y="8403"/>
                  <a:pt x="3018" y="8429"/>
                  <a:pt x="2977" y="8434"/>
                </a:cubicBezTo>
                <a:cubicBezTo>
                  <a:pt x="2944" y="8438"/>
                  <a:pt x="2892" y="8474"/>
                  <a:pt x="2877" y="8508"/>
                </a:cubicBezTo>
                <a:cubicBezTo>
                  <a:pt x="2857" y="8554"/>
                  <a:pt x="2917" y="8598"/>
                  <a:pt x="2952" y="8607"/>
                </a:cubicBezTo>
                <a:cubicBezTo>
                  <a:pt x="3027" y="8627"/>
                  <a:pt x="3062" y="8648"/>
                  <a:pt x="3125" y="8706"/>
                </a:cubicBezTo>
                <a:cubicBezTo>
                  <a:pt x="3148" y="8727"/>
                  <a:pt x="3209" y="8798"/>
                  <a:pt x="3200" y="8830"/>
                </a:cubicBezTo>
                <a:cubicBezTo>
                  <a:pt x="3174" y="8921"/>
                  <a:pt x="3097" y="8928"/>
                  <a:pt x="3026" y="8954"/>
                </a:cubicBezTo>
                <a:cubicBezTo>
                  <a:pt x="2974" y="8973"/>
                  <a:pt x="2886" y="9002"/>
                  <a:pt x="2828" y="8979"/>
                </a:cubicBezTo>
                <a:cubicBezTo>
                  <a:pt x="2774" y="8958"/>
                  <a:pt x="2771" y="8947"/>
                  <a:pt x="2803" y="8905"/>
                </a:cubicBezTo>
              </a:path>
              <a:path w="10593" h="1217">
                <a:moveTo>
                  <a:pt x="3721" y="8458"/>
                </a:moveTo>
                <a:cubicBezTo>
                  <a:pt x="3692" y="8430"/>
                  <a:pt x="3684" y="8371"/>
                  <a:pt x="3646" y="8384"/>
                </a:cubicBezTo>
                <a:cubicBezTo>
                  <a:pt x="3623" y="8392"/>
                  <a:pt x="3566" y="8422"/>
                  <a:pt x="3547" y="8434"/>
                </a:cubicBezTo>
                <a:cubicBezTo>
                  <a:pt x="3506" y="8460"/>
                  <a:pt x="3459" y="8597"/>
                  <a:pt x="3448" y="8632"/>
                </a:cubicBezTo>
                <a:cubicBezTo>
                  <a:pt x="3429" y="8691"/>
                  <a:pt x="3423" y="8741"/>
                  <a:pt x="3423" y="8806"/>
                </a:cubicBezTo>
                <a:cubicBezTo>
                  <a:pt x="3423" y="8844"/>
                  <a:pt x="3450" y="8916"/>
                  <a:pt x="3497" y="8930"/>
                </a:cubicBezTo>
                <a:cubicBezTo>
                  <a:pt x="3535" y="8941"/>
                  <a:pt x="3604" y="8968"/>
                  <a:pt x="3646" y="8954"/>
                </a:cubicBezTo>
                <a:cubicBezTo>
                  <a:pt x="3699" y="8937"/>
                  <a:pt x="3752" y="8889"/>
                  <a:pt x="3795" y="8855"/>
                </a:cubicBezTo>
              </a:path>
              <a:path w="10593" h="1217">
                <a:moveTo>
                  <a:pt x="3969" y="7938"/>
                </a:moveTo>
                <a:cubicBezTo>
                  <a:pt x="4096" y="7869"/>
                  <a:pt x="4056" y="7877"/>
                  <a:pt x="4167" y="7888"/>
                </a:cubicBezTo>
                <a:cubicBezTo>
                  <a:pt x="4175" y="7888"/>
                  <a:pt x="4184" y="7888"/>
                  <a:pt x="4192" y="7888"/>
                </a:cubicBezTo>
                <a:cubicBezTo>
                  <a:pt x="4181" y="7932"/>
                  <a:pt x="4152" y="7953"/>
                  <a:pt x="4118" y="7987"/>
                </a:cubicBezTo>
                <a:cubicBezTo>
                  <a:pt x="4084" y="8021"/>
                  <a:pt x="4015" y="8047"/>
                  <a:pt x="3994" y="8086"/>
                </a:cubicBezTo>
                <a:cubicBezTo>
                  <a:pt x="3972" y="8125"/>
                  <a:pt x="4004" y="8150"/>
                  <a:pt x="4018" y="8161"/>
                </a:cubicBezTo>
                <a:cubicBezTo>
                  <a:pt x="4068" y="8199"/>
                  <a:pt x="4131" y="8194"/>
                  <a:pt x="4192" y="8210"/>
                </a:cubicBezTo>
                <a:cubicBezTo>
                  <a:pt x="4217" y="8218"/>
                  <a:pt x="4241" y="8227"/>
                  <a:pt x="4266" y="8235"/>
                </a:cubicBezTo>
              </a:path>
              <a:path w="10593" h="1217">
                <a:moveTo>
                  <a:pt x="4390" y="8434"/>
                </a:moveTo>
                <a:cubicBezTo>
                  <a:pt x="4413" y="8531"/>
                  <a:pt x="4432" y="8622"/>
                  <a:pt x="4490" y="8706"/>
                </a:cubicBezTo>
                <a:cubicBezTo>
                  <a:pt x="4504" y="8726"/>
                  <a:pt x="4594" y="8845"/>
                  <a:pt x="4614" y="8855"/>
                </a:cubicBezTo>
                <a:cubicBezTo>
                  <a:pt x="4642" y="8869"/>
                  <a:pt x="4717" y="8897"/>
                  <a:pt x="4738" y="8855"/>
                </a:cubicBezTo>
                <a:cubicBezTo>
                  <a:pt x="4738" y="8847"/>
                  <a:pt x="4738" y="8838"/>
                  <a:pt x="4738" y="8830"/>
                </a:cubicBezTo>
              </a:path>
              <a:path w="10593" h="1217">
                <a:moveTo>
                  <a:pt x="4738" y="8409"/>
                </a:moveTo>
                <a:cubicBezTo>
                  <a:pt x="4662" y="8485"/>
                  <a:pt x="4578" y="8593"/>
                  <a:pt x="4490" y="8657"/>
                </a:cubicBezTo>
                <a:cubicBezTo>
                  <a:pt x="4429" y="8701"/>
                  <a:pt x="4354" y="8742"/>
                  <a:pt x="4291" y="8781"/>
                </a:cubicBezTo>
                <a:cubicBezTo>
                  <a:pt x="4251" y="8805"/>
                  <a:pt x="4120" y="8830"/>
                  <a:pt x="4167" y="8830"/>
                </a:cubicBezTo>
                <a:cubicBezTo>
                  <a:pt x="4175" y="8830"/>
                  <a:pt x="4184" y="8830"/>
                  <a:pt x="4192" y="8830"/>
                </a:cubicBezTo>
              </a:path>
              <a:path w="10593" h="1217">
                <a:moveTo>
                  <a:pt x="5011" y="8409"/>
                </a:moveTo>
                <a:cubicBezTo>
                  <a:pt x="5130" y="8409"/>
                  <a:pt x="5255" y="8418"/>
                  <a:pt x="5358" y="8384"/>
                </a:cubicBezTo>
                <a:cubicBezTo>
                  <a:pt x="5383" y="8384"/>
                  <a:pt x="5391" y="8384"/>
                  <a:pt x="5407" y="8384"/>
                </a:cubicBezTo>
              </a:path>
              <a:path w="10593" h="1217">
                <a:moveTo>
                  <a:pt x="6003" y="8260"/>
                </a:moveTo>
                <a:cubicBezTo>
                  <a:pt x="5993" y="8218"/>
                  <a:pt x="5975" y="8191"/>
                  <a:pt x="5928" y="8186"/>
                </a:cubicBezTo>
                <a:cubicBezTo>
                  <a:pt x="5868" y="8179"/>
                  <a:pt x="5836" y="8248"/>
                  <a:pt x="5804" y="8285"/>
                </a:cubicBezTo>
                <a:cubicBezTo>
                  <a:pt x="5767" y="8328"/>
                  <a:pt x="5718" y="8401"/>
                  <a:pt x="5705" y="8458"/>
                </a:cubicBezTo>
                <a:cubicBezTo>
                  <a:pt x="5688" y="8535"/>
                  <a:pt x="5671" y="8582"/>
                  <a:pt x="5705" y="8657"/>
                </a:cubicBezTo>
                <a:cubicBezTo>
                  <a:pt x="5729" y="8710"/>
                  <a:pt x="5771" y="8789"/>
                  <a:pt x="5829" y="8806"/>
                </a:cubicBezTo>
                <a:cubicBezTo>
                  <a:pt x="5894" y="8825"/>
                  <a:pt x="5995" y="8806"/>
                  <a:pt x="6052" y="8781"/>
                </a:cubicBezTo>
                <a:cubicBezTo>
                  <a:pt x="6106" y="8754"/>
                  <a:pt x="6127" y="8742"/>
                  <a:pt x="6152" y="8706"/>
                </a:cubicBezTo>
              </a:path>
              <a:path w="10593" h="1217">
                <a:moveTo>
                  <a:pt x="6548" y="8260"/>
                </a:moveTo>
                <a:cubicBezTo>
                  <a:pt x="6483" y="8260"/>
                  <a:pt x="6451" y="8256"/>
                  <a:pt x="6400" y="8285"/>
                </a:cubicBezTo>
                <a:cubicBezTo>
                  <a:pt x="6341" y="8319"/>
                  <a:pt x="6325" y="8318"/>
                  <a:pt x="6325" y="8384"/>
                </a:cubicBezTo>
                <a:cubicBezTo>
                  <a:pt x="6325" y="8407"/>
                  <a:pt x="6424" y="8490"/>
                  <a:pt x="6449" y="8508"/>
                </a:cubicBezTo>
                <a:cubicBezTo>
                  <a:pt x="6517" y="8556"/>
                  <a:pt x="6540" y="8591"/>
                  <a:pt x="6548" y="8682"/>
                </a:cubicBezTo>
                <a:cubicBezTo>
                  <a:pt x="6555" y="8759"/>
                  <a:pt x="6463" y="8738"/>
                  <a:pt x="6424" y="8756"/>
                </a:cubicBezTo>
                <a:cubicBezTo>
                  <a:pt x="6351" y="8790"/>
                  <a:pt x="6328" y="8770"/>
                  <a:pt x="6251" y="8731"/>
                </a:cubicBezTo>
                <a:cubicBezTo>
                  <a:pt x="6288" y="8719"/>
                  <a:pt x="6275" y="8715"/>
                  <a:pt x="6325" y="8682"/>
                </a:cubicBezTo>
              </a:path>
              <a:path w="10593" h="1217">
                <a:moveTo>
                  <a:pt x="7045" y="8359"/>
                </a:moveTo>
                <a:cubicBezTo>
                  <a:pt x="7061" y="8359"/>
                  <a:pt x="7078" y="8359"/>
                  <a:pt x="7094" y="8359"/>
                </a:cubicBezTo>
                <a:cubicBezTo>
                  <a:pt x="7061" y="8348"/>
                  <a:pt x="7065" y="8320"/>
                  <a:pt x="7045" y="8310"/>
                </a:cubicBezTo>
                <a:cubicBezTo>
                  <a:pt x="7009" y="8293"/>
                  <a:pt x="6945" y="8312"/>
                  <a:pt x="6921" y="8334"/>
                </a:cubicBezTo>
                <a:cubicBezTo>
                  <a:pt x="6855" y="8393"/>
                  <a:pt x="6796" y="8445"/>
                  <a:pt x="6772" y="8533"/>
                </a:cubicBezTo>
                <a:cubicBezTo>
                  <a:pt x="6754" y="8601"/>
                  <a:pt x="6741" y="8647"/>
                  <a:pt x="6772" y="8706"/>
                </a:cubicBezTo>
                <a:cubicBezTo>
                  <a:pt x="6811" y="8780"/>
                  <a:pt x="6835" y="8801"/>
                  <a:pt x="6921" y="8806"/>
                </a:cubicBezTo>
                <a:cubicBezTo>
                  <a:pt x="6997" y="8810"/>
                  <a:pt x="7035" y="8804"/>
                  <a:pt x="7094" y="8756"/>
                </a:cubicBezTo>
              </a:path>
              <a:path w="10593" h="1217">
                <a:moveTo>
                  <a:pt x="7243" y="8310"/>
                </a:moveTo>
                <a:cubicBezTo>
                  <a:pt x="7284" y="8387"/>
                  <a:pt x="7328" y="8455"/>
                  <a:pt x="7367" y="8533"/>
                </a:cubicBezTo>
                <a:cubicBezTo>
                  <a:pt x="7404" y="8606"/>
                  <a:pt x="7433" y="8648"/>
                  <a:pt x="7491" y="8706"/>
                </a:cubicBezTo>
                <a:cubicBezTo>
                  <a:pt x="7523" y="8738"/>
                  <a:pt x="7572" y="8776"/>
                  <a:pt x="7615" y="8781"/>
                </a:cubicBezTo>
                <a:cubicBezTo>
                  <a:pt x="7662" y="8786"/>
                  <a:pt x="7684" y="8736"/>
                  <a:pt x="7714" y="8706"/>
                </a:cubicBezTo>
              </a:path>
              <a:path w="10593" h="1217">
                <a:moveTo>
                  <a:pt x="7689" y="8310"/>
                </a:moveTo>
                <a:cubicBezTo>
                  <a:pt x="7602" y="8344"/>
                  <a:pt x="7582" y="8368"/>
                  <a:pt x="7516" y="8434"/>
                </a:cubicBezTo>
                <a:cubicBezTo>
                  <a:pt x="7452" y="8498"/>
                  <a:pt x="7398" y="8564"/>
                  <a:pt x="7342" y="8632"/>
                </a:cubicBezTo>
                <a:cubicBezTo>
                  <a:pt x="7295" y="8689"/>
                  <a:pt x="7262" y="8748"/>
                  <a:pt x="7218" y="8806"/>
                </a:cubicBezTo>
                <a:cubicBezTo>
                  <a:pt x="7186" y="8848"/>
                  <a:pt x="7200" y="8830"/>
                  <a:pt x="7243" y="8830"/>
                </a:cubicBezTo>
              </a:path>
              <a:path w="10593" h="1217">
                <a:moveTo>
                  <a:pt x="8334" y="8285"/>
                </a:moveTo>
                <a:cubicBezTo>
                  <a:pt x="8326" y="8268"/>
                  <a:pt x="8318" y="8252"/>
                  <a:pt x="8310" y="8235"/>
                </a:cubicBezTo>
                <a:cubicBezTo>
                  <a:pt x="8266" y="8244"/>
                  <a:pt x="8204" y="8247"/>
                  <a:pt x="8161" y="8260"/>
                </a:cubicBezTo>
                <a:cubicBezTo>
                  <a:pt x="8132" y="8269"/>
                  <a:pt x="8008" y="8311"/>
                  <a:pt x="7987" y="8334"/>
                </a:cubicBezTo>
                <a:cubicBezTo>
                  <a:pt x="7947" y="8379"/>
                  <a:pt x="7960" y="8420"/>
                  <a:pt x="8012" y="8458"/>
                </a:cubicBezTo>
                <a:cubicBezTo>
                  <a:pt x="8071" y="8502"/>
                  <a:pt x="8142" y="8515"/>
                  <a:pt x="8186" y="8582"/>
                </a:cubicBezTo>
                <a:cubicBezTo>
                  <a:pt x="8214" y="8624"/>
                  <a:pt x="8228" y="8667"/>
                  <a:pt x="8260" y="8706"/>
                </a:cubicBezTo>
                <a:cubicBezTo>
                  <a:pt x="8227" y="8739"/>
                  <a:pt x="8193" y="8760"/>
                  <a:pt x="8161" y="8781"/>
                </a:cubicBezTo>
                <a:cubicBezTo>
                  <a:pt x="8103" y="8820"/>
                  <a:pt x="8089" y="8774"/>
                  <a:pt x="8037" y="8756"/>
                </a:cubicBezTo>
                <a:cubicBezTo>
                  <a:pt x="7987" y="8739"/>
                  <a:pt x="7984" y="8713"/>
                  <a:pt x="8012" y="8657"/>
                </a:cubicBezTo>
                <a:cubicBezTo>
                  <a:pt x="8020" y="8649"/>
                  <a:pt x="8029" y="8640"/>
                  <a:pt x="8037" y="8632"/>
                </a:cubicBezTo>
              </a:path>
              <a:path w="10593" h="1217">
                <a:moveTo>
                  <a:pt x="8508" y="8409"/>
                </a:moveTo>
                <a:cubicBezTo>
                  <a:pt x="8508" y="8525"/>
                  <a:pt x="8489" y="8601"/>
                  <a:pt x="8483" y="8706"/>
                </a:cubicBezTo>
                <a:cubicBezTo>
                  <a:pt x="8480" y="8753"/>
                  <a:pt x="8503" y="8809"/>
                  <a:pt x="8483" y="8781"/>
                </a:cubicBezTo>
                <a:cubicBezTo>
                  <a:pt x="8475" y="8773"/>
                  <a:pt x="8466" y="8764"/>
                  <a:pt x="8458" y="8756"/>
                </a:cubicBezTo>
              </a:path>
              <a:path w="10593" h="1217">
                <a:moveTo>
                  <a:pt x="8607" y="8086"/>
                </a:moveTo>
                <a:cubicBezTo>
                  <a:pt x="8629" y="8043"/>
                  <a:pt x="8633" y="8031"/>
                  <a:pt x="8657" y="8012"/>
                </a:cubicBezTo>
              </a:path>
              <a:path w="10593" h="1217">
                <a:moveTo>
                  <a:pt x="8706" y="8533"/>
                </a:moveTo>
                <a:cubicBezTo>
                  <a:pt x="8697" y="8577"/>
                  <a:pt x="8635" y="8740"/>
                  <a:pt x="8682" y="8756"/>
                </a:cubicBezTo>
                <a:cubicBezTo>
                  <a:pt x="8682" y="8698"/>
                  <a:pt x="8688" y="8635"/>
                  <a:pt x="8706" y="8582"/>
                </a:cubicBezTo>
                <a:cubicBezTo>
                  <a:pt x="8746" y="8462"/>
                  <a:pt x="8761" y="8435"/>
                  <a:pt x="8855" y="8359"/>
                </a:cubicBezTo>
                <a:cubicBezTo>
                  <a:pt x="8906" y="8318"/>
                  <a:pt x="8931" y="8340"/>
                  <a:pt x="8979" y="8384"/>
                </a:cubicBezTo>
                <a:cubicBezTo>
                  <a:pt x="9021" y="8422"/>
                  <a:pt x="9044" y="8560"/>
                  <a:pt x="9054" y="8607"/>
                </a:cubicBezTo>
                <a:cubicBezTo>
                  <a:pt x="9065" y="8656"/>
                  <a:pt x="9053" y="8690"/>
                  <a:pt x="9079" y="8731"/>
                </a:cubicBezTo>
                <a:cubicBezTo>
                  <a:pt x="9107" y="8775"/>
                  <a:pt x="9105" y="8736"/>
                  <a:pt x="9128" y="8706"/>
                </a:cubicBezTo>
              </a:path>
              <a:path w="10593" h="1217">
                <a:moveTo>
                  <a:pt x="9227" y="8334"/>
                </a:moveTo>
                <a:cubicBezTo>
                  <a:pt x="9276" y="8390"/>
                  <a:pt x="9316" y="8442"/>
                  <a:pt x="9351" y="8508"/>
                </a:cubicBezTo>
                <a:cubicBezTo>
                  <a:pt x="9388" y="8578"/>
                  <a:pt x="9432" y="8621"/>
                  <a:pt x="9500" y="8657"/>
                </a:cubicBezTo>
                <a:cubicBezTo>
                  <a:pt x="9541" y="8679"/>
                  <a:pt x="9597" y="8731"/>
                  <a:pt x="9649" y="8706"/>
                </a:cubicBezTo>
                <a:cubicBezTo>
                  <a:pt x="9657" y="8698"/>
                  <a:pt x="9666" y="8690"/>
                  <a:pt x="9674" y="8682"/>
                </a:cubicBezTo>
              </a:path>
              <a:path w="10593" h="1217">
                <a:moveTo>
                  <a:pt x="9525" y="8384"/>
                </a:moveTo>
                <a:cubicBezTo>
                  <a:pt x="9411" y="8464"/>
                  <a:pt x="9312" y="8550"/>
                  <a:pt x="9203" y="8632"/>
                </a:cubicBezTo>
                <a:cubicBezTo>
                  <a:pt x="9122" y="8693"/>
                  <a:pt x="9039" y="8752"/>
                  <a:pt x="8954" y="880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303640" y="3251160"/>
            <a:ext cx="1179360" cy="446040"/>
          </a:xfrm>
          <a:custGeom>
            <a:avLst/>
            <a:gdLst/>
            <a:ahLst/>
            <a:rect l="l" t="t" r="r" b="b"/>
            <a:pathLst>
              <a:path w="3275" h="1241">
                <a:moveTo>
                  <a:pt x="6772" y="9029"/>
                </a:moveTo>
                <a:cubicBezTo>
                  <a:pt x="6772" y="9203"/>
                  <a:pt x="6772" y="9376"/>
                  <a:pt x="6772" y="9550"/>
                </a:cubicBezTo>
              </a:path>
              <a:path w="3275" h="1241">
                <a:moveTo>
                  <a:pt x="6424" y="9723"/>
                </a:moveTo>
                <a:cubicBezTo>
                  <a:pt x="6510" y="9747"/>
                  <a:pt x="6584" y="9769"/>
                  <a:pt x="6672" y="9773"/>
                </a:cubicBezTo>
                <a:cubicBezTo>
                  <a:pt x="6755" y="9777"/>
                  <a:pt x="6838" y="9773"/>
                  <a:pt x="6921" y="9773"/>
                </a:cubicBezTo>
              </a:path>
              <a:path w="3275" h="1241">
                <a:moveTo>
                  <a:pt x="6722" y="9847"/>
                </a:moveTo>
                <a:cubicBezTo>
                  <a:pt x="6703" y="9857"/>
                  <a:pt x="6540" y="9923"/>
                  <a:pt x="6524" y="9947"/>
                </a:cubicBezTo>
                <a:cubicBezTo>
                  <a:pt x="6512" y="9965"/>
                  <a:pt x="6505" y="9999"/>
                  <a:pt x="6499" y="10021"/>
                </a:cubicBezTo>
                <a:cubicBezTo>
                  <a:pt x="6537" y="10050"/>
                  <a:pt x="6578" y="10053"/>
                  <a:pt x="6623" y="10071"/>
                </a:cubicBezTo>
                <a:cubicBezTo>
                  <a:pt x="6676" y="10092"/>
                  <a:pt x="6708" y="10131"/>
                  <a:pt x="6747" y="10170"/>
                </a:cubicBezTo>
                <a:cubicBezTo>
                  <a:pt x="6799" y="10222"/>
                  <a:pt x="6748" y="10244"/>
                  <a:pt x="6697" y="10244"/>
                </a:cubicBezTo>
                <a:cubicBezTo>
                  <a:pt x="6630" y="10244"/>
                  <a:pt x="6616" y="10248"/>
                  <a:pt x="6548" y="10244"/>
                </a:cubicBezTo>
                <a:cubicBezTo>
                  <a:pt x="6498" y="10241"/>
                  <a:pt x="6463" y="10261"/>
                  <a:pt x="6449" y="10220"/>
                </a:cubicBezTo>
              </a:path>
              <a:path w="3275" h="1241">
                <a:moveTo>
                  <a:pt x="6921" y="10046"/>
                </a:moveTo>
                <a:cubicBezTo>
                  <a:pt x="6942" y="10092"/>
                  <a:pt x="6989" y="10170"/>
                  <a:pt x="6995" y="10220"/>
                </a:cubicBezTo>
                <a:cubicBezTo>
                  <a:pt x="6995" y="10228"/>
                  <a:pt x="6995" y="10236"/>
                  <a:pt x="6995" y="10244"/>
                </a:cubicBezTo>
              </a:path>
              <a:path w="3275" h="1241">
                <a:moveTo>
                  <a:pt x="7119" y="9823"/>
                </a:moveTo>
                <a:cubicBezTo>
                  <a:pt x="7136" y="9823"/>
                  <a:pt x="7152" y="9823"/>
                  <a:pt x="7169" y="9823"/>
                </a:cubicBezTo>
              </a:path>
              <a:path w="3275" h="1241">
                <a:moveTo>
                  <a:pt x="7144" y="10170"/>
                </a:moveTo>
                <a:cubicBezTo>
                  <a:pt x="7144" y="10200"/>
                  <a:pt x="7156" y="10250"/>
                  <a:pt x="7144" y="10220"/>
                </a:cubicBezTo>
                <a:cubicBezTo>
                  <a:pt x="7127" y="10177"/>
                  <a:pt x="7143" y="10101"/>
                  <a:pt x="7169" y="10071"/>
                </a:cubicBezTo>
                <a:cubicBezTo>
                  <a:pt x="7207" y="10028"/>
                  <a:pt x="7256" y="10037"/>
                  <a:pt x="7293" y="10071"/>
                </a:cubicBezTo>
                <a:cubicBezTo>
                  <a:pt x="7328" y="10103"/>
                  <a:pt x="7376" y="10174"/>
                  <a:pt x="7392" y="10220"/>
                </a:cubicBezTo>
                <a:cubicBezTo>
                  <a:pt x="7397" y="10235"/>
                  <a:pt x="7433" y="10284"/>
                  <a:pt x="7466" y="10269"/>
                </a:cubicBezTo>
                <a:cubicBezTo>
                  <a:pt x="7474" y="10261"/>
                  <a:pt x="7483" y="10252"/>
                  <a:pt x="7491" y="10244"/>
                </a:cubicBezTo>
              </a:path>
              <a:path w="3275" h="1241">
                <a:moveTo>
                  <a:pt x="7516" y="10071"/>
                </a:moveTo>
                <a:cubicBezTo>
                  <a:pt x="7584" y="10145"/>
                  <a:pt x="7639" y="10239"/>
                  <a:pt x="7739" y="10269"/>
                </a:cubicBezTo>
                <a:cubicBezTo>
                  <a:pt x="7768" y="10278"/>
                  <a:pt x="7808" y="10269"/>
                  <a:pt x="7838" y="10269"/>
                </a:cubicBezTo>
              </a:path>
              <a:path w="3275" h="1241">
                <a:moveTo>
                  <a:pt x="7764" y="9996"/>
                </a:moveTo>
                <a:cubicBezTo>
                  <a:pt x="7686" y="10053"/>
                  <a:pt x="7611" y="10105"/>
                  <a:pt x="7541" y="10170"/>
                </a:cubicBezTo>
                <a:cubicBezTo>
                  <a:pt x="7503" y="10205"/>
                  <a:pt x="7463" y="10253"/>
                  <a:pt x="7417" y="10269"/>
                </a:cubicBezTo>
                <a:cubicBezTo>
                  <a:pt x="7409" y="10269"/>
                  <a:pt x="7400" y="10269"/>
                  <a:pt x="7392" y="10269"/>
                </a:cubicBezTo>
              </a:path>
              <a:path w="3275" h="1241">
                <a:moveTo>
                  <a:pt x="7913" y="9723"/>
                </a:moveTo>
                <a:cubicBezTo>
                  <a:pt x="7921" y="9723"/>
                  <a:pt x="7930" y="9723"/>
                  <a:pt x="7938" y="9723"/>
                </a:cubicBezTo>
              </a:path>
              <a:path w="3275" h="1241">
                <a:moveTo>
                  <a:pt x="8533" y="9277"/>
                </a:moveTo>
                <a:cubicBezTo>
                  <a:pt x="8518" y="9216"/>
                  <a:pt x="8506" y="9218"/>
                  <a:pt x="8458" y="9178"/>
                </a:cubicBezTo>
                <a:cubicBezTo>
                  <a:pt x="8425" y="9151"/>
                  <a:pt x="8357" y="9139"/>
                  <a:pt x="8310" y="9153"/>
                </a:cubicBezTo>
                <a:cubicBezTo>
                  <a:pt x="8273" y="9164"/>
                  <a:pt x="8204" y="9186"/>
                  <a:pt x="8186" y="9227"/>
                </a:cubicBezTo>
                <a:cubicBezTo>
                  <a:pt x="8164" y="9278"/>
                  <a:pt x="8226" y="9307"/>
                  <a:pt x="8260" y="9327"/>
                </a:cubicBezTo>
                <a:cubicBezTo>
                  <a:pt x="8306" y="9354"/>
                  <a:pt x="8377" y="9382"/>
                  <a:pt x="8409" y="9426"/>
                </a:cubicBezTo>
                <a:cubicBezTo>
                  <a:pt x="8439" y="9467"/>
                  <a:pt x="8458" y="9519"/>
                  <a:pt x="8434" y="9550"/>
                </a:cubicBezTo>
                <a:cubicBezTo>
                  <a:pt x="8411" y="9580"/>
                  <a:pt x="8347" y="9588"/>
                  <a:pt x="8310" y="9575"/>
                </a:cubicBezTo>
                <a:cubicBezTo>
                  <a:pt x="8271" y="9561"/>
                  <a:pt x="8205" y="9544"/>
                  <a:pt x="8186" y="9500"/>
                </a:cubicBezTo>
                <a:cubicBezTo>
                  <a:pt x="8186" y="9472"/>
                  <a:pt x="8188" y="9462"/>
                  <a:pt x="8210" y="9451"/>
                </a:cubicBezTo>
              </a:path>
              <a:path w="3275" h="1241">
                <a:moveTo>
                  <a:pt x="8607" y="9327"/>
                </a:moveTo>
                <a:cubicBezTo>
                  <a:pt x="8635" y="9405"/>
                  <a:pt x="8659" y="9482"/>
                  <a:pt x="8682" y="9550"/>
                </a:cubicBezTo>
                <a:cubicBezTo>
                  <a:pt x="8684" y="9556"/>
                  <a:pt x="8682" y="9641"/>
                  <a:pt x="8682" y="9575"/>
                </a:cubicBezTo>
              </a:path>
              <a:path w="3275" h="1241">
                <a:moveTo>
                  <a:pt x="8756" y="9054"/>
                </a:moveTo>
                <a:cubicBezTo>
                  <a:pt x="8817" y="9054"/>
                  <a:pt x="8829" y="9066"/>
                  <a:pt x="8880" y="9079"/>
                </a:cubicBezTo>
              </a:path>
              <a:path w="3275" h="1241">
                <a:moveTo>
                  <a:pt x="8954" y="9451"/>
                </a:moveTo>
                <a:cubicBezTo>
                  <a:pt x="8954" y="9467"/>
                  <a:pt x="8954" y="9484"/>
                  <a:pt x="8954" y="9500"/>
                </a:cubicBezTo>
                <a:cubicBezTo>
                  <a:pt x="9011" y="9528"/>
                  <a:pt x="8954" y="9481"/>
                  <a:pt x="8954" y="9426"/>
                </a:cubicBezTo>
                <a:cubicBezTo>
                  <a:pt x="8954" y="9337"/>
                  <a:pt x="8978" y="9330"/>
                  <a:pt x="9004" y="9252"/>
                </a:cubicBezTo>
                <a:cubicBezTo>
                  <a:pt x="9012" y="9227"/>
                  <a:pt x="9068" y="9207"/>
                  <a:pt x="9103" y="9227"/>
                </a:cubicBezTo>
                <a:cubicBezTo>
                  <a:pt x="9151" y="9254"/>
                  <a:pt x="9180" y="9354"/>
                  <a:pt x="9203" y="9401"/>
                </a:cubicBezTo>
                <a:cubicBezTo>
                  <a:pt x="9225" y="9445"/>
                  <a:pt x="9286" y="9516"/>
                  <a:pt x="9327" y="9525"/>
                </a:cubicBezTo>
                <a:cubicBezTo>
                  <a:pt x="9335" y="9525"/>
                  <a:pt x="9343" y="9525"/>
                  <a:pt x="9351" y="9525"/>
                </a:cubicBezTo>
              </a:path>
              <a:path w="3275" h="1241">
                <a:moveTo>
                  <a:pt x="9376" y="9153"/>
                </a:moveTo>
                <a:cubicBezTo>
                  <a:pt x="9426" y="9234"/>
                  <a:pt x="9470" y="9294"/>
                  <a:pt x="9550" y="9351"/>
                </a:cubicBezTo>
                <a:cubicBezTo>
                  <a:pt x="9589" y="9379"/>
                  <a:pt x="9632" y="9402"/>
                  <a:pt x="9674" y="9426"/>
                </a:cubicBezTo>
              </a:path>
              <a:path w="3275" h="1241">
                <a:moveTo>
                  <a:pt x="9599" y="9153"/>
                </a:moveTo>
                <a:cubicBezTo>
                  <a:pt x="9515" y="9252"/>
                  <a:pt x="9428" y="9366"/>
                  <a:pt x="9327" y="9451"/>
                </a:cubicBezTo>
                <a:cubicBezTo>
                  <a:pt x="9261" y="9507"/>
                  <a:pt x="9175" y="9551"/>
                  <a:pt x="9103" y="9599"/>
                </a:cubicBezTo>
              </a:path>
              <a:path w="3275" h="1241">
                <a:moveTo>
                  <a:pt x="8260" y="9451"/>
                </a:moveTo>
                <a:cubicBezTo>
                  <a:pt x="8401" y="9396"/>
                  <a:pt x="8540" y="9351"/>
                  <a:pt x="8682" y="9302"/>
                </a:cubicBezTo>
                <a:cubicBezTo>
                  <a:pt x="8856" y="9242"/>
                  <a:pt x="9022" y="9212"/>
                  <a:pt x="9203" y="9178"/>
                </a:cubicBezTo>
                <a:cubicBezTo>
                  <a:pt x="9346" y="9151"/>
                  <a:pt x="9438" y="9159"/>
                  <a:pt x="9575" y="9178"/>
                </a:cubicBezTo>
                <a:cubicBezTo>
                  <a:pt x="9599" y="9178"/>
                  <a:pt x="9608" y="9178"/>
                  <a:pt x="9624" y="9178"/>
                </a:cubicBezTo>
              </a:path>
              <a:path w="3275" h="1241">
                <a:moveTo>
                  <a:pt x="6400" y="10244"/>
                </a:moveTo>
                <a:cubicBezTo>
                  <a:pt x="6531" y="10183"/>
                  <a:pt x="6654" y="10150"/>
                  <a:pt x="6796" y="10120"/>
                </a:cubicBezTo>
                <a:cubicBezTo>
                  <a:pt x="6995" y="10078"/>
                  <a:pt x="7195" y="10044"/>
                  <a:pt x="7392" y="9996"/>
                </a:cubicBezTo>
                <a:cubicBezTo>
                  <a:pt x="7483" y="9974"/>
                  <a:pt x="7587" y="9952"/>
                  <a:pt x="7665" y="9897"/>
                </a:cubicBezTo>
                <a:cubicBezTo>
                  <a:pt x="7673" y="9889"/>
                  <a:pt x="7681" y="9880"/>
                  <a:pt x="7689" y="987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894120" y="2938320"/>
            <a:ext cx="3340080" cy="660600"/>
          </a:xfrm>
          <a:custGeom>
            <a:avLst/>
            <a:gdLst/>
            <a:ahLst/>
            <a:rect l="l" t="t" r="r" b="b"/>
            <a:pathLst>
              <a:path w="9278" h="1836">
                <a:moveTo>
                  <a:pt x="10914" y="8781"/>
                </a:moveTo>
                <a:cubicBezTo>
                  <a:pt x="11042" y="8781"/>
                  <a:pt x="11158" y="8797"/>
                  <a:pt x="11286" y="8806"/>
                </a:cubicBezTo>
                <a:cubicBezTo>
                  <a:pt x="11420" y="8815"/>
                  <a:pt x="11550" y="8844"/>
                  <a:pt x="11683" y="8855"/>
                </a:cubicBezTo>
                <a:cubicBezTo>
                  <a:pt x="11798" y="8864"/>
                  <a:pt x="11916" y="8874"/>
                  <a:pt x="12030" y="8880"/>
                </a:cubicBezTo>
                <a:cubicBezTo>
                  <a:pt x="12044" y="8881"/>
                  <a:pt x="12197" y="8880"/>
                  <a:pt x="12129" y="8880"/>
                </a:cubicBezTo>
                <a:cubicBezTo>
                  <a:pt x="12094" y="8880"/>
                  <a:pt x="12077" y="8875"/>
                  <a:pt x="12055" y="8855"/>
                </a:cubicBezTo>
              </a:path>
              <a:path w="9278" h="1836">
                <a:moveTo>
                  <a:pt x="11237" y="9079"/>
                </a:moveTo>
                <a:cubicBezTo>
                  <a:pt x="11195" y="9089"/>
                  <a:pt x="11156" y="9107"/>
                  <a:pt x="11112" y="9128"/>
                </a:cubicBezTo>
                <a:cubicBezTo>
                  <a:pt x="11065" y="9150"/>
                  <a:pt x="11002" y="9178"/>
                  <a:pt x="10964" y="9203"/>
                </a:cubicBezTo>
                <a:cubicBezTo>
                  <a:pt x="10939" y="9227"/>
                  <a:pt x="10930" y="9235"/>
                  <a:pt x="10914" y="9252"/>
                </a:cubicBezTo>
                <a:cubicBezTo>
                  <a:pt x="10941" y="9318"/>
                  <a:pt x="10984" y="9356"/>
                  <a:pt x="11038" y="9401"/>
                </a:cubicBezTo>
                <a:cubicBezTo>
                  <a:pt x="11104" y="9456"/>
                  <a:pt x="11180" y="9516"/>
                  <a:pt x="11187" y="9599"/>
                </a:cubicBezTo>
                <a:cubicBezTo>
                  <a:pt x="11191" y="9650"/>
                  <a:pt x="11126" y="9679"/>
                  <a:pt x="11088" y="9699"/>
                </a:cubicBezTo>
                <a:cubicBezTo>
                  <a:pt x="11029" y="9730"/>
                  <a:pt x="10978" y="9723"/>
                  <a:pt x="10914" y="9723"/>
                </a:cubicBezTo>
                <a:cubicBezTo>
                  <a:pt x="10892" y="9723"/>
                  <a:pt x="10788" y="9735"/>
                  <a:pt x="10815" y="9674"/>
                </a:cubicBezTo>
                <a:cubicBezTo>
                  <a:pt x="10838" y="9651"/>
                  <a:pt x="10846" y="9647"/>
                  <a:pt x="10840" y="9624"/>
                </a:cubicBezTo>
              </a:path>
              <a:path w="9278" h="1836">
                <a:moveTo>
                  <a:pt x="11410" y="9451"/>
                </a:moveTo>
                <a:cubicBezTo>
                  <a:pt x="11404" y="9540"/>
                  <a:pt x="11385" y="9610"/>
                  <a:pt x="11385" y="9699"/>
                </a:cubicBezTo>
                <a:cubicBezTo>
                  <a:pt x="11385" y="9716"/>
                  <a:pt x="11361" y="9805"/>
                  <a:pt x="11361" y="9748"/>
                </a:cubicBezTo>
                <a:cubicBezTo>
                  <a:pt x="11361" y="9740"/>
                  <a:pt x="11361" y="9731"/>
                  <a:pt x="11361" y="9723"/>
                </a:cubicBezTo>
              </a:path>
              <a:path w="9278" h="1836">
                <a:moveTo>
                  <a:pt x="11460" y="9079"/>
                </a:moveTo>
                <a:cubicBezTo>
                  <a:pt x="11468" y="9062"/>
                  <a:pt x="11477" y="9046"/>
                  <a:pt x="11485" y="9029"/>
                </a:cubicBezTo>
              </a:path>
              <a:path w="9278" h="1836">
                <a:moveTo>
                  <a:pt x="11609" y="9475"/>
                </a:moveTo>
                <a:cubicBezTo>
                  <a:pt x="11609" y="9566"/>
                  <a:pt x="11609" y="9657"/>
                  <a:pt x="11609" y="9748"/>
                </a:cubicBezTo>
                <a:cubicBezTo>
                  <a:pt x="11632" y="9708"/>
                  <a:pt x="11646" y="9648"/>
                  <a:pt x="11658" y="9599"/>
                </a:cubicBezTo>
                <a:cubicBezTo>
                  <a:pt x="11675" y="9532"/>
                  <a:pt x="11714" y="9458"/>
                  <a:pt x="11757" y="9401"/>
                </a:cubicBezTo>
                <a:cubicBezTo>
                  <a:pt x="11775" y="9376"/>
                  <a:pt x="11874" y="9322"/>
                  <a:pt x="11906" y="9327"/>
                </a:cubicBezTo>
                <a:cubicBezTo>
                  <a:pt x="11945" y="9333"/>
                  <a:pt x="11991" y="9424"/>
                  <a:pt x="12005" y="9451"/>
                </a:cubicBezTo>
                <a:cubicBezTo>
                  <a:pt x="12035" y="9509"/>
                  <a:pt x="12035" y="9566"/>
                  <a:pt x="12055" y="9624"/>
                </a:cubicBezTo>
                <a:cubicBezTo>
                  <a:pt x="12060" y="9639"/>
                  <a:pt x="12095" y="9741"/>
                  <a:pt x="12105" y="9748"/>
                </a:cubicBezTo>
                <a:cubicBezTo>
                  <a:pt x="12129" y="9748"/>
                  <a:pt x="12137" y="9748"/>
                  <a:pt x="12129" y="9723"/>
                </a:cubicBezTo>
              </a:path>
              <a:path w="9278" h="1836">
                <a:moveTo>
                  <a:pt x="12254" y="9327"/>
                </a:moveTo>
                <a:cubicBezTo>
                  <a:pt x="12293" y="9405"/>
                  <a:pt x="12335" y="9477"/>
                  <a:pt x="12378" y="9550"/>
                </a:cubicBezTo>
                <a:cubicBezTo>
                  <a:pt x="12418" y="9618"/>
                  <a:pt x="12456" y="9662"/>
                  <a:pt x="12526" y="9699"/>
                </a:cubicBezTo>
                <a:cubicBezTo>
                  <a:pt x="12592" y="9733"/>
                  <a:pt x="12601" y="9748"/>
                  <a:pt x="12675" y="9748"/>
                </a:cubicBezTo>
                <a:cubicBezTo>
                  <a:pt x="12675" y="9701"/>
                  <a:pt x="12691" y="9668"/>
                  <a:pt x="12700" y="9624"/>
                </a:cubicBezTo>
              </a:path>
              <a:path w="9278" h="1836">
                <a:moveTo>
                  <a:pt x="12526" y="9327"/>
                </a:moveTo>
                <a:cubicBezTo>
                  <a:pt x="12453" y="9393"/>
                  <a:pt x="12401" y="9465"/>
                  <a:pt x="12328" y="9525"/>
                </a:cubicBezTo>
                <a:cubicBezTo>
                  <a:pt x="12270" y="9573"/>
                  <a:pt x="12194" y="9614"/>
                  <a:pt x="12129" y="9649"/>
                </a:cubicBezTo>
                <a:cubicBezTo>
                  <a:pt x="12094" y="9668"/>
                  <a:pt x="12015" y="9709"/>
                  <a:pt x="12055" y="9649"/>
                </a:cubicBezTo>
              </a:path>
              <a:path w="9278" h="1836">
                <a:moveTo>
                  <a:pt x="12923" y="8855"/>
                </a:moveTo>
                <a:cubicBezTo>
                  <a:pt x="12982" y="8880"/>
                  <a:pt x="13032" y="8902"/>
                  <a:pt x="13097" y="8905"/>
                </a:cubicBezTo>
                <a:cubicBezTo>
                  <a:pt x="13209" y="8910"/>
                  <a:pt x="13313" y="8913"/>
                  <a:pt x="13419" y="8930"/>
                </a:cubicBezTo>
                <a:cubicBezTo>
                  <a:pt x="13476" y="8939"/>
                  <a:pt x="13493" y="8960"/>
                  <a:pt x="13543" y="8930"/>
                </a:cubicBezTo>
                <a:cubicBezTo>
                  <a:pt x="13551" y="8922"/>
                  <a:pt x="13560" y="8913"/>
                  <a:pt x="13568" y="8905"/>
                </a:cubicBezTo>
              </a:path>
              <a:path w="9278" h="1836">
                <a:moveTo>
                  <a:pt x="14511" y="8235"/>
                </a:moveTo>
                <a:cubicBezTo>
                  <a:pt x="14534" y="8258"/>
                  <a:pt x="14542" y="8262"/>
                  <a:pt x="14536" y="8285"/>
                </a:cubicBezTo>
                <a:cubicBezTo>
                  <a:pt x="14536" y="8259"/>
                  <a:pt x="14529" y="8198"/>
                  <a:pt x="14511" y="8186"/>
                </a:cubicBezTo>
                <a:cubicBezTo>
                  <a:pt x="14462" y="8154"/>
                  <a:pt x="14457" y="8171"/>
                  <a:pt x="14412" y="8186"/>
                </a:cubicBezTo>
                <a:cubicBezTo>
                  <a:pt x="14376" y="8198"/>
                  <a:pt x="14293" y="8271"/>
                  <a:pt x="14263" y="8310"/>
                </a:cubicBezTo>
                <a:cubicBezTo>
                  <a:pt x="14218" y="8368"/>
                  <a:pt x="14123" y="8533"/>
                  <a:pt x="14139" y="8607"/>
                </a:cubicBezTo>
                <a:cubicBezTo>
                  <a:pt x="14157" y="8692"/>
                  <a:pt x="14178" y="8702"/>
                  <a:pt x="14238" y="8756"/>
                </a:cubicBezTo>
                <a:cubicBezTo>
                  <a:pt x="14327" y="8836"/>
                  <a:pt x="14476" y="8768"/>
                  <a:pt x="14560" y="8706"/>
                </a:cubicBezTo>
                <a:cubicBezTo>
                  <a:pt x="14607" y="8660"/>
                  <a:pt x="14621" y="8648"/>
                  <a:pt x="14635" y="8607"/>
                </a:cubicBezTo>
              </a:path>
              <a:path w="9278" h="1836">
                <a:moveTo>
                  <a:pt x="14759" y="8310"/>
                </a:moveTo>
                <a:cubicBezTo>
                  <a:pt x="14722" y="8396"/>
                  <a:pt x="14689" y="8466"/>
                  <a:pt x="14684" y="8558"/>
                </a:cubicBezTo>
                <a:cubicBezTo>
                  <a:pt x="14680" y="8624"/>
                  <a:pt x="14689" y="8657"/>
                  <a:pt x="14734" y="8706"/>
                </a:cubicBezTo>
                <a:cubicBezTo>
                  <a:pt x="14780" y="8756"/>
                  <a:pt x="14802" y="8740"/>
                  <a:pt x="14858" y="8731"/>
                </a:cubicBezTo>
                <a:cubicBezTo>
                  <a:pt x="14930" y="8719"/>
                  <a:pt x="14971" y="8694"/>
                  <a:pt x="15007" y="8632"/>
                </a:cubicBezTo>
                <a:cubicBezTo>
                  <a:pt x="15044" y="8569"/>
                  <a:pt x="15077" y="8506"/>
                  <a:pt x="15081" y="8434"/>
                </a:cubicBezTo>
                <a:cubicBezTo>
                  <a:pt x="15083" y="8390"/>
                  <a:pt x="15048" y="8286"/>
                  <a:pt x="15007" y="8260"/>
                </a:cubicBezTo>
                <a:cubicBezTo>
                  <a:pt x="14981" y="8244"/>
                  <a:pt x="14870" y="8215"/>
                  <a:pt x="14833" y="8235"/>
                </a:cubicBezTo>
                <a:cubicBezTo>
                  <a:pt x="14783" y="8263"/>
                  <a:pt x="14774" y="8263"/>
                  <a:pt x="14808" y="8310"/>
                </a:cubicBezTo>
              </a:path>
              <a:path w="9278" h="1836">
                <a:moveTo>
                  <a:pt x="15478" y="8235"/>
                </a:moveTo>
                <a:cubicBezTo>
                  <a:pt x="15392" y="8235"/>
                  <a:pt x="15358" y="8259"/>
                  <a:pt x="15280" y="8285"/>
                </a:cubicBezTo>
                <a:cubicBezTo>
                  <a:pt x="15288" y="8342"/>
                  <a:pt x="15315" y="8408"/>
                  <a:pt x="15354" y="8458"/>
                </a:cubicBezTo>
                <a:cubicBezTo>
                  <a:pt x="15411" y="8531"/>
                  <a:pt x="15474" y="8614"/>
                  <a:pt x="15503" y="8706"/>
                </a:cubicBezTo>
                <a:cubicBezTo>
                  <a:pt x="15517" y="8751"/>
                  <a:pt x="15494" y="8776"/>
                  <a:pt x="15453" y="8781"/>
                </a:cubicBezTo>
                <a:cubicBezTo>
                  <a:pt x="15395" y="8788"/>
                  <a:pt x="15348" y="8732"/>
                  <a:pt x="15304" y="8706"/>
                </a:cubicBezTo>
                <a:cubicBezTo>
                  <a:pt x="15241" y="8668"/>
                  <a:pt x="15203" y="8658"/>
                  <a:pt x="15255" y="8582"/>
                </a:cubicBezTo>
                <a:cubicBezTo>
                  <a:pt x="15263" y="8574"/>
                  <a:pt x="15272" y="8566"/>
                  <a:pt x="15280" y="8558"/>
                </a:cubicBezTo>
              </a:path>
              <a:path w="9278" h="1836">
                <a:moveTo>
                  <a:pt x="15776" y="8458"/>
                </a:moveTo>
                <a:cubicBezTo>
                  <a:pt x="15811" y="8536"/>
                  <a:pt x="15852" y="8605"/>
                  <a:pt x="15925" y="8657"/>
                </a:cubicBezTo>
                <a:cubicBezTo>
                  <a:pt x="15958" y="8681"/>
                  <a:pt x="16038" y="8747"/>
                  <a:pt x="16073" y="8756"/>
                </a:cubicBezTo>
                <a:cubicBezTo>
                  <a:pt x="16122" y="8769"/>
                  <a:pt x="16140" y="8756"/>
                  <a:pt x="16173" y="8731"/>
                </a:cubicBezTo>
              </a:path>
              <a:path w="9278" h="1836">
                <a:moveTo>
                  <a:pt x="16073" y="8434"/>
                </a:moveTo>
                <a:cubicBezTo>
                  <a:pt x="15982" y="8509"/>
                  <a:pt x="15885" y="8577"/>
                  <a:pt x="15801" y="8657"/>
                </a:cubicBezTo>
                <a:cubicBezTo>
                  <a:pt x="15726" y="8728"/>
                  <a:pt x="15667" y="8761"/>
                  <a:pt x="15577" y="8806"/>
                </a:cubicBezTo>
              </a:path>
              <a:path w="9278" h="1836">
                <a:moveTo>
                  <a:pt x="14362" y="8954"/>
                </a:moveTo>
                <a:cubicBezTo>
                  <a:pt x="14490" y="9054"/>
                  <a:pt x="14641" y="9044"/>
                  <a:pt x="14808" y="9054"/>
                </a:cubicBezTo>
                <a:cubicBezTo>
                  <a:pt x="14966" y="9063"/>
                  <a:pt x="15124" y="9075"/>
                  <a:pt x="15280" y="9103"/>
                </a:cubicBezTo>
                <a:cubicBezTo>
                  <a:pt x="15408" y="9126"/>
                  <a:pt x="15523" y="9128"/>
                  <a:pt x="15652" y="9128"/>
                </a:cubicBezTo>
                <a:cubicBezTo>
                  <a:pt x="15714" y="9128"/>
                  <a:pt x="15752" y="9122"/>
                  <a:pt x="15677" y="9103"/>
                </a:cubicBezTo>
              </a:path>
              <a:path w="9278" h="1836">
                <a:moveTo>
                  <a:pt x="14635" y="9302"/>
                </a:moveTo>
                <a:cubicBezTo>
                  <a:pt x="14591" y="9302"/>
                  <a:pt x="14550" y="9313"/>
                  <a:pt x="14511" y="9327"/>
                </a:cubicBezTo>
                <a:cubicBezTo>
                  <a:pt x="14457" y="9346"/>
                  <a:pt x="14412" y="9364"/>
                  <a:pt x="14362" y="9376"/>
                </a:cubicBezTo>
                <a:cubicBezTo>
                  <a:pt x="14362" y="9422"/>
                  <a:pt x="14369" y="9447"/>
                  <a:pt x="14412" y="9475"/>
                </a:cubicBezTo>
                <a:cubicBezTo>
                  <a:pt x="14494" y="9528"/>
                  <a:pt x="14578" y="9568"/>
                  <a:pt x="14660" y="9624"/>
                </a:cubicBezTo>
                <a:cubicBezTo>
                  <a:pt x="14688" y="9643"/>
                  <a:pt x="14806" y="9698"/>
                  <a:pt x="14784" y="9748"/>
                </a:cubicBezTo>
                <a:cubicBezTo>
                  <a:pt x="14763" y="9796"/>
                  <a:pt x="14678" y="9816"/>
                  <a:pt x="14635" y="9823"/>
                </a:cubicBezTo>
                <a:cubicBezTo>
                  <a:pt x="14557" y="9836"/>
                  <a:pt x="14463" y="9787"/>
                  <a:pt x="14387" y="9773"/>
                </a:cubicBezTo>
                <a:cubicBezTo>
                  <a:pt x="14333" y="9763"/>
                  <a:pt x="14334" y="9740"/>
                  <a:pt x="14362" y="9699"/>
                </a:cubicBezTo>
                <a:cubicBezTo>
                  <a:pt x="14370" y="9691"/>
                  <a:pt x="14379" y="9682"/>
                  <a:pt x="14387" y="9674"/>
                </a:cubicBezTo>
              </a:path>
              <a:path w="9278" h="1836">
                <a:moveTo>
                  <a:pt x="14982" y="9525"/>
                </a:moveTo>
                <a:cubicBezTo>
                  <a:pt x="15002" y="9599"/>
                  <a:pt x="15007" y="9647"/>
                  <a:pt x="15007" y="9723"/>
                </a:cubicBezTo>
                <a:cubicBezTo>
                  <a:pt x="15007" y="9788"/>
                  <a:pt x="15008" y="9787"/>
                  <a:pt x="14982" y="9847"/>
                </a:cubicBezTo>
                <a:cubicBezTo>
                  <a:pt x="14982" y="9806"/>
                  <a:pt x="14982" y="9764"/>
                  <a:pt x="14982" y="9723"/>
                </a:cubicBezTo>
              </a:path>
              <a:path w="9278" h="1836">
                <a:moveTo>
                  <a:pt x="15032" y="9277"/>
                </a:moveTo>
                <a:cubicBezTo>
                  <a:pt x="15048" y="9269"/>
                  <a:pt x="15065" y="9260"/>
                  <a:pt x="15081" y="9252"/>
                </a:cubicBezTo>
              </a:path>
              <a:path w="9278" h="1836">
                <a:moveTo>
                  <a:pt x="15255" y="9723"/>
                </a:moveTo>
                <a:cubicBezTo>
                  <a:pt x="15255" y="9740"/>
                  <a:pt x="15255" y="9756"/>
                  <a:pt x="15255" y="9773"/>
                </a:cubicBezTo>
                <a:cubicBezTo>
                  <a:pt x="15255" y="9698"/>
                  <a:pt x="15271" y="9642"/>
                  <a:pt x="15280" y="9575"/>
                </a:cubicBezTo>
                <a:cubicBezTo>
                  <a:pt x="15292" y="9483"/>
                  <a:pt x="15315" y="9475"/>
                  <a:pt x="15379" y="9426"/>
                </a:cubicBezTo>
                <a:cubicBezTo>
                  <a:pt x="15448" y="9373"/>
                  <a:pt x="15465" y="9454"/>
                  <a:pt x="15503" y="9500"/>
                </a:cubicBezTo>
                <a:cubicBezTo>
                  <a:pt x="15557" y="9565"/>
                  <a:pt x="15589" y="9623"/>
                  <a:pt x="15627" y="9699"/>
                </a:cubicBezTo>
                <a:cubicBezTo>
                  <a:pt x="15640" y="9725"/>
                  <a:pt x="15675" y="9810"/>
                  <a:pt x="15701" y="9823"/>
                </a:cubicBezTo>
                <a:cubicBezTo>
                  <a:pt x="15726" y="9823"/>
                  <a:pt x="15734" y="9823"/>
                  <a:pt x="15726" y="9798"/>
                </a:cubicBezTo>
              </a:path>
              <a:path w="9278" h="1836">
                <a:moveTo>
                  <a:pt x="15850" y="9575"/>
                </a:moveTo>
                <a:cubicBezTo>
                  <a:pt x="15905" y="9666"/>
                  <a:pt x="15980" y="9826"/>
                  <a:pt x="16073" y="9897"/>
                </a:cubicBezTo>
                <a:cubicBezTo>
                  <a:pt x="16091" y="9910"/>
                  <a:pt x="16234" y="9997"/>
                  <a:pt x="16247" y="9996"/>
                </a:cubicBezTo>
                <a:cubicBezTo>
                  <a:pt x="16301" y="9990"/>
                  <a:pt x="16311" y="9933"/>
                  <a:pt x="16321" y="9897"/>
                </a:cubicBezTo>
              </a:path>
              <a:path w="9278" h="1836">
                <a:moveTo>
                  <a:pt x="16222" y="9575"/>
                </a:moveTo>
                <a:cubicBezTo>
                  <a:pt x="16078" y="9641"/>
                  <a:pt x="15907" y="9767"/>
                  <a:pt x="15751" y="9798"/>
                </a:cubicBezTo>
                <a:cubicBezTo>
                  <a:pt x="15743" y="9800"/>
                  <a:pt x="15588" y="9836"/>
                  <a:pt x="15577" y="9823"/>
                </a:cubicBezTo>
                <a:cubicBezTo>
                  <a:pt x="15577" y="9788"/>
                  <a:pt x="15586" y="9775"/>
                  <a:pt x="15627" y="9773"/>
                </a:cubicBezTo>
              </a:path>
              <a:path w="9278" h="1836">
                <a:moveTo>
                  <a:pt x="16793" y="8905"/>
                </a:moveTo>
                <a:cubicBezTo>
                  <a:pt x="16781" y="9096"/>
                  <a:pt x="16793" y="9130"/>
                  <a:pt x="16793" y="9277"/>
                </a:cubicBezTo>
                <a:cubicBezTo>
                  <a:pt x="16793" y="9294"/>
                  <a:pt x="16818" y="9412"/>
                  <a:pt x="16818" y="9351"/>
                </a:cubicBezTo>
                <a:cubicBezTo>
                  <a:pt x="16818" y="9343"/>
                  <a:pt x="16818" y="9335"/>
                  <a:pt x="16818" y="9327"/>
                </a:cubicBezTo>
              </a:path>
              <a:path w="9278" h="1836">
                <a:moveTo>
                  <a:pt x="16594" y="9079"/>
                </a:moveTo>
                <a:cubicBezTo>
                  <a:pt x="16681" y="9079"/>
                  <a:pt x="16758" y="9063"/>
                  <a:pt x="16842" y="9054"/>
                </a:cubicBezTo>
                <a:cubicBezTo>
                  <a:pt x="16917" y="9054"/>
                  <a:pt x="16941" y="9054"/>
                  <a:pt x="16991" y="9054"/>
                </a:cubicBezTo>
              </a:path>
              <a:path w="9278" h="1836">
                <a:moveTo>
                  <a:pt x="17835" y="8731"/>
                </a:moveTo>
                <a:cubicBezTo>
                  <a:pt x="17836" y="8730"/>
                  <a:pt x="17859" y="8676"/>
                  <a:pt x="17835" y="8657"/>
                </a:cubicBezTo>
                <a:cubicBezTo>
                  <a:pt x="17778" y="8611"/>
                  <a:pt x="17761" y="8622"/>
                  <a:pt x="17686" y="8632"/>
                </a:cubicBezTo>
                <a:cubicBezTo>
                  <a:pt x="17619" y="8641"/>
                  <a:pt x="17569" y="8724"/>
                  <a:pt x="17537" y="8781"/>
                </a:cubicBezTo>
                <a:cubicBezTo>
                  <a:pt x="17493" y="8859"/>
                  <a:pt x="17463" y="8919"/>
                  <a:pt x="17512" y="9004"/>
                </a:cubicBezTo>
                <a:cubicBezTo>
                  <a:pt x="17529" y="9033"/>
                  <a:pt x="17627" y="9097"/>
                  <a:pt x="17661" y="9103"/>
                </a:cubicBezTo>
                <a:cubicBezTo>
                  <a:pt x="17754" y="9120"/>
                  <a:pt x="17803" y="9086"/>
                  <a:pt x="17884" y="9054"/>
                </a:cubicBezTo>
                <a:cubicBezTo>
                  <a:pt x="17909" y="9046"/>
                  <a:pt x="17934" y="9037"/>
                  <a:pt x="17959" y="9029"/>
                </a:cubicBezTo>
              </a:path>
              <a:path w="9278" h="1836">
                <a:moveTo>
                  <a:pt x="18083" y="8756"/>
                </a:moveTo>
                <a:cubicBezTo>
                  <a:pt x="18055" y="8821"/>
                  <a:pt x="18007" y="8901"/>
                  <a:pt x="18033" y="8979"/>
                </a:cubicBezTo>
                <a:cubicBezTo>
                  <a:pt x="18060" y="9060"/>
                  <a:pt x="18129" y="9068"/>
                  <a:pt x="18207" y="9079"/>
                </a:cubicBezTo>
                <a:cubicBezTo>
                  <a:pt x="18286" y="9090"/>
                  <a:pt x="18344" y="9039"/>
                  <a:pt x="18380" y="8979"/>
                </a:cubicBezTo>
                <a:cubicBezTo>
                  <a:pt x="18412" y="8925"/>
                  <a:pt x="18431" y="8808"/>
                  <a:pt x="18380" y="8756"/>
                </a:cubicBezTo>
                <a:cubicBezTo>
                  <a:pt x="18333" y="8709"/>
                  <a:pt x="18258" y="8688"/>
                  <a:pt x="18207" y="8657"/>
                </a:cubicBezTo>
                <a:cubicBezTo>
                  <a:pt x="18172" y="8636"/>
                  <a:pt x="18167" y="8636"/>
                  <a:pt x="18157" y="8607"/>
                </a:cubicBezTo>
              </a:path>
              <a:path w="9278" h="1836">
                <a:moveTo>
                  <a:pt x="18554" y="8434"/>
                </a:moveTo>
                <a:cubicBezTo>
                  <a:pt x="18515" y="8645"/>
                  <a:pt x="18501" y="8701"/>
                  <a:pt x="18529" y="8880"/>
                </a:cubicBezTo>
                <a:cubicBezTo>
                  <a:pt x="18537" y="8931"/>
                  <a:pt x="18605" y="9039"/>
                  <a:pt x="18554" y="9029"/>
                </a:cubicBezTo>
                <a:cubicBezTo>
                  <a:pt x="18546" y="9021"/>
                  <a:pt x="18537" y="9012"/>
                  <a:pt x="18529" y="9004"/>
                </a:cubicBezTo>
              </a:path>
              <a:path w="9278" h="1836">
                <a:moveTo>
                  <a:pt x="18306" y="8682"/>
                </a:moveTo>
                <a:cubicBezTo>
                  <a:pt x="18418" y="8705"/>
                  <a:pt x="18512" y="8706"/>
                  <a:pt x="18628" y="8706"/>
                </a:cubicBezTo>
                <a:cubicBezTo>
                  <a:pt x="18722" y="8706"/>
                  <a:pt x="18806" y="8726"/>
                  <a:pt x="18901" y="8731"/>
                </a:cubicBezTo>
              </a:path>
              <a:path w="9278" h="1836">
                <a:moveTo>
                  <a:pt x="19100" y="8756"/>
                </a:moveTo>
                <a:cubicBezTo>
                  <a:pt x="19105" y="8831"/>
                  <a:pt x="19110" y="8945"/>
                  <a:pt x="19174" y="9004"/>
                </a:cubicBezTo>
                <a:cubicBezTo>
                  <a:pt x="19232" y="9057"/>
                  <a:pt x="19320" y="9097"/>
                  <a:pt x="19397" y="9103"/>
                </a:cubicBezTo>
                <a:cubicBezTo>
                  <a:pt x="19425" y="9103"/>
                  <a:pt x="19436" y="9101"/>
                  <a:pt x="19447" y="9079"/>
                </a:cubicBezTo>
              </a:path>
              <a:path w="9278" h="1836">
                <a:moveTo>
                  <a:pt x="19273" y="8830"/>
                </a:moveTo>
                <a:cubicBezTo>
                  <a:pt x="19207" y="8896"/>
                  <a:pt x="19141" y="8963"/>
                  <a:pt x="19075" y="9029"/>
                </a:cubicBezTo>
                <a:cubicBezTo>
                  <a:pt x="19052" y="9052"/>
                  <a:pt x="19044" y="9056"/>
                  <a:pt x="19050" y="9079"/>
                </a:cubicBezTo>
                <a:cubicBezTo>
                  <a:pt x="19102" y="9079"/>
                  <a:pt x="19122" y="9061"/>
                  <a:pt x="19174" y="9054"/>
                </a:cubicBezTo>
              </a:path>
              <a:path w="9278" h="1836">
                <a:moveTo>
                  <a:pt x="19819" y="8880"/>
                </a:moveTo>
                <a:cubicBezTo>
                  <a:pt x="19985" y="8907"/>
                  <a:pt x="19994" y="8929"/>
                  <a:pt x="20092" y="8905"/>
                </a:cubicBezTo>
              </a:path>
              <a:path w="9278" h="1836">
                <a:moveTo>
                  <a:pt x="19819" y="9128"/>
                </a:moveTo>
                <a:cubicBezTo>
                  <a:pt x="19880" y="9189"/>
                  <a:pt x="19905" y="9222"/>
                  <a:pt x="19993" y="9227"/>
                </a:cubicBezTo>
                <a:cubicBezTo>
                  <a:pt x="20042" y="9227"/>
                  <a:pt x="20059" y="9227"/>
                  <a:pt x="20092" y="922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830160" y="3813120"/>
            <a:ext cx="6215040" cy="517680"/>
          </a:xfrm>
          <a:custGeom>
            <a:avLst/>
            <a:gdLst/>
            <a:ahLst/>
            <a:rect l="l" t="t" r="r" b="b"/>
            <a:pathLst>
              <a:path w="17265" h="1439">
                <a:moveTo>
                  <a:pt x="2729" y="10864"/>
                </a:moveTo>
                <a:cubicBezTo>
                  <a:pt x="2746" y="10979"/>
                  <a:pt x="2729" y="10951"/>
                  <a:pt x="2729" y="11038"/>
                </a:cubicBezTo>
                <a:cubicBezTo>
                  <a:pt x="2729" y="11063"/>
                  <a:pt x="2729" y="11071"/>
                  <a:pt x="2704" y="11063"/>
                </a:cubicBezTo>
                <a:cubicBezTo>
                  <a:pt x="2704" y="11014"/>
                  <a:pt x="2687" y="10977"/>
                  <a:pt x="2679" y="10939"/>
                </a:cubicBezTo>
                <a:cubicBezTo>
                  <a:pt x="2672" y="10904"/>
                  <a:pt x="2656" y="10837"/>
                  <a:pt x="2629" y="10815"/>
                </a:cubicBezTo>
                <a:cubicBezTo>
                  <a:pt x="2579" y="10773"/>
                  <a:pt x="2517" y="10788"/>
                  <a:pt x="2480" y="10840"/>
                </a:cubicBezTo>
                <a:cubicBezTo>
                  <a:pt x="2431" y="10910"/>
                  <a:pt x="2389" y="10950"/>
                  <a:pt x="2356" y="11038"/>
                </a:cubicBezTo>
                <a:cubicBezTo>
                  <a:pt x="2325" y="11123"/>
                  <a:pt x="2311" y="11222"/>
                  <a:pt x="2307" y="11311"/>
                </a:cubicBezTo>
                <a:cubicBezTo>
                  <a:pt x="2304" y="11367"/>
                  <a:pt x="2326" y="11460"/>
                  <a:pt x="2356" y="11509"/>
                </a:cubicBezTo>
                <a:cubicBezTo>
                  <a:pt x="2389" y="11563"/>
                  <a:pt x="2475" y="11581"/>
                  <a:pt x="2530" y="11584"/>
                </a:cubicBezTo>
                <a:cubicBezTo>
                  <a:pt x="2592" y="11587"/>
                  <a:pt x="2646" y="11555"/>
                  <a:pt x="2704" y="11534"/>
                </a:cubicBezTo>
              </a:path>
              <a:path w="17265" h="1439">
                <a:moveTo>
                  <a:pt x="3225" y="10988"/>
                </a:moveTo>
                <a:cubicBezTo>
                  <a:pt x="3148" y="10988"/>
                  <a:pt x="3123" y="11016"/>
                  <a:pt x="3051" y="11038"/>
                </a:cubicBezTo>
                <a:cubicBezTo>
                  <a:pt x="3003" y="11053"/>
                  <a:pt x="2970" y="11083"/>
                  <a:pt x="2952" y="11137"/>
                </a:cubicBezTo>
                <a:cubicBezTo>
                  <a:pt x="2941" y="11170"/>
                  <a:pt x="3004" y="11238"/>
                  <a:pt x="3026" y="11261"/>
                </a:cubicBezTo>
                <a:cubicBezTo>
                  <a:pt x="3079" y="11318"/>
                  <a:pt x="3157" y="11371"/>
                  <a:pt x="3200" y="11435"/>
                </a:cubicBezTo>
                <a:cubicBezTo>
                  <a:pt x="3243" y="11499"/>
                  <a:pt x="3222" y="11532"/>
                  <a:pt x="3175" y="11584"/>
                </a:cubicBezTo>
                <a:cubicBezTo>
                  <a:pt x="3130" y="11633"/>
                  <a:pt x="3088" y="11633"/>
                  <a:pt x="3026" y="11633"/>
                </a:cubicBezTo>
                <a:cubicBezTo>
                  <a:pt x="2933" y="11633"/>
                  <a:pt x="2952" y="11634"/>
                  <a:pt x="2952" y="11534"/>
                </a:cubicBezTo>
              </a:path>
              <a:path w="17265" h="1439">
                <a:moveTo>
                  <a:pt x="3646" y="11112"/>
                </a:moveTo>
                <a:cubicBezTo>
                  <a:pt x="3663" y="11129"/>
                  <a:pt x="3679" y="11145"/>
                  <a:pt x="3696" y="11162"/>
                </a:cubicBezTo>
                <a:cubicBezTo>
                  <a:pt x="3642" y="11144"/>
                  <a:pt x="3674" y="11139"/>
                  <a:pt x="3646" y="11088"/>
                </a:cubicBezTo>
                <a:cubicBezTo>
                  <a:pt x="3623" y="11045"/>
                  <a:pt x="3608" y="11048"/>
                  <a:pt x="3597" y="11013"/>
                </a:cubicBezTo>
                <a:cubicBezTo>
                  <a:pt x="3551" y="11059"/>
                  <a:pt x="3526" y="11103"/>
                  <a:pt x="3497" y="11162"/>
                </a:cubicBezTo>
                <a:cubicBezTo>
                  <a:pt x="3457" y="11243"/>
                  <a:pt x="3427" y="11294"/>
                  <a:pt x="3423" y="11385"/>
                </a:cubicBezTo>
                <a:cubicBezTo>
                  <a:pt x="3420" y="11441"/>
                  <a:pt x="3414" y="11491"/>
                  <a:pt x="3448" y="11534"/>
                </a:cubicBezTo>
                <a:cubicBezTo>
                  <a:pt x="3478" y="11571"/>
                  <a:pt x="3549" y="11620"/>
                  <a:pt x="3597" y="11609"/>
                </a:cubicBezTo>
                <a:cubicBezTo>
                  <a:pt x="3645" y="11598"/>
                  <a:pt x="3702" y="11556"/>
                  <a:pt x="3746" y="11534"/>
                </a:cubicBezTo>
              </a:path>
              <a:path w="17265" h="1439">
                <a:moveTo>
                  <a:pt x="3870" y="10666"/>
                </a:moveTo>
                <a:cubicBezTo>
                  <a:pt x="3961" y="10584"/>
                  <a:pt x="3937" y="10592"/>
                  <a:pt x="4043" y="10592"/>
                </a:cubicBezTo>
                <a:cubicBezTo>
                  <a:pt x="4043" y="10641"/>
                  <a:pt x="4025" y="10675"/>
                  <a:pt x="3994" y="10716"/>
                </a:cubicBezTo>
                <a:cubicBezTo>
                  <a:pt x="3961" y="10759"/>
                  <a:pt x="3933" y="10801"/>
                  <a:pt x="3894" y="10840"/>
                </a:cubicBezTo>
                <a:cubicBezTo>
                  <a:pt x="3912" y="10875"/>
                  <a:pt x="3969" y="10905"/>
                  <a:pt x="4018" y="10914"/>
                </a:cubicBezTo>
                <a:cubicBezTo>
                  <a:pt x="4035" y="10914"/>
                  <a:pt x="4051" y="10914"/>
                  <a:pt x="4068" y="10914"/>
                </a:cubicBezTo>
              </a:path>
              <a:path w="17265" h="1439">
                <a:moveTo>
                  <a:pt x="4242" y="11112"/>
                </a:moveTo>
                <a:cubicBezTo>
                  <a:pt x="4242" y="11206"/>
                  <a:pt x="4231" y="11304"/>
                  <a:pt x="4291" y="11385"/>
                </a:cubicBezTo>
                <a:cubicBezTo>
                  <a:pt x="4335" y="11444"/>
                  <a:pt x="4426" y="11500"/>
                  <a:pt x="4490" y="11534"/>
                </a:cubicBezTo>
                <a:cubicBezTo>
                  <a:pt x="4555" y="11569"/>
                  <a:pt x="4626" y="11616"/>
                  <a:pt x="4663" y="11559"/>
                </a:cubicBezTo>
              </a:path>
              <a:path w="17265" h="1439">
                <a:moveTo>
                  <a:pt x="4638" y="11112"/>
                </a:moveTo>
                <a:cubicBezTo>
                  <a:pt x="4589" y="11201"/>
                  <a:pt x="4517" y="11361"/>
                  <a:pt x="4440" y="11435"/>
                </a:cubicBezTo>
                <a:cubicBezTo>
                  <a:pt x="4392" y="11481"/>
                  <a:pt x="4283" y="11582"/>
                  <a:pt x="4217" y="11609"/>
                </a:cubicBezTo>
                <a:cubicBezTo>
                  <a:pt x="4192" y="11609"/>
                  <a:pt x="4184" y="11609"/>
                  <a:pt x="4192" y="11584"/>
                </a:cubicBezTo>
              </a:path>
              <a:path w="17265" h="1439">
                <a:moveTo>
                  <a:pt x="5110" y="11187"/>
                </a:moveTo>
                <a:cubicBezTo>
                  <a:pt x="5180" y="11206"/>
                  <a:pt x="5264" y="11228"/>
                  <a:pt x="5333" y="11237"/>
                </a:cubicBezTo>
                <a:cubicBezTo>
                  <a:pt x="5404" y="11246"/>
                  <a:pt x="5513" y="11240"/>
                  <a:pt x="5581" y="11261"/>
                </a:cubicBezTo>
                <a:cubicBezTo>
                  <a:pt x="5624" y="11275"/>
                  <a:pt x="5640" y="11310"/>
                  <a:pt x="5631" y="11286"/>
                </a:cubicBezTo>
                <a:cubicBezTo>
                  <a:pt x="5618" y="11252"/>
                  <a:pt x="5625" y="11261"/>
                  <a:pt x="5581" y="11261"/>
                </a:cubicBezTo>
              </a:path>
              <a:path w="17265" h="1439">
                <a:moveTo>
                  <a:pt x="6648" y="10716"/>
                </a:moveTo>
                <a:cubicBezTo>
                  <a:pt x="6676" y="10753"/>
                  <a:pt x="6672" y="10768"/>
                  <a:pt x="6672" y="10815"/>
                </a:cubicBezTo>
                <a:cubicBezTo>
                  <a:pt x="6672" y="10946"/>
                  <a:pt x="6736" y="11751"/>
                  <a:pt x="6648" y="11782"/>
                </a:cubicBezTo>
                <a:cubicBezTo>
                  <a:pt x="6661" y="11727"/>
                  <a:pt x="6695" y="11741"/>
                  <a:pt x="6648" y="11757"/>
                </a:cubicBezTo>
              </a:path>
              <a:path w="17265" h="1439">
                <a:moveTo>
                  <a:pt x="8210" y="10840"/>
                </a:moveTo>
                <a:cubicBezTo>
                  <a:pt x="8210" y="10930"/>
                  <a:pt x="8198" y="11001"/>
                  <a:pt x="8186" y="11088"/>
                </a:cubicBezTo>
                <a:cubicBezTo>
                  <a:pt x="8172" y="11192"/>
                  <a:pt x="8203" y="11285"/>
                  <a:pt x="8210" y="11385"/>
                </a:cubicBezTo>
                <a:cubicBezTo>
                  <a:pt x="8214" y="11444"/>
                  <a:pt x="8190" y="11450"/>
                  <a:pt x="8186" y="11485"/>
                </a:cubicBezTo>
                <a:cubicBezTo>
                  <a:pt x="8186" y="11493"/>
                  <a:pt x="8186" y="11501"/>
                  <a:pt x="8186" y="11509"/>
                </a:cubicBezTo>
              </a:path>
              <a:path w="17265" h="1439">
                <a:moveTo>
                  <a:pt x="7962" y="11261"/>
                </a:moveTo>
                <a:cubicBezTo>
                  <a:pt x="8046" y="11261"/>
                  <a:pt x="8181" y="11301"/>
                  <a:pt x="8260" y="11286"/>
                </a:cubicBezTo>
                <a:cubicBezTo>
                  <a:pt x="8378" y="11263"/>
                  <a:pt x="8511" y="11265"/>
                  <a:pt x="8632" y="11237"/>
                </a:cubicBezTo>
                <a:cubicBezTo>
                  <a:pt x="8682" y="11212"/>
                  <a:pt x="8698" y="11204"/>
                  <a:pt x="8731" y="11187"/>
                </a:cubicBezTo>
              </a:path>
              <a:path w="17265" h="1439">
                <a:moveTo>
                  <a:pt x="9723" y="10790"/>
                </a:moveTo>
                <a:cubicBezTo>
                  <a:pt x="9723" y="10975"/>
                  <a:pt x="9727" y="11156"/>
                  <a:pt x="9748" y="11336"/>
                </a:cubicBezTo>
                <a:cubicBezTo>
                  <a:pt x="9770" y="11529"/>
                  <a:pt x="9748" y="11736"/>
                  <a:pt x="9748" y="11931"/>
                </a:cubicBezTo>
                <a:cubicBezTo>
                  <a:pt x="9748" y="11866"/>
                  <a:pt x="9729" y="11910"/>
                  <a:pt x="9773" y="11881"/>
                </a:cubicBezTo>
              </a:path>
              <a:path w="17265" h="1439">
                <a:moveTo>
                  <a:pt x="10443" y="11534"/>
                </a:moveTo>
                <a:cubicBezTo>
                  <a:pt x="10488" y="11534"/>
                  <a:pt x="10502" y="11556"/>
                  <a:pt x="10542" y="11559"/>
                </a:cubicBezTo>
                <a:cubicBezTo>
                  <a:pt x="10608" y="11564"/>
                  <a:pt x="10700" y="11567"/>
                  <a:pt x="10765" y="11584"/>
                </a:cubicBezTo>
                <a:cubicBezTo>
                  <a:pt x="10832" y="11602"/>
                  <a:pt x="10897" y="11617"/>
                  <a:pt x="10964" y="11633"/>
                </a:cubicBezTo>
                <a:cubicBezTo>
                  <a:pt x="10996" y="11641"/>
                  <a:pt x="10959" y="11623"/>
                  <a:pt x="10988" y="11609"/>
                </a:cubicBezTo>
                <a:cubicBezTo>
                  <a:pt x="10996" y="11609"/>
                  <a:pt x="11005" y="11609"/>
                  <a:pt x="11013" y="11609"/>
                </a:cubicBezTo>
              </a:path>
              <a:path w="17265" h="1439">
                <a:moveTo>
                  <a:pt x="12328" y="11361"/>
                </a:moveTo>
                <a:cubicBezTo>
                  <a:pt x="12328" y="11389"/>
                  <a:pt x="12325" y="11399"/>
                  <a:pt x="12303" y="11410"/>
                </a:cubicBezTo>
                <a:cubicBezTo>
                  <a:pt x="12287" y="11389"/>
                  <a:pt x="12263" y="11340"/>
                  <a:pt x="12254" y="11336"/>
                </a:cubicBezTo>
                <a:cubicBezTo>
                  <a:pt x="12204" y="11311"/>
                  <a:pt x="12201" y="11309"/>
                  <a:pt x="12154" y="11336"/>
                </a:cubicBezTo>
                <a:cubicBezTo>
                  <a:pt x="12090" y="11373"/>
                  <a:pt x="12065" y="11394"/>
                  <a:pt x="12030" y="11460"/>
                </a:cubicBezTo>
                <a:cubicBezTo>
                  <a:pt x="11995" y="11526"/>
                  <a:pt x="11960" y="11584"/>
                  <a:pt x="11956" y="11658"/>
                </a:cubicBezTo>
                <a:cubicBezTo>
                  <a:pt x="11953" y="11720"/>
                  <a:pt x="11944" y="11784"/>
                  <a:pt x="11981" y="11832"/>
                </a:cubicBezTo>
                <a:cubicBezTo>
                  <a:pt x="12040" y="11907"/>
                  <a:pt x="12120" y="11906"/>
                  <a:pt x="12204" y="11906"/>
                </a:cubicBezTo>
                <a:cubicBezTo>
                  <a:pt x="12259" y="11906"/>
                  <a:pt x="12362" y="11875"/>
                  <a:pt x="12402" y="11832"/>
                </a:cubicBezTo>
                <a:cubicBezTo>
                  <a:pt x="12410" y="11815"/>
                  <a:pt x="12419" y="11799"/>
                  <a:pt x="12427" y="11782"/>
                </a:cubicBezTo>
              </a:path>
              <a:path w="17265" h="1439">
                <a:moveTo>
                  <a:pt x="12576" y="11534"/>
                </a:moveTo>
                <a:cubicBezTo>
                  <a:pt x="12556" y="11547"/>
                  <a:pt x="12512" y="11641"/>
                  <a:pt x="12502" y="11683"/>
                </a:cubicBezTo>
                <a:cubicBezTo>
                  <a:pt x="12482" y="11765"/>
                  <a:pt x="12528" y="11789"/>
                  <a:pt x="12551" y="11857"/>
                </a:cubicBezTo>
                <a:cubicBezTo>
                  <a:pt x="12572" y="11919"/>
                  <a:pt x="12623" y="11912"/>
                  <a:pt x="12675" y="11931"/>
                </a:cubicBezTo>
                <a:cubicBezTo>
                  <a:pt x="12737" y="11953"/>
                  <a:pt x="12812" y="11945"/>
                  <a:pt x="12874" y="11906"/>
                </a:cubicBezTo>
                <a:cubicBezTo>
                  <a:pt x="12926" y="11873"/>
                  <a:pt x="12946" y="11788"/>
                  <a:pt x="12948" y="11733"/>
                </a:cubicBezTo>
                <a:cubicBezTo>
                  <a:pt x="12952" y="11646"/>
                  <a:pt x="12922" y="11586"/>
                  <a:pt x="12849" y="11534"/>
                </a:cubicBezTo>
                <a:cubicBezTo>
                  <a:pt x="12783" y="11487"/>
                  <a:pt x="12680" y="11463"/>
                  <a:pt x="12601" y="11485"/>
                </a:cubicBezTo>
                <a:cubicBezTo>
                  <a:pt x="12578" y="11507"/>
                  <a:pt x="12570" y="11512"/>
                  <a:pt x="12576" y="11534"/>
                </a:cubicBezTo>
                <a:cubicBezTo>
                  <a:pt x="12591" y="11594"/>
                  <a:pt x="12627" y="11580"/>
                  <a:pt x="12675" y="11609"/>
                </a:cubicBezTo>
              </a:path>
              <a:path w="17265" h="1439">
                <a:moveTo>
                  <a:pt x="13295" y="11112"/>
                </a:moveTo>
                <a:cubicBezTo>
                  <a:pt x="13282" y="11205"/>
                  <a:pt x="13232" y="11364"/>
                  <a:pt x="13246" y="11460"/>
                </a:cubicBezTo>
                <a:cubicBezTo>
                  <a:pt x="13260" y="11551"/>
                  <a:pt x="13282" y="11642"/>
                  <a:pt x="13295" y="11733"/>
                </a:cubicBezTo>
                <a:cubicBezTo>
                  <a:pt x="13304" y="11797"/>
                  <a:pt x="13314" y="11854"/>
                  <a:pt x="13345" y="11906"/>
                </a:cubicBezTo>
                <a:cubicBezTo>
                  <a:pt x="13345" y="11851"/>
                  <a:pt x="13323" y="11832"/>
                  <a:pt x="13295" y="11782"/>
                </a:cubicBezTo>
              </a:path>
              <a:path w="17265" h="1439">
                <a:moveTo>
                  <a:pt x="13072" y="11509"/>
                </a:moveTo>
                <a:cubicBezTo>
                  <a:pt x="13157" y="11519"/>
                  <a:pt x="13236" y="11547"/>
                  <a:pt x="13320" y="11559"/>
                </a:cubicBezTo>
                <a:cubicBezTo>
                  <a:pt x="13397" y="11570"/>
                  <a:pt x="13533" y="11579"/>
                  <a:pt x="13593" y="11534"/>
                </a:cubicBezTo>
              </a:path>
              <a:path w="17265" h="1439">
                <a:moveTo>
                  <a:pt x="13965" y="11509"/>
                </a:moveTo>
                <a:cubicBezTo>
                  <a:pt x="14063" y="11631"/>
                  <a:pt x="14153" y="11747"/>
                  <a:pt x="14263" y="11857"/>
                </a:cubicBezTo>
                <a:cubicBezTo>
                  <a:pt x="14319" y="11913"/>
                  <a:pt x="14379" y="11954"/>
                  <a:pt x="14436" y="12005"/>
                </a:cubicBezTo>
                <a:cubicBezTo>
                  <a:pt x="14494" y="12058"/>
                  <a:pt x="14486" y="12014"/>
                  <a:pt x="14486" y="11956"/>
                </a:cubicBezTo>
              </a:path>
              <a:path w="17265" h="1439">
                <a:moveTo>
                  <a:pt x="14362" y="11435"/>
                </a:moveTo>
                <a:cubicBezTo>
                  <a:pt x="14248" y="11537"/>
                  <a:pt x="14143" y="11611"/>
                  <a:pt x="14039" y="11708"/>
                </a:cubicBezTo>
                <a:cubicBezTo>
                  <a:pt x="13978" y="11765"/>
                  <a:pt x="13917" y="11832"/>
                  <a:pt x="13841" y="11857"/>
                </a:cubicBezTo>
                <a:cubicBezTo>
                  <a:pt x="13788" y="11875"/>
                  <a:pt x="13987" y="11746"/>
                  <a:pt x="14015" y="11733"/>
                </a:cubicBezTo>
              </a:path>
              <a:path w="17265" h="1439">
                <a:moveTo>
                  <a:pt x="15180" y="11311"/>
                </a:moveTo>
                <a:cubicBezTo>
                  <a:pt x="15162" y="11433"/>
                  <a:pt x="15144" y="11539"/>
                  <a:pt x="15180" y="11658"/>
                </a:cubicBezTo>
                <a:cubicBezTo>
                  <a:pt x="15196" y="11710"/>
                  <a:pt x="15225" y="11752"/>
                  <a:pt x="15230" y="11807"/>
                </a:cubicBezTo>
                <a:cubicBezTo>
                  <a:pt x="15236" y="11866"/>
                  <a:pt x="15194" y="11796"/>
                  <a:pt x="15180" y="11782"/>
                </a:cubicBezTo>
              </a:path>
              <a:path w="17265" h="1439">
                <a:moveTo>
                  <a:pt x="14957" y="11485"/>
                </a:moveTo>
                <a:cubicBezTo>
                  <a:pt x="15073" y="11485"/>
                  <a:pt x="15188" y="11485"/>
                  <a:pt x="15304" y="11485"/>
                </a:cubicBezTo>
              </a:path>
              <a:path w="17265" h="1439">
                <a:moveTo>
                  <a:pt x="16247" y="11385"/>
                </a:moveTo>
                <a:cubicBezTo>
                  <a:pt x="16304" y="11404"/>
                  <a:pt x="16347" y="11413"/>
                  <a:pt x="16297" y="11410"/>
                </a:cubicBezTo>
                <a:cubicBezTo>
                  <a:pt x="16297" y="11351"/>
                  <a:pt x="16288" y="11373"/>
                  <a:pt x="16247" y="11336"/>
                </a:cubicBezTo>
                <a:cubicBezTo>
                  <a:pt x="16196" y="11291"/>
                  <a:pt x="16148" y="11317"/>
                  <a:pt x="16098" y="11361"/>
                </a:cubicBezTo>
                <a:cubicBezTo>
                  <a:pt x="16021" y="11428"/>
                  <a:pt x="15978" y="11467"/>
                  <a:pt x="15925" y="11559"/>
                </a:cubicBezTo>
                <a:cubicBezTo>
                  <a:pt x="15890" y="11621"/>
                  <a:pt x="15855" y="11709"/>
                  <a:pt x="15875" y="11782"/>
                </a:cubicBezTo>
                <a:cubicBezTo>
                  <a:pt x="15902" y="11879"/>
                  <a:pt x="15972" y="11886"/>
                  <a:pt x="16049" y="11906"/>
                </a:cubicBezTo>
                <a:cubicBezTo>
                  <a:pt x="16135" y="11929"/>
                  <a:pt x="16236" y="11944"/>
                  <a:pt x="16321" y="11906"/>
                </a:cubicBezTo>
                <a:cubicBezTo>
                  <a:pt x="16387" y="11863"/>
                  <a:pt x="16402" y="11852"/>
                  <a:pt x="16446" y="11832"/>
                </a:cubicBezTo>
              </a:path>
              <a:path w="17265" h="1439">
                <a:moveTo>
                  <a:pt x="16594" y="11509"/>
                </a:moveTo>
                <a:cubicBezTo>
                  <a:pt x="16562" y="11566"/>
                  <a:pt x="16531" y="11618"/>
                  <a:pt x="16520" y="11683"/>
                </a:cubicBezTo>
                <a:cubicBezTo>
                  <a:pt x="16510" y="11744"/>
                  <a:pt x="16516" y="11797"/>
                  <a:pt x="16570" y="11832"/>
                </a:cubicBezTo>
                <a:cubicBezTo>
                  <a:pt x="16646" y="11882"/>
                  <a:pt x="16730" y="11885"/>
                  <a:pt x="16818" y="11857"/>
                </a:cubicBezTo>
                <a:cubicBezTo>
                  <a:pt x="16887" y="11835"/>
                  <a:pt x="16914" y="11775"/>
                  <a:pt x="16917" y="11708"/>
                </a:cubicBezTo>
                <a:cubicBezTo>
                  <a:pt x="16920" y="11642"/>
                  <a:pt x="16902" y="11552"/>
                  <a:pt x="16842" y="11509"/>
                </a:cubicBezTo>
                <a:cubicBezTo>
                  <a:pt x="16797" y="11477"/>
                  <a:pt x="16722" y="11440"/>
                  <a:pt x="16669" y="11435"/>
                </a:cubicBezTo>
                <a:cubicBezTo>
                  <a:pt x="16614" y="11429"/>
                  <a:pt x="16770" y="11416"/>
                  <a:pt x="16793" y="11410"/>
                </a:cubicBezTo>
              </a:path>
              <a:path w="17265" h="1439">
                <a:moveTo>
                  <a:pt x="17413" y="11261"/>
                </a:moveTo>
                <a:cubicBezTo>
                  <a:pt x="17382" y="11355"/>
                  <a:pt x="17342" y="11436"/>
                  <a:pt x="17338" y="11534"/>
                </a:cubicBezTo>
                <a:cubicBezTo>
                  <a:pt x="17334" y="11636"/>
                  <a:pt x="17361" y="11688"/>
                  <a:pt x="17388" y="11782"/>
                </a:cubicBezTo>
                <a:cubicBezTo>
                  <a:pt x="17402" y="11829"/>
                  <a:pt x="17447" y="11862"/>
                  <a:pt x="17388" y="11832"/>
                </a:cubicBezTo>
              </a:path>
              <a:path w="17265" h="1439">
                <a:moveTo>
                  <a:pt x="17165" y="11485"/>
                </a:moveTo>
                <a:cubicBezTo>
                  <a:pt x="17244" y="11475"/>
                  <a:pt x="17304" y="11460"/>
                  <a:pt x="17388" y="11460"/>
                </a:cubicBezTo>
                <a:cubicBezTo>
                  <a:pt x="17495" y="11460"/>
                  <a:pt x="17578" y="11451"/>
                  <a:pt x="17686" y="11435"/>
                </a:cubicBezTo>
              </a:path>
              <a:path w="17265" h="1439">
                <a:moveTo>
                  <a:pt x="18107" y="11361"/>
                </a:moveTo>
                <a:cubicBezTo>
                  <a:pt x="18223" y="11535"/>
                  <a:pt x="18316" y="11654"/>
                  <a:pt x="18479" y="11782"/>
                </a:cubicBezTo>
                <a:cubicBezTo>
                  <a:pt x="18540" y="11830"/>
                  <a:pt x="18647" y="11917"/>
                  <a:pt x="18728" y="11931"/>
                </a:cubicBezTo>
                <a:cubicBezTo>
                  <a:pt x="18753" y="11931"/>
                  <a:pt x="18777" y="11931"/>
                  <a:pt x="18802" y="11931"/>
                </a:cubicBezTo>
              </a:path>
              <a:path w="17265" h="1439">
                <a:moveTo>
                  <a:pt x="18579" y="11361"/>
                </a:moveTo>
                <a:cubicBezTo>
                  <a:pt x="18468" y="11466"/>
                  <a:pt x="18389" y="11575"/>
                  <a:pt x="18281" y="11683"/>
                </a:cubicBezTo>
                <a:cubicBezTo>
                  <a:pt x="18270" y="11694"/>
                  <a:pt x="18181" y="11796"/>
                  <a:pt x="18182" y="11807"/>
                </a:cubicBezTo>
                <a:cubicBezTo>
                  <a:pt x="18225" y="11850"/>
                  <a:pt x="18256" y="11847"/>
                  <a:pt x="18306" y="11782"/>
                </a:cubicBezTo>
              </a:path>
              <a:path w="17265" h="1439">
                <a:moveTo>
                  <a:pt x="19199" y="11584"/>
                </a:moveTo>
                <a:cubicBezTo>
                  <a:pt x="19249" y="11592"/>
                  <a:pt x="19298" y="11601"/>
                  <a:pt x="19348" y="11609"/>
                </a:cubicBezTo>
              </a:path>
              <a:path w="17265" h="1439">
                <a:moveTo>
                  <a:pt x="19273" y="11881"/>
                </a:moveTo>
                <a:cubicBezTo>
                  <a:pt x="19419" y="11874"/>
                  <a:pt x="19451" y="11868"/>
                  <a:pt x="19571" y="11807"/>
                </a:cubicBezTo>
              </a:path>
              <a:path w="17265" h="1439">
                <a:moveTo>
                  <a:pt x="5110" y="11509"/>
                </a:moveTo>
                <a:cubicBezTo>
                  <a:pt x="5194" y="11425"/>
                  <a:pt x="5280" y="11370"/>
                  <a:pt x="5383" y="11311"/>
                </a:cubicBezTo>
                <a:cubicBezTo>
                  <a:pt x="5593" y="11191"/>
                  <a:pt x="5835" y="11098"/>
                  <a:pt x="6052" y="10988"/>
                </a:cubicBezTo>
                <a:cubicBezTo>
                  <a:pt x="6244" y="10891"/>
                  <a:pt x="6457" y="10838"/>
                  <a:pt x="6648" y="10740"/>
                </a:cubicBezTo>
                <a:cubicBezTo>
                  <a:pt x="6679" y="10724"/>
                  <a:pt x="6796" y="10671"/>
                  <a:pt x="6796" y="10641"/>
                </a:cubicBezTo>
                <a:cubicBezTo>
                  <a:pt x="6796" y="10590"/>
                  <a:pt x="6766" y="10631"/>
                  <a:pt x="6747" y="10641"/>
                </a:cubicBezTo>
              </a:path>
              <a:path w="17265" h="1439">
                <a:moveTo>
                  <a:pt x="7565" y="11460"/>
                </a:moveTo>
                <a:cubicBezTo>
                  <a:pt x="7618" y="11460"/>
                  <a:pt x="7706" y="11452"/>
                  <a:pt x="7789" y="11435"/>
                </a:cubicBezTo>
                <a:cubicBezTo>
                  <a:pt x="7989" y="11395"/>
                  <a:pt x="8187" y="11340"/>
                  <a:pt x="8384" y="11286"/>
                </a:cubicBezTo>
                <a:cubicBezTo>
                  <a:pt x="8637" y="11217"/>
                  <a:pt x="8895" y="11139"/>
                  <a:pt x="9153" y="11088"/>
                </a:cubicBezTo>
                <a:cubicBezTo>
                  <a:pt x="9321" y="11055"/>
                  <a:pt x="9494" y="11015"/>
                  <a:pt x="9649" y="10939"/>
                </a:cubicBezTo>
                <a:cubicBezTo>
                  <a:pt x="9695" y="10916"/>
                  <a:pt x="9765" y="10860"/>
                  <a:pt x="9798" y="10815"/>
                </a:cubicBezTo>
                <a:cubicBezTo>
                  <a:pt x="9798" y="10807"/>
                  <a:pt x="9798" y="10798"/>
                  <a:pt x="9798" y="10790"/>
                </a:cubicBezTo>
                <a:cubicBezTo>
                  <a:pt x="9779" y="10784"/>
                  <a:pt x="9756" y="10762"/>
                  <a:pt x="9699" y="10790"/>
                </a:cubicBezTo>
                <a:cubicBezTo>
                  <a:pt x="9659" y="10809"/>
                  <a:pt x="9617" y="10843"/>
                  <a:pt x="9575" y="10864"/>
                </a:cubicBezTo>
              </a:path>
              <a:path w="17265" h="1439">
                <a:moveTo>
                  <a:pt x="11038" y="11981"/>
                </a:moveTo>
                <a:cubicBezTo>
                  <a:pt x="11077" y="11936"/>
                  <a:pt x="11069" y="11940"/>
                  <a:pt x="11137" y="11906"/>
                </a:cubicBezTo>
                <a:cubicBezTo>
                  <a:pt x="11233" y="11858"/>
                  <a:pt x="11329" y="11830"/>
                  <a:pt x="11435" y="11807"/>
                </a:cubicBezTo>
                <a:cubicBezTo>
                  <a:pt x="11650" y="11759"/>
                  <a:pt x="11864" y="11696"/>
                  <a:pt x="12080" y="11658"/>
                </a:cubicBezTo>
                <a:cubicBezTo>
                  <a:pt x="12385" y="11604"/>
                  <a:pt x="12692" y="11558"/>
                  <a:pt x="12998" y="11509"/>
                </a:cubicBezTo>
                <a:cubicBezTo>
                  <a:pt x="13145" y="11486"/>
                  <a:pt x="13304" y="11437"/>
                  <a:pt x="13444" y="11385"/>
                </a:cubicBezTo>
                <a:cubicBezTo>
                  <a:pt x="13485" y="11370"/>
                  <a:pt x="13576" y="11334"/>
                  <a:pt x="13593" y="11286"/>
                </a:cubicBezTo>
                <a:cubicBezTo>
                  <a:pt x="13615" y="11227"/>
                  <a:pt x="13576" y="11237"/>
                  <a:pt x="13593" y="11237"/>
                </a:cubicBezTo>
                <a:cubicBezTo>
                  <a:pt x="13618" y="11245"/>
                  <a:pt x="13642" y="11253"/>
                  <a:pt x="13667" y="11261"/>
                </a:cubicBezTo>
              </a:path>
              <a:path w="17265" h="1439">
                <a:moveTo>
                  <a:pt x="15180" y="11807"/>
                </a:moveTo>
                <a:cubicBezTo>
                  <a:pt x="15150" y="11823"/>
                  <a:pt x="15162" y="11816"/>
                  <a:pt x="15131" y="11832"/>
                </a:cubicBezTo>
                <a:cubicBezTo>
                  <a:pt x="15146" y="11835"/>
                  <a:pt x="15174" y="11866"/>
                  <a:pt x="15230" y="11857"/>
                </a:cubicBezTo>
                <a:cubicBezTo>
                  <a:pt x="15359" y="11836"/>
                  <a:pt x="15481" y="11753"/>
                  <a:pt x="15602" y="11708"/>
                </a:cubicBezTo>
                <a:cubicBezTo>
                  <a:pt x="15800" y="11635"/>
                  <a:pt x="16017" y="11557"/>
                  <a:pt x="16222" y="11509"/>
                </a:cubicBezTo>
                <a:cubicBezTo>
                  <a:pt x="16576" y="11426"/>
                  <a:pt x="16935" y="11338"/>
                  <a:pt x="17289" y="11261"/>
                </a:cubicBezTo>
                <a:cubicBezTo>
                  <a:pt x="17460" y="11224"/>
                  <a:pt x="17618" y="11190"/>
                  <a:pt x="17785" y="11137"/>
                </a:cubicBezTo>
                <a:cubicBezTo>
                  <a:pt x="17871" y="11110"/>
                  <a:pt x="17925" y="11050"/>
                  <a:pt x="18008" y="11013"/>
                </a:cubicBezTo>
                <a:cubicBezTo>
                  <a:pt x="18074" y="10984"/>
                  <a:pt x="18043" y="11004"/>
                  <a:pt x="18083" y="10964"/>
                </a:cubicBezTo>
                <a:cubicBezTo>
                  <a:pt x="18049" y="10953"/>
                  <a:pt x="18065" y="10955"/>
                  <a:pt x="18033" y="10939"/>
                </a:cubicBezTo>
                <a:cubicBezTo>
                  <a:pt x="18016" y="10931"/>
                  <a:pt x="18000" y="10922"/>
                  <a:pt x="17983" y="1091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259000" y="4491000"/>
            <a:ext cx="2832120" cy="546120"/>
          </a:xfrm>
          <a:custGeom>
            <a:avLst/>
            <a:gdLst/>
            <a:ahLst/>
            <a:rect l="l" t="t" r="r" b="b"/>
            <a:pathLst>
              <a:path w="7864" h="1514">
                <a:moveTo>
                  <a:pt x="8434" y="13271"/>
                </a:moveTo>
                <a:cubicBezTo>
                  <a:pt x="8434" y="13315"/>
                  <a:pt x="8431" y="13328"/>
                  <a:pt x="8458" y="13345"/>
                </a:cubicBezTo>
                <a:cubicBezTo>
                  <a:pt x="8465" y="13324"/>
                  <a:pt x="8503" y="13307"/>
                  <a:pt x="8483" y="13271"/>
                </a:cubicBezTo>
                <a:cubicBezTo>
                  <a:pt x="8455" y="13221"/>
                  <a:pt x="8410" y="13242"/>
                  <a:pt x="8384" y="13246"/>
                </a:cubicBezTo>
                <a:cubicBezTo>
                  <a:pt x="8303" y="13258"/>
                  <a:pt x="8288" y="13284"/>
                  <a:pt x="8235" y="13345"/>
                </a:cubicBezTo>
                <a:cubicBezTo>
                  <a:pt x="8184" y="13404"/>
                  <a:pt x="8101" y="13459"/>
                  <a:pt x="8086" y="13543"/>
                </a:cubicBezTo>
                <a:cubicBezTo>
                  <a:pt x="8070" y="13637"/>
                  <a:pt x="8097" y="13772"/>
                  <a:pt x="8161" y="13841"/>
                </a:cubicBezTo>
                <a:cubicBezTo>
                  <a:pt x="8217" y="13902"/>
                  <a:pt x="8319" y="13918"/>
                  <a:pt x="8384" y="13940"/>
                </a:cubicBezTo>
                <a:cubicBezTo>
                  <a:pt x="8467" y="13968"/>
                  <a:pt x="8525" y="13965"/>
                  <a:pt x="8607" y="13915"/>
                </a:cubicBezTo>
                <a:cubicBezTo>
                  <a:pt x="8640" y="13890"/>
                  <a:pt x="8673" y="13866"/>
                  <a:pt x="8706" y="13841"/>
                </a:cubicBezTo>
              </a:path>
              <a:path w="7864" h="1514">
                <a:moveTo>
                  <a:pt x="9103" y="13345"/>
                </a:moveTo>
                <a:cubicBezTo>
                  <a:pt x="9111" y="13337"/>
                  <a:pt x="9120" y="13328"/>
                  <a:pt x="9128" y="13320"/>
                </a:cubicBezTo>
                <a:cubicBezTo>
                  <a:pt x="9056" y="13320"/>
                  <a:pt x="8999" y="13339"/>
                  <a:pt x="8930" y="13345"/>
                </a:cubicBezTo>
                <a:cubicBezTo>
                  <a:pt x="8894" y="13348"/>
                  <a:pt x="8859" y="13365"/>
                  <a:pt x="8855" y="13395"/>
                </a:cubicBezTo>
                <a:cubicBezTo>
                  <a:pt x="8852" y="13422"/>
                  <a:pt x="8913" y="13499"/>
                  <a:pt x="8930" y="13519"/>
                </a:cubicBezTo>
                <a:cubicBezTo>
                  <a:pt x="8977" y="13576"/>
                  <a:pt x="9070" y="13626"/>
                  <a:pt x="9103" y="13692"/>
                </a:cubicBezTo>
                <a:cubicBezTo>
                  <a:pt x="9133" y="13753"/>
                  <a:pt x="9143" y="13814"/>
                  <a:pt x="9103" y="13866"/>
                </a:cubicBezTo>
                <a:cubicBezTo>
                  <a:pt x="9057" y="13925"/>
                  <a:pt x="8996" y="13915"/>
                  <a:pt x="8930" y="13915"/>
                </a:cubicBezTo>
                <a:cubicBezTo>
                  <a:pt x="8885" y="13915"/>
                  <a:pt x="8831" y="13912"/>
                  <a:pt x="8806" y="13866"/>
                </a:cubicBezTo>
                <a:cubicBezTo>
                  <a:pt x="8806" y="13833"/>
                  <a:pt x="8806" y="13816"/>
                  <a:pt x="8806" y="13791"/>
                </a:cubicBezTo>
              </a:path>
              <a:path w="7864" h="1514">
                <a:moveTo>
                  <a:pt x="9624" y="13370"/>
                </a:moveTo>
                <a:cubicBezTo>
                  <a:pt x="9649" y="13395"/>
                  <a:pt x="9657" y="13403"/>
                  <a:pt x="9674" y="13370"/>
                </a:cubicBezTo>
                <a:cubicBezTo>
                  <a:pt x="9664" y="13329"/>
                  <a:pt x="9645" y="13300"/>
                  <a:pt x="9599" y="13295"/>
                </a:cubicBezTo>
                <a:cubicBezTo>
                  <a:pt x="9546" y="13289"/>
                  <a:pt x="9485" y="13332"/>
                  <a:pt x="9451" y="13370"/>
                </a:cubicBezTo>
                <a:cubicBezTo>
                  <a:pt x="9401" y="13427"/>
                  <a:pt x="9354" y="13545"/>
                  <a:pt x="9351" y="13618"/>
                </a:cubicBezTo>
                <a:cubicBezTo>
                  <a:pt x="9347" y="13717"/>
                  <a:pt x="9386" y="13771"/>
                  <a:pt x="9451" y="13841"/>
                </a:cubicBezTo>
                <a:cubicBezTo>
                  <a:pt x="9501" y="13894"/>
                  <a:pt x="9577" y="13943"/>
                  <a:pt x="9649" y="13965"/>
                </a:cubicBezTo>
                <a:cubicBezTo>
                  <a:pt x="9684" y="13965"/>
                  <a:pt x="9701" y="13960"/>
                  <a:pt x="9723" y="13940"/>
                </a:cubicBezTo>
              </a:path>
              <a:path w="7864" h="1514">
                <a:moveTo>
                  <a:pt x="9773" y="12923"/>
                </a:moveTo>
                <a:cubicBezTo>
                  <a:pt x="9864" y="12841"/>
                  <a:pt x="9840" y="12849"/>
                  <a:pt x="9947" y="12849"/>
                </a:cubicBezTo>
                <a:cubicBezTo>
                  <a:pt x="9974" y="12849"/>
                  <a:pt x="10037" y="12887"/>
                  <a:pt x="10021" y="12923"/>
                </a:cubicBezTo>
                <a:cubicBezTo>
                  <a:pt x="9999" y="12973"/>
                  <a:pt x="9988" y="13025"/>
                  <a:pt x="9947" y="13072"/>
                </a:cubicBezTo>
                <a:cubicBezTo>
                  <a:pt x="9932" y="13089"/>
                  <a:pt x="9886" y="13147"/>
                  <a:pt x="9897" y="13171"/>
                </a:cubicBezTo>
                <a:cubicBezTo>
                  <a:pt x="9920" y="13223"/>
                  <a:pt x="10000" y="13270"/>
                  <a:pt x="10046" y="13295"/>
                </a:cubicBezTo>
                <a:cubicBezTo>
                  <a:pt x="10086" y="13315"/>
                  <a:pt x="10093" y="13324"/>
                  <a:pt x="10120" y="13320"/>
                </a:cubicBezTo>
              </a:path>
              <a:path w="7864" h="1514">
                <a:moveTo>
                  <a:pt x="10319" y="13444"/>
                </a:moveTo>
                <a:cubicBezTo>
                  <a:pt x="10376" y="13559"/>
                  <a:pt x="10426" y="13626"/>
                  <a:pt x="10517" y="13717"/>
                </a:cubicBezTo>
                <a:cubicBezTo>
                  <a:pt x="10600" y="13801"/>
                  <a:pt x="10696" y="13890"/>
                  <a:pt x="10815" y="13915"/>
                </a:cubicBezTo>
                <a:cubicBezTo>
                  <a:pt x="10885" y="13929"/>
                  <a:pt x="10918" y="13912"/>
                  <a:pt x="10964" y="13866"/>
                </a:cubicBezTo>
              </a:path>
              <a:path w="7864" h="1514">
                <a:moveTo>
                  <a:pt x="10716" y="13345"/>
                </a:moveTo>
                <a:cubicBezTo>
                  <a:pt x="10639" y="13428"/>
                  <a:pt x="10574" y="13543"/>
                  <a:pt x="10492" y="13618"/>
                </a:cubicBezTo>
                <a:cubicBezTo>
                  <a:pt x="10412" y="13691"/>
                  <a:pt x="10314" y="13785"/>
                  <a:pt x="10269" y="13891"/>
                </a:cubicBezTo>
                <a:cubicBezTo>
                  <a:pt x="10251" y="13934"/>
                  <a:pt x="10233" y="13978"/>
                  <a:pt x="10269" y="13990"/>
                </a:cubicBezTo>
              </a:path>
              <a:path w="7864" h="1514">
                <a:moveTo>
                  <a:pt x="11137" y="13469"/>
                </a:moveTo>
                <a:cubicBezTo>
                  <a:pt x="11220" y="13469"/>
                  <a:pt x="11302" y="13469"/>
                  <a:pt x="11385" y="13469"/>
                </a:cubicBezTo>
              </a:path>
              <a:path w="7864" h="1514">
                <a:moveTo>
                  <a:pt x="11088" y="13593"/>
                </a:moveTo>
                <a:cubicBezTo>
                  <a:pt x="11163" y="13659"/>
                  <a:pt x="11188" y="13667"/>
                  <a:pt x="11286" y="13667"/>
                </a:cubicBezTo>
                <a:cubicBezTo>
                  <a:pt x="11327" y="13667"/>
                  <a:pt x="11369" y="13667"/>
                  <a:pt x="11410" y="13667"/>
                </a:cubicBezTo>
              </a:path>
              <a:path w="7864" h="1514">
                <a:moveTo>
                  <a:pt x="12055" y="13295"/>
                </a:moveTo>
                <a:cubicBezTo>
                  <a:pt x="12087" y="13319"/>
                  <a:pt x="12114" y="13325"/>
                  <a:pt x="12129" y="13295"/>
                </a:cubicBezTo>
                <a:cubicBezTo>
                  <a:pt x="12142" y="13269"/>
                  <a:pt x="12116" y="13212"/>
                  <a:pt x="12105" y="13196"/>
                </a:cubicBezTo>
                <a:cubicBezTo>
                  <a:pt x="12087" y="13169"/>
                  <a:pt x="12036" y="13160"/>
                  <a:pt x="12005" y="13171"/>
                </a:cubicBezTo>
                <a:cubicBezTo>
                  <a:pt x="11941" y="13194"/>
                  <a:pt x="11892" y="13267"/>
                  <a:pt x="11857" y="13320"/>
                </a:cubicBezTo>
                <a:cubicBezTo>
                  <a:pt x="11812" y="13388"/>
                  <a:pt x="11791" y="13487"/>
                  <a:pt x="11807" y="13568"/>
                </a:cubicBezTo>
                <a:cubicBezTo>
                  <a:pt x="11830" y="13687"/>
                  <a:pt x="11873" y="13721"/>
                  <a:pt x="11956" y="13791"/>
                </a:cubicBezTo>
                <a:cubicBezTo>
                  <a:pt x="12066" y="13883"/>
                  <a:pt x="12079" y="13868"/>
                  <a:pt x="12229" y="13841"/>
                </a:cubicBezTo>
              </a:path>
              <a:path w="7864" h="1514">
                <a:moveTo>
                  <a:pt x="12502" y="13271"/>
                </a:moveTo>
                <a:cubicBezTo>
                  <a:pt x="12431" y="13255"/>
                  <a:pt x="12413" y="13246"/>
                  <a:pt x="12353" y="13246"/>
                </a:cubicBezTo>
                <a:cubicBezTo>
                  <a:pt x="12353" y="13299"/>
                  <a:pt x="12369" y="13352"/>
                  <a:pt x="12402" y="13395"/>
                </a:cubicBezTo>
                <a:cubicBezTo>
                  <a:pt x="12459" y="13468"/>
                  <a:pt x="12514" y="13554"/>
                  <a:pt x="12551" y="13643"/>
                </a:cubicBezTo>
                <a:cubicBezTo>
                  <a:pt x="12578" y="13708"/>
                  <a:pt x="12588" y="13780"/>
                  <a:pt x="12551" y="13841"/>
                </a:cubicBezTo>
                <a:cubicBezTo>
                  <a:pt x="12532" y="13872"/>
                  <a:pt x="12435" y="13880"/>
                  <a:pt x="12402" y="13866"/>
                </a:cubicBezTo>
                <a:cubicBezTo>
                  <a:pt x="12371" y="13853"/>
                  <a:pt x="12356" y="13770"/>
                  <a:pt x="12353" y="13742"/>
                </a:cubicBezTo>
                <a:cubicBezTo>
                  <a:pt x="12353" y="13734"/>
                  <a:pt x="12353" y="13725"/>
                  <a:pt x="12353" y="13717"/>
                </a:cubicBezTo>
              </a:path>
              <a:path w="7864" h="1514">
                <a:moveTo>
                  <a:pt x="13047" y="13370"/>
                </a:moveTo>
                <a:cubicBezTo>
                  <a:pt x="13064" y="13362"/>
                  <a:pt x="13080" y="13353"/>
                  <a:pt x="13097" y="13345"/>
                </a:cubicBezTo>
                <a:cubicBezTo>
                  <a:pt x="13085" y="13299"/>
                  <a:pt x="13073" y="13290"/>
                  <a:pt x="13047" y="13271"/>
                </a:cubicBezTo>
                <a:cubicBezTo>
                  <a:pt x="12983" y="13224"/>
                  <a:pt x="12954" y="13268"/>
                  <a:pt x="12898" y="13320"/>
                </a:cubicBezTo>
                <a:cubicBezTo>
                  <a:pt x="12843" y="13371"/>
                  <a:pt x="12827" y="13447"/>
                  <a:pt x="12824" y="13519"/>
                </a:cubicBezTo>
                <a:cubicBezTo>
                  <a:pt x="12820" y="13612"/>
                  <a:pt x="12865" y="13673"/>
                  <a:pt x="12923" y="13742"/>
                </a:cubicBezTo>
                <a:cubicBezTo>
                  <a:pt x="12982" y="13811"/>
                  <a:pt x="13010" y="13841"/>
                  <a:pt x="13097" y="13841"/>
                </a:cubicBezTo>
                <a:cubicBezTo>
                  <a:pt x="13132" y="13841"/>
                  <a:pt x="13145" y="13832"/>
                  <a:pt x="13146" y="13791"/>
                </a:cubicBezTo>
              </a:path>
              <a:path w="7864" h="1514">
                <a:moveTo>
                  <a:pt x="13246" y="12824"/>
                </a:moveTo>
                <a:cubicBezTo>
                  <a:pt x="13280" y="12808"/>
                  <a:pt x="13433" y="12702"/>
                  <a:pt x="13494" y="12774"/>
                </a:cubicBezTo>
                <a:cubicBezTo>
                  <a:pt x="13523" y="12808"/>
                  <a:pt x="13462" y="12856"/>
                  <a:pt x="13444" y="12874"/>
                </a:cubicBezTo>
                <a:cubicBezTo>
                  <a:pt x="13400" y="12917"/>
                  <a:pt x="13372" y="12950"/>
                  <a:pt x="13395" y="13022"/>
                </a:cubicBezTo>
                <a:cubicBezTo>
                  <a:pt x="13409" y="13065"/>
                  <a:pt x="13490" y="13109"/>
                  <a:pt x="13519" y="13122"/>
                </a:cubicBezTo>
                <a:cubicBezTo>
                  <a:pt x="13535" y="13130"/>
                  <a:pt x="13552" y="13138"/>
                  <a:pt x="13568" y="13146"/>
                </a:cubicBezTo>
              </a:path>
              <a:path w="7864" h="1514">
                <a:moveTo>
                  <a:pt x="13717" y="13444"/>
                </a:moveTo>
                <a:cubicBezTo>
                  <a:pt x="13821" y="13594"/>
                  <a:pt x="13886" y="13736"/>
                  <a:pt x="14039" y="13816"/>
                </a:cubicBezTo>
                <a:cubicBezTo>
                  <a:pt x="14087" y="13840"/>
                  <a:pt x="14102" y="13848"/>
                  <a:pt x="14139" y="13841"/>
                </a:cubicBezTo>
              </a:path>
              <a:path w="7864" h="1514">
                <a:moveTo>
                  <a:pt x="14139" y="13295"/>
                </a:moveTo>
                <a:cubicBezTo>
                  <a:pt x="14018" y="13352"/>
                  <a:pt x="13915" y="13402"/>
                  <a:pt x="13816" y="13494"/>
                </a:cubicBezTo>
                <a:cubicBezTo>
                  <a:pt x="13680" y="13620"/>
                  <a:pt x="13548" y="13771"/>
                  <a:pt x="13370" y="13841"/>
                </a:cubicBezTo>
                <a:cubicBezTo>
                  <a:pt x="13337" y="13849"/>
                  <a:pt x="13304" y="13858"/>
                  <a:pt x="13271" y="13866"/>
                </a:cubicBezTo>
              </a:path>
              <a:path w="7864" h="1514">
                <a:moveTo>
                  <a:pt x="6300" y="13320"/>
                </a:moveTo>
                <a:cubicBezTo>
                  <a:pt x="6311" y="13375"/>
                  <a:pt x="6338" y="13389"/>
                  <a:pt x="6350" y="13444"/>
                </a:cubicBezTo>
                <a:cubicBezTo>
                  <a:pt x="6365" y="13511"/>
                  <a:pt x="6401" y="13562"/>
                  <a:pt x="6449" y="13618"/>
                </a:cubicBezTo>
                <a:cubicBezTo>
                  <a:pt x="6491" y="13667"/>
                  <a:pt x="6551" y="13733"/>
                  <a:pt x="6623" y="13717"/>
                </a:cubicBezTo>
                <a:cubicBezTo>
                  <a:pt x="6679" y="13704"/>
                  <a:pt x="6720" y="13646"/>
                  <a:pt x="6747" y="13593"/>
                </a:cubicBezTo>
                <a:cubicBezTo>
                  <a:pt x="6799" y="13489"/>
                  <a:pt x="6849" y="13365"/>
                  <a:pt x="6921" y="13271"/>
                </a:cubicBezTo>
                <a:cubicBezTo>
                  <a:pt x="7017" y="13145"/>
                  <a:pt x="7065" y="12998"/>
                  <a:pt x="7169" y="12874"/>
                </a:cubicBezTo>
                <a:cubicBezTo>
                  <a:pt x="7254" y="12772"/>
                  <a:pt x="7322" y="12692"/>
                  <a:pt x="7417" y="12601"/>
                </a:cubicBezTo>
                <a:cubicBezTo>
                  <a:pt x="7465" y="12555"/>
                  <a:pt x="7491" y="12539"/>
                  <a:pt x="7516" y="1247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6b6b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if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533520" y="1523880"/>
          <a:ext cx="8610480" cy="111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523880"/>
                    <a:ext cx="8610480" cy="11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1" name=""/>
          <p:cNvSpPr/>
          <p:nvPr/>
        </p:nvSpPr>
        <p:spPr>
          <a:xfrm>
            <a:off x="6929280" y="1901880"/>
            <a:ext cx="223920" cy="322200"/>
          </a:xfrm>
          <a:custGeom>
            <a:avLst/>
            <a:gdLst/>
            <a:ahLst/>
            <a:rect l="l" t="t" r="r" b="b"/>
            <a:pathLst>
              <a:path w="622" h="894">
                <a:moveTo>
                  <a:pt x="19323" y="5457"/>
                </a:moveTo>
                <a:cubicBezTo>
                  <a:pt x="19281" y="5443"/>
                  <a:pt x="19292" y="5417"/>
                  <a:pt x="19323" y="5383"/>
                </a:cubicBezTo>
                <a:cubicBezTo>
                  <a:pt x="19384" y="5315"/>
                  <a:pt x="19467" y="5327"/>
                  <a:pt x="19546" y="5308"/>
                </a:cubicBezTo>
                <a:cubicBezTo>
                  <a:pt x="19663" y="5280"/>
                  <a:pt x="19647" y="5293"/>
                  <a:pt x="19745" y="5333"/>
                </a:cubicBezTo>
                <a:cubicBezTo>
                  <a:pt x="19783" y="5348"/>
                  <a:pt x="19816" y="5405"/>
                  <a:pt x="19794" y="5457"/>
                </a:cubicBezTo>
                <a:cubicBezTo>
                  <a:pt x="19775" y="5503"/>
                  <a:pt x="19705" y="5578"/>
                  <a:pt x="19670" y="5606"/>
                </a:cubicBezTo>
                <a:cubicBezTo>
                  <a:pt x="19619" y="5647"/>
                  <a:pt x="19579" y="5694"/>
                  <a:pt x="19521" y="5730"/>
                </a:cubicBezTo>
                <a:cubicBezTo>
                  <a:pt x="19498" y="5744"/>
                  <a:pt x="19417" y="5755"/>
                  <a:pt x="19472" y="5755"/>
                </a:cubicBezTo>
                <a:cubicBezTo>
                  <a:pt x="19530" y="5755"/>
                  <a:pt x="19525" y="5718"/>
                  <a:pt x="19571" y="5705"/>
                </a:cubicBezTo>
                <a:cubicBezTo>
                  <a:pt x="19629" y="5688"/>
                  <a:pt x="19774" y="5690"/>
                  <a:pt x="19819" y="5730"/>
                </a:cubicBezTo>
                <a:cubicBezTo>
                  <a:pt x="19875" y="5779"/>
                  <a:pt x="19869" y="5806"/>
                  <a:pt x="19869" y="5879"/>
                </a:cubicBezTo>
                <a:cubicBezTo>
                  <a:pt x="19869" y="5945"/>
                  <a:pt x="19865" y="5978"/>
                  <a:pt x="19819" y="6028"/>
                </a:cubicBezTo>
                <a:cubicBezTo>
                  <a:pt x="19781" y="6069"/>
                  <a:pt x="19719" y="6101"/>
                  <a:pt x="19670" y="6127"/>
                </a:cubicBezTo>
                <a:cubicBezTo>
                  <a:pt x="19611" y="6159"/>
                  <a:pt x="19513" y="6167"/>
                  <a:pt x="19447" y="6176"/>
                </a:cubicBezTo>
                <a:cubicBezTo>
                  <a:pt x="19422" y="6179"/>
                  <a:pt x="19321" y="6163"/>
                  <a:pt x="19298" y="6152"/>
                </a:cubicBezTo>
                <a:cubicBezTo>
                  <a:pt x="19253" y="6130"/>
                  <a:pt x="19248" y="6126"/>
                  <a:pt x="19248" y="6077"/>
                </a:cubicBezTo>
              </a:path>
              <a:path w="622" h="894">
                <a:moveTo>
                  <a:pt x="19273" y="5482"/>
                </a:moveTo>
                <a:cubicBezTo>
                  <a:pt x="19304" y="5458"/>
                  <a:pt x="19356" y="5417"/>
                  <a:pt x="19397" y="5407"/>
                </a:cubicBezTo>
                <a:cubicBezTo>
                  <a:pt x="19479" y="5388"/>
                  <a:pt x="19583" y="5366"/>
                  <a:pt x="19670" y="5383"/>
                </a:cubicBezTo>
                <a:cubicBezTo>
                  <a:pt x="19727" y="5394"/>
                  <a:pt x="19768" y="5423"/>
                  <a:pt x="19794" y="5457"/>
                </a:cubicBezTo>
                <a:cubicBezTo>
                  <a:pt x="19832" y="5506"/>
                  <a:pt x="19822" y="5508"/>
                  <a:pt x="19794" y="5556"/>
                </a:cubicBezTo>
                <a:cubicBezTo>
                  <a:pt x="19759" y="5617"/>
                  <a:pt x="19705" y="5644"/>
                  <a:pt x="19645" y="5680"/>
                </a:cubicBezTo>
                <a:cubicBezTo>
                  <a:pt x="19607" y="5703"/>
                  <a:pt x="19559" y="5742"/>
                  <a:pt x="19521" y="5755"/>
                </a:cubicBezTo>
                <a:cubicBezTo>
                  <a:pt x="19513" y="5755"/>
                  <a:pt x="19504" y="5755"/>
                  <a:pt x="19496" y="5755"/>
                </a:cubicBezTo>
                <a:cubicBezTo>
                  <a:pt x="19547" y="5742"/>
                  <a:pt x="19560" y="5730"/>
                  <a:pt x="19621" y="5730"/>
                </a:cubicBezTo>
                <a:cubicBezTo>
                  <a:pt x="19685" y="5730"/>
                  <a:pt x="19697" y="5715"/>
                  <a:pt x="19769" y="5755"/>
                </a:cubicBezTo>
                <a:cubicBezTo>
                  <a:pt x="19843" y="5796"/>
                  <a:pt x="19844" y="5796"/>
                  <a:pt x="19844" y="5879"/>
                </a:cubicBezTo>
                <a:cubicBezTo>
                  <a:pt x="19844" y="5914"/>
                  <a:pt x="19845" y="5982"/>
                  <a:pt x="19819" y="6003"/>
                </a:cubicBezTo>
                <a:cubicBezTo>
                  <a:pt x="19763" y="6049"/>
                  <a:pt x="19702" y="6050"/>
                  <a:pt x="19645" y="6077"/>
                </a:cubicBezTo>
                <a:cubicBezTo>
                  <a:pt x="19594" y="6101"/>
                  <a:pt x="19559" y="6102"/>
                  <a:pt x="19496" y="6102"/>
                </a:cubicBezTo>
                <a:cubicBezTo>
                  <a:pt x="19437" y="6102"/>
                  <a:pt x="19443" y="6112"/>
                  <a:pt x="19447" y="6102"/>
                </a:cubicBezTo>
                <a:cubicBezTo>
                  <a:pt x="19460" y="6070"/>
                  <a:pt x="19482" y="6077"/>
                  <a:pt x="19447" y="607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82760" y="2394000"/>
            <a:ext cx="5357520" cy="249120"/>
          </a:xfrm>
          <a:custGeom>
            <a:avLst/>
            <a:gdLst/>
            <a:ahLst/>
            <a:rect l="l" t="t" r="r" b="b"/>
            <a:pathLst>
              <a:path w="14884" h="695">
                <a:moveTo>
                  <a:pt x="1339" y="6871"/>
                </a:moveTo>
                <a:cubicBezTo>
                  <a:pt x="1343" y="6957"/>
                  <a:pt x="1349" y="7014"/>
                  <a:pt x="1364" y="7094"/>
                </a:cubicBezTo>
                <a:cubicBezTo>
                  <a:pt x="1374" y="7146"/>
                  <a:pt x="1374" y="7174"/>
                  <a:pt x="1389" y="7218"/>
                </a:cubicBezTo>
                <a:cubicBezTo>
                  <a:pt x="1391" y="7223"/>
                  <a:pt x="1408" y="7288"/>
                  <a:pt x="1414" y="7293"/>
                </a:cubicBezTo>
                <a:cubicBezTo>
                  <a:pt x="1484" y="7354"/>
                  <a:pt x="1572" y="7348"/>
                  <a:pt x="1662" y="7342"/>
                </a:cubicBezTo>
                <a:cubicBezTo>
                  <a:pt x="1734" y="7338"/>
                  <a:pt x="1791" y="7328"/>
                  <a:pt x="1860" y="7317"/>
                </a:cubicBezTo>
                <a:cubicBezTo>
                  <a:pt x="1943" y="7303"/>
                  <a:pt x="2024" y="7303"/>
                  <a:pt x="2108" y="7293"/>
                </a:cubicBezTo>
                <a:cubicBezTo>
                  <a:pt x="2207" y="7281"/>
                  <a:pt x="2304" y="7276"/>
                  <a:pt x="2406" y="7268"/>
                </a:cubicBezTo>
                <a:cubicBezTo>
                  <a:pt x="2544" y="7257"/>
                  <a:pt x="2685" y="7243"/>
                  <a:pt x="2828" y="7243"/>
                </a:cubicBezTo>
                <a:cubicBezTo>
                  <a:pt x="2949" y="7243"/>
                  <a:pt x="3056" y="7223"/>
                  <a:pt x="3175" y="7218"/>
                </a:cubicBezTo>
                <a:cubicBezTo>
                  <a:pt x="3530" y="7202"/>
                  <a:pt x="3892" y="7251"/>
                  <a:pt x="4242" y="7243"/>
                </a:cubicBezTo>
                <a:cubicBezTo>
                  <a:pt x="4435" y="7239"/>
                  <a:pt x="4639" y="7218"/>
                  <a:pt x="4837" y="7218"/>
                </a:cubicBezTo>
                <a:cubicBezTo>
                  <a:pt x="5161" y="7218"/>
                  <a:pt x="5484" y="7208"/>
                  <a:pt x="5804" y="7193"/>
                </a:cubicBezTo>
                <a:cubicBezTo>
                  <a:pt x="6250" y="7172"/>
                  <a:pt x="6702" y="7199"/>
                  <a:pt x="7144" y="7218"/>
                </a:cubicBezTo>
                <a:cubicBezTo>
                  <a:pt x="7505" y="7234"/>
                  <a:pt x="7995" y="7283"/>
                  <a:pt x="8334" y="7193"/>
                </a:cubicBezTo>
                <a:cubicBezTo>
                  <a:pt x="8413" y="7172"/>
                  <a:pt x="8414" y="7171"/>
                  <a:pt x="8458" y="7119"/>
                </a:cubicBezTo>
                <a:cubicBezTo>
                  <a:pt x="8497" y="7073"/>
                  <a:pt x="8458" y="7129"/>
                  <a:pt x="8458" y="7069"/>
                </a:cubicBezTo>
                <a:cubicBezTo>
                  <a:pt x="8458" y="7040"/>
                  <a:pt x="8441" y="7038"/>
                  <a:pt x="8434" y="6995"/>
                </a:cubicBezTo>
                <a:cubicBezTo>
                  <a:pt x="8425" y="6945"/>
                  <a:pt x="8413" y="6889"/>
                  <a:pt x="8409" y="6846"/>
                </a:cubicBezTo>
                <a:cubicBezTo>
                  <a:pt x="8406" y="6819"/>
                  <a:pt x="8411" y="6824"/>
                  <a:pt x="8409" y="6772"/>
                </a:cubicBezTo>
                <a:cubicBezTo>
                  <a:pt x="8407" y="6739"/>
                  <a:pt x="8439" y="6736"/>
                  <a:pt x="8409" y="6722"/>
                </a:cubicBezTo>
                <a:cubicBezTo>
                  <a:pt x="8409" y="6750"/>
                  <a:pt x="8407" y="6761"/>
                  <a:pt x="8384" y="6772"/>
                </a:cubicBezTo>
              </a:path>
              <a:path w="14884" h="695">
                <a:moveTo>
                  <a:pt x="9624" y="6648"/>
                </a:moveTo>
                <a:cubicBezTo>
                  <a:pt x="9631" y="6687"/>
                  <a:pt x="9646" y="6712"/>
                  <a:pt x="9649" y="6747"/>
                </a:cubicBezTo>
                <a:cubicBezTo>
                  <a:pt x="9660" y="6897"/>
                  <a:pt x="9596" y="7143"/>
                  <a:pt x="9674" y="7268"/>
                </a:cubicBezTo>
                <a:cubicBezTo>
                  <a:pt x="9693" y="7299"/>
                  <a:pt x="9688" y="7302"/>
                  <a:pt x="9723" y="7317"/>
                </a:cubicBezTo>
                <a:cubicBezTo>
                  <a:pt x="9807" y="7354"/>
                  <a:pt x="9991" y="7306"/>
                  <a:pt x="10071" y="7293"/>
                </a:cubicBezTo>
                <a:cubicBezTo>
                  <a:pt x="10187" y="7274"/>
                  <a:pt x="10301" y="7259"/>
                  <a:pt x="10418" y="7243"/>
                </a:cubicBezTo>
                <a:cubicBezTo>
                  <a:pt x="10573" y="7221"/>
                  <a:pt x="10730" y="7200"/>
                  <a:pt x="10889" y="7193"/>
                </a:cubicBezTo>
                <a:cubicBezTo>
                  <a:pt x="11040" y="7186"/>
                  <a:pt x="11186" y="7182"/>
                  <a:pt x="11336" y="7169"/>
                </a:cubicBezTo>
                <a:cubicBezTo>
                  <a:pt x="11502" y="7155"/>
                  <a:pt x="11663" y="7144"/>
                  <a:pt x="11832" y="7144"/>
                </a:cubicBezTo>
                <a:cubicBezTo>
                  <a:pt x="12247" y="7144"/>
                  <a:pt x="12661" y="7145"/>
                  <a:pt x="13072" y="7169"/>
                </a:cubicBezTo>
                <a:cubicBezTo>
                  <a:pt x="13269" y="7181"/>
                  <a:pt x="13470" y="7183"/>
                  <a:pt x="13667" y="7193"/>
                </a:cubicBezTo>
                <a:cubicBezTo>
                  <a:pt x="13857" y="7203"/>
                  <a:pt x="14048" y="7214"/>
                  <a:pt x="14238" y="7218"/>
                </a:cubicBezTo>
                <a:cubicBezTo>
                  <a:pt x="14422" y="7222"/>
                  <a:pt x="14601" y="7239"/>
                  <a:pt x="14784" y="7243"/>
                </a:cubicBezTo>
                <a:cubicBezTo>
                  <a:pt x="14944" y="7246"/>
                  <a:pt x="15097" y="7261"/>
                  <a:pt x="15255" y="7268"/>
                </a:cubicBezTo>
                <a:cubicBezTo>
                  <a:pt x="15405" y="7274"/>
                  <a:pt x="15557" y="7249"/>
                  <a:pt x="15701" y="7243"/>
                </a:cubicBezTo>
                <a:cubicBezTo>
                  <a:pt x="15811" y="7238"/>
                  <a:pt x="15916" y="7235"/>
                  <a:pt x="16024" y="7218"/>
                </a:cubicBezTo>
                <a:cubicBezTo>
                  <a:pt x="16049" y="7214"/>
                  <a:pt x="16127" y="7207"/>
                  <a:pt x="16148" y="7193"/>
                </a:cubicBezTo>
                <a:cubicBezTo>
                  <a:pt x="16182" y="7171"/>
                  <a:pt x="16182" y="7141"/>
                  <a:pt x="16197" y="7119"/>
                </a:cubicBezTo>
                <a:cubicBezTo>
                  <a:pt x="16232" y="7069"/>
                  <a:pt x="16219" y="7033"/>
                  <a:pt x="16222" y="6970"/>
                </a:cubicBezTo>
                <a:cubicBezTo>
                  <a:pt x="16226" y="6877"/>
                  <a:pt x="16206" y="6752"/>
                  <a:pt x="16197" y="669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74760" y="2813040"/>
            <a:ext cx="1170000" cy="704880"/>
          </a:xfrm>
          <a:custGeom>
            <a:avLst/>
            <a:gdLst/>
            <a:ahLst/>
            <a:rect l="l" t="t" r="r" b="b"/>
            <a:pathLst>
              <a:path w="3250" h="1961">
                <a:moveTo>
                  <a:pt x="1513" y="9004"/>
                </a:moveTo>
                <a:cubicBezTo>
                  <a:pt x="1513" y="9041"/>
                  <a:pt x="1513" y="9198"/>
                  <a:pt x="1513" y="9153"/>
                </a:cubicBezTo>
                <a:cubicBezTo>
                  <a:pt x="1513" y="9077"/>
                  <a:pt x="1508" y="9019"/>
                  <a:pt x="1488" y="8954"/>
                </a:cubicBezTo>
                <a:cubicBezTo>
                  <a:pt x="1477" y="8919"/>
                  <a:pt x="1452" y="8893"/>
                  <a:pt x="1414" y="8880"/>
                </a:cubicBezTo>
                <a:cubicBezTo>
                  <a:pt x="1379" y="8868"/>
                  <a:pt x="1341" y="8894"/>
                  <a:pt x="1315" y="8905"/>
                </a:cubicBezTo>
                <a:cubicBezTo>
                  <a:pt x="1254" y="8931"/>
                  <a:pt x="1199" y="8999"/>
                  <a:pt x="1166" y="9054"/>
                </a:cubicBezTo>
                <a:cubicBezTo>
                  <a:pt x="1128" y="9117"/>
                  <a:pt x="1078" y="9204"/>
                  <a:pt x="1067" y="9277"/>
                </a:cubicBezTo>
                <a:cubicBezTo>
                  <a:pt x="1053" y="9367"/>
                  <a:pt x="1059" y="9442"/>
                  <a:pt x="1067" y="9525"/>
                </a:cubicBezTo>
                <a:cubicBezTo>
                  <a:pt x="1073" y="9584"/>
                  <a:pt x="1086" y="9661"/>
                  <a:pt x="1141" y="9699"/>
                </a:cubicBezTo>
                <a:cubicBezTo>
                  <a:pt x="1247" y="9772"/>
                  <a:pt x="1303" y="9798"/>
                  <a:pt x="1414" y="9748"/>
                </a:cubicBezTo>
                <a:cubicBezTo>
                  <a:pt x="1464" y="9725"/>
                  <a:pt x="1514" y="9698"/>
                  <a:pt x="1563" y="9674"/>
                </a:cubicBezTo>
              </a:path>
              <a:path w="3250" h="1961">
                <a:moveTo>
                  <a:pt x="1860" y="9054"/>
                </a:moveTo>
                <a:cubicBezTo>
                  <a:pt x="1853" y="9147"/>
                  <a:pt x="1822" y="9191"/>
                  <a:pt x="1811" y="9277"/>
                </a:cubicBezTo>
                <a:cubicBezTo>
                  <a:pt x="1798" y="9379"/>
                  <a:pt x="1806" y="9454"/>
                  <a:pt x="1811" y="9550"/>
                </a:cubicBezTo>
                <a:cubicBezTo>
                  <a:pt x="1816" y="9643"/>
                  <a:pt x="1842" y="9649"/>
                  <a:pt x="1910" y="9699"/>
                </a:cubicBezTo>
                <a:cubicBezTo>
                  <a:pt x="1945" y="9725"/>
                  <a:pt x="2012" y="9736"/>
                  <a:pt x="2059" y="9723"/>
                </a:cubicBezTo>
                <a:cubicBezTo>
                  <a:pt x="2121" y="9705"/>
                  <a:pt x="2178" y="9650"/>
                  <a:pt x="2208" y="9599"/>
                </a:cubicBezTo>
                <a:cubicBezTo>
                  <a:pt x="2247" y="9532"/>
                  <a:pt x="2263" y="9471"/>
                  <a:pt x="2282" y="9401"/>
                </a:cubicBezTo>
                <a:cubicBezTo>
                  <a:pt x="2306" y="9312"/>
                  <a:pt x="2308" y="9242"/>
                  <a:pt x="2282" y="9153"/>
                </a:cubicBezTo>
                <a:cubicBezTo>
                  <a:pt x="2264" y="9090"/>
                  <a:pt x="2254" y="9051"/>
                  <a:pt x="2208" y="9004"/>
                </a:cubicBezTo>
                <a:cubicBezTo>
                  <a:pt x="2170" y="8965"/>
                  <a:pt x="2141" y="8934"/>
                  <a:pt x="2084" y="8930"/>
                </a:cubicBezTo>
                <a:cubicBezTo>
                  <a:pt x="2039" y="8927"/>
                  <a:pt x="1972" y="8936"/>
                  <a:pt x="1935" y="8954"/>
                </a:cubicBezTo>
                <a:cubicBezTo>
                  <a:pt x="1876" y="8984"/>
                  <a:pt x="1860" y="9039"/>
                  <a:pt x="1836" y="9079"/>
                </a:cubicBezTo>
                <a:cubicBezTo>
                  <a:pt x="1816" y="9113"/>
                  <a:pt x="1803" y="9192"/>
                  <a:pt x="1836" y="9227"/>
                </a:cubicBezTo>
                <a:cubicBezTo>
                  <a:pt x="1861" y="9244"/>
                  <a:pt x="1885" y="9260"/>
                  <a:pt x="1910" y="9277"/>
                </a:cubicBezTo>
              </a:path>
              <a:path w="3250" h="1961">
                <a:moveTo>
                  <a:pt x="2803" y="8930"/>
                </a:moveTo>
                <a:cubicBezTo>
                  <a:pt x="2743" y="8921"/>
                  <a:pt x="2712" y="8902"/>
                  <a:pt x="2654" y="8930"/>
                </a:cubicBezTo>
                <a:cubicBezTo>
                  <a:pt x="2616" y="8949"/>
                  <a:pt x="2564" y="8957"/>
                  <a:pt x="2530" y="8979"/>
                </a:cubicBezTo>
                <a:cubicBezTo>
                  <a:pt x="2500" y="8999"/>
                  <a:pt x="2459" y="9031"/>
                  <a:pt x="2456" y="9054"/>
                </a:cubicBezTo>
                <a:cubicBezTo>
                  <a:pt x="2453" y="9075"/>
                  <a:pt x="2468" y="9148"/>
                  <a:pt x="2480" y="9153"/>
                </a:cubicBezTo>
                <a:cubicBezTo>
                  <a:pt x="2533" y="9172"/>
                  <a:pt x="2600" y="9217"/>
                  <a:pt x="2654" y="9227"/>
                </a:cubicBezTo>
                <a:cubicBezTo>
                  <a:pt x="2715" y="9239"/>
                  <a:pt x="2780" y="9239"/>
                  <a:pt x="2828" y="9277"/>
                </a:cubicBezTo>
                <a:cubicBezTo>
                  <a:pt x="2867" y="9308"/>
                  <a:pt x="2923" y="9332"/>
                  <a:pt x="2952" y="9376"/>
                </a:cubicBezTo>
                <a:cubicBezTo>
                  <a:pt x="2966" y="9398"/>
                  <a:pt x="2995" y="9469"/>
                  <a:pt x="2977" y="9500"/>
                </a:cubicBezTo>
                <a:cubicBezTo>
                  <a:pt x="2950" y="9549"/>
                  <a:pt x="2878" y="9605"/>
                  <a:pt x="2828" y="9624"/>
                </a:cubicBezTo>
                <a:cubicBezTo>
                  <a:pt x="2764" y="9649"/>
                  <a:pt x="2700" y="9649"/>
                  <a:pt x="2629" y="9649"/>
                </a:cubicBezTo>
                <a:cubicBezTo>
                  <a:pt x="2558" y="9649"/>
                  <a:pt x="2513" y="9643"/>
                  <a:pt x="2456" y="9624"/>
                </a:cubicBezTo>
                <a:cubicBezTo>
                  <a:pt x="2412" y="9609"/>
                  <a:pt x="2421" y="9645"/>
                  <a:pt x="2406" y="9599"/>
                </a:cubicBezTo>
              </a:path>
              <a:path w="3250" h="1961">
                <a:moveTo>
                  <a:pt x="3349" y="7813"/>
                </a:moveTo>
                <a:cubicBezTo>
                  <a:pt x="3371" y="7889"/>
                  <a:pt x="3373" y="7932"/>
                  <a:pt x="3373" y="8012"/>
                </a:cubicBezTo>
                <a:cubicBezTo>
                  <a:pt x="3373" y="8076"/>
                  <a:pt x="3387" y="8111"/>
                  <a:pt x="3398" y="8161"/>
                </a:cubicBezTo>
                <a:cubicBezTo>
                  <a:pt x="3406" y="8197"/>
                  <a:pt x="3398" y="8248"/>
                  <a:pt x="3398" y="8285"/>
                </a:cubicBezTo>
              </a:path>
              <a:path w="3250" h="1961">
                <a:moveTo>
                  <a:pt x="3200" y="8434"/>
                </a:moveTo>
                <a:cubicBezTo>
                  <a:pt x="3253" y="8434"/>
                  <a:pt x="3273" y="8418"/>
                  <a:pt x="3324" y="8409"/>
                </a:cubicBezTo>
                <a:cubicBezTo>
                  <a:pt x="3390" y="8397"/>
                  <a:pt x="3655" y="8385"/>
                  <a:pt x="3671" y="8434"/>
                </a:cubicBezTo>
              </a:path>
              <a:path w="3250" h="1961">
                <a:moveTo>
                  <a:pt x="3249" y="8657"/>
                </a:moveTo>
                <a:cubicBezTo>
                  <a:pt x="3259" y="8628"/>
                  <a:pt x="3283" y="8612"/>
                  <a:pt x="3324" y="8607"/>
                </a:cubicBezTo>
                <a:cubicBezTo>
                  <a:pt x="3380" y="8601"/>
                  <a:pt x="3440" y="8607"/>
                  <a:pt x="3497" y="8607"/>
                </a:cubicBezTo>
                <a:cubicBezTo>
                  <a:pt x="3497" y="8658"/>
                  <a:pt x="3480" y="8689"/>
                  <a:pt x="3448" y="8731"/>
                </a:cubicBezTo>
                <a:cubicBezTo>
                  <a:pt x="3414" y="8776"/>
                  <a:pt x="3375" y="8821"/>
                  <a:pt x="3349" y="8855"/>
                </a:cubicBezTo>
                <a:cubicBezTo>
                  <a:pt x="3320" y="8892"/>
                  <a:pt x="3279" y="8907"/>
                  <a:pt x="3274" y="8954"/>
                </a:cubicBezTo>
                <a:cubicBezTo>
                  <a:pt x="3274" y="8962"/>
                  <a:pt x="3274" y="8971"/>
                  <a:pt x="3274" y="8979"/>
                </a:cubicBezTo>
                <a:cubicBezTo>
                  <a:pt x="3373" y="8979"/>
                  <a:pt x="3473" y="8979"/>
                  <a:pt x="3572" y="8979"/>
                </a:cubicBezTo>
              </a:path>
              <a:path w="3250" h="1961">
                <a:moveTo>
                  <a:pt x="3795" y="8954"/>
                </a:moveTo>
                <a:cubicBezTo>
                  <a:pt x="3795" y="9039"/>
                  <a:pt x="3815" y="9013"/>
                  <a:pt x="3845" y="9079"/>
                </a:cubicBezTo>
                <a:cubicBezTo>
                  <a:pt x="3884" y="9164"/>
                  <a:pt x="3911" y="9197"/>
                  <a:pt x="3969" y="9277"/>
                </a:cubicBezTo>
                <a:cubicBezTo>
                  <a:pt x="4014" y="9340"/>
                  <a:pt x="4048" y="9411"/>
                  <a:pt x="4093" y="9475"/>
                </a:cubicBezTo>
                <a:cubicBezTo>
                  <a:pt x="4116" y="9508"/>
                  <a:pt x="4160" y="9582"/>
                  <a:pt x="4192" y="9599"/>
                </a:cubicBezTo>
                <a:cubicBezTo>
                  <a:pt x="4222" y="9615"/>
                  <a:pt x="4217" y="9660"/>
                  <a:pt x="4217" y="9624"/>
                </a:cubicBezTo>
                <a:cubicBezTo>
                  <a:pt x="4217" y="9574"/>
                  <a:pt x="4217" y="9525"/>
                  <a:pt x="4217" y="9475"/>
                </a:cubicBezTo>
              </a:path>
              <a:path w="3250" h="1961">
                <a:moveTo>
                  <a:pt x="4291" y="9029"/>
                </a:moveTo>
                <a:cubicBezTo>
                  <a:pt x="4261" y="9039"/>
                  <a:pt x="4249" y="9071"/>
                  <a:pt x="4217" y="9103"/>
                </a:cubicBezTo>
                <a:cubicBezTo>
                  <a:pt x="4137" y="9182"/>
                  <a:pt x="4088" y="9253"/>
                  <a:pt x="3994" y="9327"/>
                </a:cubicBezTo>
                <a:cubicBezTo>
                  <a:pt x="3913" y="9391"/>
                  <a:pt x="3826" y="9443"/>
                  <a:pt x="3746" y="9500"/>
                </a:cubicBezTo>
                <a:cubicBezTo>
                  <a:pt x="3680" y="9547"/>
                  <a:pt x="3624" y="9619"/>
                  <a:pt x="3547" y="9649"/>
                </a:cubicBezTo>
                <a:cubicBezTo>
                  <a:pt x="3510" y="9663"/>
                  <a:pt x="3502" y="9750"/>
                  <a:pt x="3473" y="9723"/>
                </a:cubicBezTo>
                <a:cubicBezTo>
                  <a:pt x="3473" y="9715"/>
                  <a:pt x="3473" y="9707"/>
                  <a:pt x="3473" y="969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751040" y="3152880"/>
            <a:ext cx="847800" cy="347400"/>
          </a:xfrm>
          <a:custGeom>
            <a:avLst/>
            <a:gdLst/>
            <a:ahLst/>
            <a:rect l="l" t="t" r="r" b="b"/>
            <a:pathLst>
              <a:path w="2357" h="968">
                <a:moveTo>
                  <a:pt x="5234" y="8954"/>
                </a:moveTo>
                <a:cubicBezTo>
                  <a:pt x="5254" y="8981"/>
                  <a:pt x="5259" y="9049"/>
                  <a:pt x="5259" y="9004"/>
                </a:cubicBezTo>
                <a:cubicBezTo>
                  <a:pt x="5259" y="8972"/>
                  <a:pt x="5251" y="8938"/>
                  <a:pt x="5234" y="8930"/>
                </a:cubicBezTo>
                <a:cubicBezTo>
                  <a:pt x="5202" y="8914"/>
                  <a:pt x="5175" y="8905"/>
                  <a:pt x="5135" y="8905"/>
                </a:cubicBezTo>
                <a:cubicBezTo>
                  <a:pt x="5081" y="8905"/>
                  <a:pt x="5037" y="8942"/>
                  <a:pt x="4986" y="8954"/>
                </a:cubicBezTo>
                <a:cubicBezTo>
                  <a:pt x="4948" y="8963"/>
                  <a:pt x="4917" y="8977"/>
                  <a:pt x="4887" y="9004"/>
                </a:cubicBezTo>
                <a:cubicBezTo>
                  <a:pt x="4853" y="9035"/>
                  <a:pt x="4862" y="9060"/>
                  <a:pt x="4862" y="9103"/>
                </a:cubicBezTo>
                <a:cubicBezTo>
                  <a:pt x="4862" y="9135"/>
                  <a:pt x="4905" y="9189"/>
                  <a:pt x="4936" y="9203"/>
                </a:cubicBezTo>
                <a:cubicBezTo>
                  <a:pt x="5002" y="9234"/>
                  <a:pt x="5055" y="9251"/>
                  <a:pt x="5110" y="9302"/>
                </a:cubicBezTo>
                <a:cubicBezTo>
                  <a:pt x="5154" y="9343"/>
                  <a:pt x="5244" y="9412"/>
                  <a:pt x="5259" y="9475"/>
                </a:cubicBezTo>
                <a:cubicBezTo>
                  <a:pt x="5272" y="9531"/>
                  <a:pt x="5260" y="9556"/>
                  <a:pt x="5234" y="9575"/>
                </a:cubicBezTo>
                <a:cubicBezTo>
                  <a:pt x="5188" y="9608"/>
                  <a:pt x="5143" y="9599"/>
                  <a:pt x="5085" y="9599"/>
                </a:cubicBezTo>
                <a:cubicBezTo>
                  <a:pt x="5026" y="9599"/>
                  <a:pt x="4986" y="9589"/>
                  <a:pt x="4936" y="9575"/>
                </a:cubicBezTo>
                <a:cubicBezTo>
                  <a:pt x="4867" y="9555"/>
                  <a:pt x="4954" y="9518"/>
                  <a:pt x="4986" y="9500"/>
                </a:cubicBezTo>
              </a:path>
              <a:path w="2357" h="968">
                <a:moveTo>
                  <a:pt x="5631" y="9103"/>
                </a:moveTo>
                <a:cubicBezTo>
                  <a:pt x="5611" y="9176"/>
                  <a:pt x="5593" y="9255"/>
                  <a:pt x="5581" y="9327"/>
                </a:cubicBezTo>
                <a:cubicBezTo>
                  <a:pt x="5566" y="9418"/>
                  <a:pt x="5583" y="9523"/>
                  <a:pt x="5606" y="9599"/>
                </a:cubicBezTo>
                <a:cubicBezTo>
                  <a:pt x="5620" y="9644"/>
                  <a:pt x="5606" y="9662"/>
                  <a:pt x="5606" y="9599"/>
                </a:cubicBezTo>
                <a:cubicBezTo>
                  <a:pt x="5606" y="9583"/>
                  <a:pt x="5606" y="9566"/>
                  <a:pt x="5606" y="9550"/>
                </a:cubicBezTo>
              </a:path>
              <a:path w="2357" h="968">
                <a:moveTo>
                  <a:pt x="5779" y="8806"/>
                </a:moveTo>
                <a:cubicBezTo>
                  <a:pt x="5787" y="8789"/>
                  <a:pt x="5796" y="8773"/>
                  <a:pt x="5804" y="8756"/>
                </a:cubicBezTo>
              </a:path>
              <a:path w="2357" h="968">
                <a:moveTo>
                  <a:pt x="5953" y="9252"/>
                </a:moveTo>
                <a:cubicBezTo>
                  <a:pt x="5941" y="9337"/>
                  <a:pt x="5912" y="9441"/>
                  <a:pt x="5904" y="9525"/>
                </a:cubicBezTo>
                <a:cubicBezTo>
                  <a:pt x="5900" y="9568"/>
                  <a:pt x="5917" y="9562"/>
                  <a:pt x="5879" y="9575"/>
                </a:cubicBezTo>
                <a:cubicBezTo>
                  <a:pt x="5879" y="9523"/>
                  <a:pt x="5891" y="9492"/>
                  <a:pt x="5904" y="9451"/>
                </a:cubicBezTo>
                <a:cubicBezTo>
                  <a:pt x="5922" y="9390"/>
                  <a:pt x="5900" y="9340"/>
                  <a:pt x="5928" y="9277"/>
                </a:cubicBezTo>
                <a:cubicBezTo>
                  <a:pt x="5952" y="9221"/>
                  <a:pt x="5972" y="9179"/>
                  <a:pt x="6003" y="9128"/>
                </a:cubicBezTo>
                <a:cubicBezTo>
                  <a:pt x="6039" y="9068"/>
                  <a:pt x="6084" y="9046"/>
                  <a:pt x="6152" y="9029"/>
                </a:cubicBezTo>
                <a:cubicBezTo>
                  <a:pt x="6205" y="9016"/>
                  <a:pt x="6268" y="9034"/>
                  <a:pt x="6300" y="9079"/>
                </a:cubicBezTo>
                <a:cubicBezTo>
                  <a:pt x="6358" y="9160"/>
                  <a:pt x="6430" y="9303"/>
                  <a:pt x="6449" y="9401"/>
                </a:cubicBezTo>
                <a:cubicBezTo>
                  <a:pt x="6460" y="9459"/>
                  <a:pt x="6483" y="9498"/>
                  <a:pt x="6499" y="9550"/>
                </a:cubicBezTo>
                <a:cubicBezTo>
                  <a:pt x="6502" y="9560"/>
                  <a:pt x="6519" y="9676"/>
                  <a:pt x="6524" y="9599"/>
                </a:cubicBezTo>
                <a:cubicBezTo>
                  <a:pt x="6524" y="9574"/>
                  <a:pt x="6524" y="9550"/>
                  <a:pt x="6524" y="9525"/>
                </a:cubicBezTo>
              </a:path>
              <a:path w="2357" h="968">
                <a:moveTo>
                  <a:pt x="6697" y="9103"/>
                </a:moveTo>
                <a:cubicBezTo>
                  <a:pt x="6723" y="9169"/>
                  <a:pt x="6747" y="9224"/>
                  <a:pt x="6796" y="9277"/>
                </a:cubicBezTo>
                <a:cubicBezTo>
                  <a:pt x="6866" y="9352"/>
                  <a:pt x="6920" y="9433"/>
                  <a:pt x="6995" y="9500"/>
                </a:cubicBezTo>
                <a:cubicBezTo>
                  <a:pt x="7040" y="9540"/>
                  <a:pt x="7088" y="9602"/>
                  <a:pt x="7144" y="9624"/>
                </a:cubicBezTo>
                <a:cubicBezTo>
                  <a:pt x="7161" y="9631"/>
                  <a:pt x="7200" y="9624"/>
                  <a:pt x="7218" y="9624"/>
                </a:cubicBezTo>
                <a:cubicBezTo>
                  <a:pt x="7218" y="9583"/>
                  <a:pt x="7218" y="9541"/>
                  <a:pt x="7218" y="9500"/>
                </a:cubicBezTo>
              </a:path>
              <a:path w="2357" h="968">
                <a:moveTo>
                  <a:pt x="7169" y="9054"/>
                </a:moveTo>
                <a:cubicBezTo>
                  <a:pt x="7113" y="9148"/>
                  <a:pt x="7056" y="9266"/>
                  <a:pt x="6995" y="9351"/>
                </a:cubicBezTo>
                <a:cubicBezTo>
                  <a:pt x="6943" y="9424"/>
                  <a:pt x="6859" y="9487"/>
                  <a:pt x="6796" y="9550"/>
                </a:cubicBezTo>
                <a:cubicBezTo>
                  <a:pt x="6759" y="9587"/>
                  <a:pt x="6665" y="9672"/>
                  <a:pt x="6648" y="9699"/>
                </a:cubicBezTo>
                <a:cubicBezTo>
                  <a:pt x="6612" y="9756"/>
                  <a:pt x="6697" y="9674"/>
                  <a:pt x="6697" y="967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840040" y="2982960"/>
            <a:ext cx="169920" cy="544320"/>
          </a:xfrm>
          <a:custGeom>
            <a:avLst/>
            <a:gdLst/>
            <a:ahLst/>
            <a:rect l="l" t="t" r="r" b="b"/>
            <a:pathLst>
              <a:path w="472" h="1514">
                <a:moveTo>
                  <a:pt x="8359" y="8285"/>
                </a:moveTo>
                <a:cubicBezTo>
                  <a:pt x="8319" y="8325"/>
                  <a:pt x="8295" y="8367"/>
                  <a:pt x="8260" y="8409"/>
                </a:cubicBezTo>
                <a:cubicBezTo>
                  <a:pt x="8189" y="8494"/>
                  <a:pt x="8149" y="8566"/>
                  <a:pt x="8086" y="8657"/>
                </a:cubicBezTo>
                <a:cubicBezTo>
                  <a:pt x="8011" y="8766"/>
                  <a:pt x="7952" y="8876"/>
                  <a:pt x="7913" y="9004"/>
                </a:cubicBezTo>
                <a:cubicBezTo>
                  <a:pt x="7875" y="9129"/>
                  <a:pt x="7880" y="9251"/>
                  <a:pt x="7913" y="9376"/>
                </a:cubicBezTo>
                <a:cubicBezTo>
                  <a:pt x="7944" y="9490"/>
                  <a:pt x="7981" y="9542"/>
                  <a:pt x="8062" y="9624"/>
                </a:cubicBezTo>
                <a:cubicBezTo>
                  <a:pt x="8120" y="9682"/>
                  <a:pt x="8146" y="9725"/>
                  <a:pt x="8210" y="9773"/>
                </a:cubicBezTo>
                <a:cubicBezTo>
                  <a:pt x="8230" y="9788"/>
                  <a:pt x="8211" y="9765"/>
                  <a:pt x="8235" y="977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303720" y="3062160"/>
            <a:ext cx="81000" cy="519120"/>
          </a:xfrm>
          <a:custGeom>
            <a:avLst/>
            <a:gdLst/>
            <a:ahLst/>
            <a:rect l="l" t="t" r="r" b="b"/>
            <a:pathLst>
              <a:path w="224" h="1440">
                <a:moveTo>
                  <a:pt x="9178" y="8508"/>
                </a:moveTo>
                <a:cubicBezTo>
                  <a:pt x="9240" y="8517"/>
                  <a:pt x="9242" y="8533"/>
                  <a:pt x="9277" y="8558"/>
                </a:cubicBezTo>
                <a:cubicBezTo>
                  <a:pt x="9294" y="8570"/>
                  <a:pt x="9288" y="8621"/>
                  <a:pt x="9302" y="8632"/>
                </a:cubicBezTo>
                <a:cubicBezTo>
                  <a:pt x="9317" y="8644"/>
                  <a:pt x="9344" y="8673"/>
                  <a:pt x="9351" y="8706"/>
                </a:cubicBezTo>
                <a:cubicBezTo>
                  <a:pt x="9413" y="9006"/>
                  <a:pt x="9326" y="9349"/>
                  <a:pt x="9376" y="9649"/>
                </a:cubicBezTo>
                <a:cubicBezTo>
                  <a:pt x="9386" y="9709"/>
                  <a:pt x="9390" y="9772"/>
                  <a:pt x="9401" y="9823"/>
                </a:cubicBezTo>
                <a:cubicBezTo>
                  <a:pt x="9409" y="9860"/>
                  <a:pt x="9401" y="9909"/>
                  <a:pt x="9401" y="994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670200" y="3268800"/>
            <a:ext cx="268560" cy="17280"/>
          </a:xfrm>
          <a:custGeom>
            <a:avLst/>
            <a:gdLst/>
            <a:ahLst/>
            <a:rect l="l" t="t" r="r" b="b"/>
            <a:pathLst>
              <a:path w="745" h="50">
                <a:moveTo>
                  <a:pt x="10195" y="9079"/>
                </a:moveTo>
                <a:cubicBezTo>
                  <a:pt x="10242" y="9113"/>
                  <a:pt x="10283" y="9103"/>
                  <a:pt x="10344" y="9103"/>
                </a:cubicBezTo>
                <a:cubicBezTo>
                  <a:pt x="10551" y="9103"/>
                  <a:pt x="11082" y="8983"/>
                  <a:pt x="10914" y="9103"/>
                </a:cubicBezTo>
                <a:cubicBezTo>
                  <a:pt x="10906" y="9111"/>
                  <a:pt x="10897" y="9120"/>
                  <a:pt x="10889" y="912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197240" y="2982960"/>
            <a:ext cx="1009800" cy="482400"/>
          </a:xfrm>
          <a:custGeom>
            <a:avLst/>
            <a:gdLst/>
            <a:ahLst/>
            <a:rect l="l" t="t" r="r" b="b"/>
            <a:pathLst>
              <a:path w="2804" h="1340">
                <a:moveTo>
                  <a:pt x="12080" y="8855"/>
                </a:moveTo>
                <a:cubicBezTo>
                  <a:pt x="12079" y="8852"/>
                  <a:pt x="12058" y="8784"/>
                  <a:pt x="12055" y="8781"/>
                </a:cubicBezTo>
                <a:cubicBezTo>
                  <a:pt x="12044" y="8772"/>
                  <a:pt x="12010" y="8739"/>
                  <a:pt x="11981" y="8756"/>
                </a:cubicBezTo>
                <a:cubicBezTo>
                  <a:pt x="11948" y="8775"/>
                  <a:pt x="11854" y="8854"/>
                  <a:pt x="11832" y="8880"/>
                </a:cubicBezTo>
                <a:cubicBezTo>
                  <a:pt x="11791" y="8928"/>
                  <a:pt x="11704" y="9074"/>
                  <a:pt x="11683" y="9128"/>
                </a:cubicBezTo>
                <a:cubicBezTo>
                  <a:pt x="11652" y="9208"/>
                  <a:pt x="11670" y="9272"/>
                  <a:pt x="11683" y="9351"/>
                </a:cubicBezTo>
                <a:cubicBezTo>
                  <a:pt x="11695" y="9425"/>
                  <a:pt x="11725" y="9443"/>
                  <a:pt x="11782" y="9500"/>
                </a:cubicBezTo>
                <a:cubicBezTo>
                  <a:pt x="11843" y="9561"/>
                  <a:pt x="11899" y="9550"/>
                  <a:pt x="11981" y="9550"/>
                </a:cubicBezTo>
                <a:cubicBezTo>
                  <a:pt x="12039" y="9550"/>
                  <a:pt x="12054" y="9529"/>
                  <a:pt x="12105" y="9500"/>
                </a:cubicBezTo>
              </a:path>
              <a:path w="2804" h="1340">
                <a:moveTo>
                  <a:pt x="12402" y="9054"/>
                </a:moveTo>
                <a:cubicBezTo>
                  <a:pt x="12402" y="9106"/>
                  <a:pt x="12387" y="9128"/>
                  <a:pt x="12378" y="9178"/>
                </a:cubicBezTo>
                <a:cubicBezTo>
                  <a:pt x="12366" y="9247"/>
                  <a:pt x="12342" y="9301"/>
                  <a:pt x="12328" y="9376"/>
                </a:cubicBezTo>
                <a:cubicBezTo>
                  <a:pt x="12320" y="9416"/>
                  <a:pt x="12337" y="9493"/>
                  <a:pt x="12353" y="9525"/>
                </a:cubicBezTo>
                <a:cubicBezTo>
                  <a:pt x="12369" y="9556"/>
                  <a:pt x="12446" y="9582"/>
                  <a:pt x="12477" y="9575"/>
                </a:cubicBezTo>
                <a:cubicBezTo>
                  <a:pt x="12575" y="9552"/>
                  <a:pt x="12599" y="9527"/>
                  <a:pt x="12675" y="9451"/>
                </a:cubicBezTo>
                <a:cubicBezTo>
                  <a:pt x="12724" y="9402"/>
                  <a:pt x="12783" y="9323"/>
                  <a:pt x="12799" y="9252"/>
                </a:cubicBezTo>
                <a:cubicBezTo>
                  <a:pt x="12814" y="9186"/>
                  <a:pt x="12799" y="9106"/>
                  <a:pt x="12774" y="9054"/>
                </a:cubicBezTo>
                <a:cubicBezTo>
                  <a:pt x="12740" y="8984"/>
                  <a:pt x="12705" y="8907"/>
                  <a:pt x="12626" y="8880"/>
                </a:cubicBezTo>
                <a:cubicBezTo>
                  <a:pt x="12580" y="8864"/>
                  <a:pt x="12530" y="8855"/>
                  <a:pt x="12477" y="8880"/>
                </a:cubicBezTo>
                <a:cubicBezTo>
                  <a:pt x="12450" y="8892"/>
                  <a:pt x="12392" y="8922"/>
                  <a:pt x="12378" y="8954"/>
                </a:cubicBezTo>
                <a:cubicBezTo>
                  <a:pt x="12368" y="8977"/>
                  <a:pt x="12336" y="9049"/>
                  <a:pt x="12353" y="9079"/>
                </a:cubicBezTo>
                <a:cubicBezTo>
                  <a:pt x="12378" y="9103"/>
                  <a:pt x="12386" y="9111"/>
                  <a:pt x="12402" y="9128"/>
                </a:cubicBezTo>
              </a:path>
              <a:path w="2804" h="1340">
                <a:moveTo>
                  <a:pt x="13122" y="8905"/>
                </a:moveTo>
                <a:cubicBezTo>
                  <a:pt x="13067" y="8905"/>
                  <a:pt x="13038" y="8895"/>
                  <a:pt x="12998" y="8930"/>
                </a:cubicBezTo>
                <a:cubicBezTo>
                  <a:pt x="12963" y="8961"/>
                  <a:pt x="12929" y="8950"/>
                  <a:pt x="12923" y="9004"/>
                </a:cubicBezTo>
                <a:cubicBezTo>
                  <a:pt x="12918" y="9046"/>
                  <a:pt x="12971" y="9076"/>
                  <a:pt x="12998" y="9103"/>
                </a:cubicBezTo>
                <a:cubicBezTo>
                  <a:pt x="13038" y="9143"/>
                  <a:pt x="13082" y="9165"/>
                  <a:pt x="13122" y="9203"/>
                </a:cubicBezTo>
                <a:cubicBezTo>
                  <a:pt x="13169" y="9247"/>
                  <a:pt x="13210" y="9295"/>
                  <a:pt x="13221" y="9351"/>
                </a:cubicBezTo>
                <a:cubicBezTo>
                  <a:pt x="13229" y="9393"/>
                  <a:pt x="13216" y="9445"/>
                  <a:pt x="13196" y="9475"/>
                </a:cubicBezTo>
                <a:cubicBezTo>
                  <a:pt x="13170" y="9514"/>
                  <a:pt x="13090" y="9539"/>
                  <a:pt x="13047" y="9550"/>
                </a:cubicBezTo>
                <a:cubicBezTo>
                  <a:pt x="13000" y="9562"/>
                  <a:pt x="12937" y="9552"/>
                  <a:pt x="12898" y="9525"/>
                </a:cubicBezTo>
                <a:cubicBezTo>
                  <a:pt x="12830" y="9479"/>
                  <a:pt x="12861" y="9472"/>
                  <a:pt x="12874" y="9401"/>
                </a:cubicBezTo>
                <a:cubicBezTo>
                  <a:pt x="12874" y="9384"/>
                  <a:pt x="12874" y="9368"/>
                  <a:pt x="12874" y="9351"/>
                </a:cubicBezTo>
              </a:path>
              <a:path w="2804" h="1340">
                <a:moveTo>
                  <a:pt x="13395" y="8334"/>
                </a:moveTo>
                <a:cubicBezTo>
                  <a:pt x="13473" y="8292"/>
                  <a:pt x="13487" y="8285"/>
                  <a:pt x="13568" y="8285"/>
                </a:cubicBezTo>
                <a:cubicBezTo>
                  <a:pt x="13645" y="8285"/>
                  <a:pt x="13604" y="8326"/>
                  <a:pt x="13593" y="8359"/>
                </a:cubicBezTo>
                <a:cubicBezTo>
                  <a:pt x="13579" y="8402"/>
                  <a:pt x="13520" y="8444"/>
                  <a:pt x="13494" y="8483"/>
                </a:cubicBezTo>
                <a:cubicBezTo>
                  <a:pt x="13475" y="8511"/>
                  <a:pt x="13441" y="8557"/>
                  <a:pt x="13494" y="8582"/>
                </a:cubicBezTo>
                <a:cubicBezTo>
                  <a:pt x="13540" y="8604"/>
                  <a:pt x="13590" y="8608"/>
                  <a:pt x="13643" y="8632"/>
                </a:cubicBezTo>
                <a:cubicBezTo>
                  <a:pt x="13659" y="8640"/>
                  <a:pt x="13676" y="8649"/>
                  <a:pt x="13692" y="8657"/>
                </a:cubicBezTo>
              </a:path>
              <a:path w="2804" h="1340">
                <a:moveTo>
                  <a:pt x="13940" y="8905"/>
                </a:moveTo>
                <a:cubicBezTo>
                  <a:pt x="13966" y="8997"/>
                  <a:pt x="14005" y="9066"/>
                  <a:pt x="14039" y="9153"/>
                </a:cubicBezTo>
                <a:cubicBezTo>
                  <a:pt x="14075" y="9244"/>
                  <a:pt x="14146" y="9328"/>
                  <a:pt x="14213" y="9401"/>
                </a:cubicBezTo>
                <a:cubicBezTo>
                  <a:pt x="14244" y="9434"/>
                  <a:pt x="14392" y="9599"/>
                  <a:pt x="14436" y="9624"/>
                </a:cubicBezTo>
                <a:cubicBezTo>
                  <a:pt x="14461" y="9624"/>
                  <a:pt x="14469" y="9624"/>
                  <a:pt x="14461" y="9599"/>
                </a:cubicBezTo>
              </a:path>
              <a:path w="2804" h="1340">
                <a:moveTo>
                  <a:pt x="14461" y="8954"/>
                </a:moveTo>
                <a:cubicBezTo>
                  <a:pt x="14389" y="9046"/>
                  <a:pt x="14299" y="9118"/>
                  <a:pt x="14213" y="9203"/>
                </a:cubicBezTo>
                <a:cubicBezTo>
                  <a:pt x="14145" y="9270"/>
                  <a:pt x="14061" y="9316"/>
                  <a:pt x="13990" y="9376"/>
                </a:cubicBezTo>
                <a:cubicBezTo>
                  <a:pt x="13945" y="9414"/>
                  <a:pt x="13853" y="9457"/>
                  <a:pt x="13816" y="9500"/>
                </a:cubicBezTo>
                <a:cubicBezTo>
                  <a:pt x="13777" y="9546"/>
                  <a:pt x="13761" y="9577"/>
                  <a:pt x="13692" y="9599"/>
                </a:cubicBezTo>
                <a:cubicBezTo>
                  <a:pt x="13684" y="9599"/>
                  <a:pt x="13675" y="9599"/>
                  <a:pt x="13667" y="959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697360" y="2803680"/>
            <a:ext cx="581040" cy="777600"/>
          </a:xfrm>
          <a:custGeom>
            <a:avLst/>
            <a:gdLst/>
            <a:ahLst/>
            <a:rect l="l" t="t" r="r" b="b"/>
            <a:pathLst>
              <a:path w="1614" h="2159">
                <a:moveTo>
                  <a:pt x="15850" y="7789"/>
                </a:moveTo>
                <a:cubicBezTo>
                  <a:pt x="15870" y="7820"/>
                  <a:pt x="15892" y="7862"/>
                  <a:pt x="15925" y="7888"/>
                </a:cubicBezTo>
                <a:cubicBezTo>
                  <a:pt x="16006" y="7953"/>
                  <a:pt x="16037" y="8025"/>
                  <a:pt x="16098" y="8111"/>
                </a:cubicBezTo>
                <a:cubicBezTo>
                  <a:pt x="16222" y="8285"/>
                  <a:pt x="16267" y="8445"/>
                  <a:pt x="16321" y="8657"/>
                </a:cubicBezTo>
                <a:cubicBezTo>
                  <a:pt x="16361" y="8813"/>
                  <a:pt x="16405" y="9017"/>
                  <a:pt x="16371" y="9178"/>
                </a:cubicBezTo>
                <a:cubicBezTo>
                  <a:pt x="16342" y="9317"/>
                  <a:pt x="16273" y="9457"/>
                  <a:pt x="16197" y="9575"/>
                </a:cubicBezTo>
                <a:cubicBezTo>
                  <a:pt x="16142" y="9661"/>
                  <a:pt x="16084" y="9762"/>
                  <a:pt x="15999" y="9823"/>
                </a:cubicBezTo>
                <a:cubicBezTo>
                  <a:pt x="15947" y="9860"/>
                  <a:pt x="15898" y="9878"/>
                  <a:pt x="15850" y="9922"/>
                </a:cubicBezTo>
                <a:cubicBezTo>
                  <a:pt x="15817" y="9953"/>
                  <a:pt x="15805" y="9929"/>
                  <a:pt x="15850" y="9897"/>
                </a:cubicBezTo>
                <a:cubicBezTo>
                  <a:pt x="15858" y="9897"/>
                  <a:pt x="15867" y="9897"/>
                  <a:pt x="15875" y="9897"/>
                </a:cubicBezTo>
              </a:path>
              <a:path w="1614" h="2159">
                <a:moveTo>
                  <a:pt x="16718" y="9351"/>
                </a:moveTo>
                <a:cubicBezTo>
                  <a:pt x="16801" y="9329"/>
                  <a:pt x="16856" y="9327"/>
                  <a:pt x="16942" y="9327"/>
                </a:cubicBezTo>
                <a:cubicBezTo>
                  <a:pt x="17015" y="9327"/>
                  <a:pt x="17073" y="9343"/>
                  <a:pt x="17140" y="9351"/>
                </a:cubicBezTo>
                <a:cubicBezTo>
                  <a:pt x="17205" y="9359"/>
                  <a:pt x="17368" y="9366"/>
                  <a:pt x="17314" y="9327"/>
                </a:cubicBezTo>
                <a:cubicBezTo>
                  <a:pt x="17306" y="9327"/>
                  <a:pt x="17297" y="9327"/>
                  <a:pt x="17289" y="9327"/>
                </a:cubicBezTo>
              </a:path>
              <a:path w="1614" h="2159">
                <a:moveTo>
                  <a:pt x="16743" y="9550"/>
                </a:moveTo>
                <a:cubicBezTo>
                  <a:pt x="16781" y="9563"/>
                  <a:pt x="16764" y="9575"/>
                  <a:pt x="16818" y="9575"/>
                </a:cubicBezTo>
                <a:cubicBezTo>
                  <a:pt x="16894" y="9575"/>
                  <a:pt x="16961" y="9599"/>
                  <a:pt x="17041" y="9599"/>
                </a:cubicBezTo>
                <a:cubicBezTo>
                  <a:pt x="17117" y="9599"/>
                  <a:pt x="17215" y="9608"/>
                  <a:pt x="17289" y="9624"/>
                </a:cubicBezTo>
                <a:cubicBezTo>
                  <a:pt x="17398" y="9648"/>
                  <a:pt x="17361" y="9650"/>
                  <a:pt x="17413" y="9624"/>
                </a:cubicBezTo>
                <a:cubicBezTo>
                  <a:pt x="17421" y="9624"/>
                  <a:pt x="17430" y="9624"/>
                  <a:pt x="17438" y="962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027080" y="3581280"/>
            <a:ext cx="187200" cy="223920"/>
          </a:xfrm>
          <a:custGeom>
            <a:avLst/>
            <a:gdLst/>
            <a:ahLst/>
            <a:rect l="l" t="t" r="r" b="b"/>
            <a:pathLst>
              <a:path w="521" h="621">
                <a:moveTo>
                  <a:pt x="2853" y="9947"/>
                </a:moveTo>
                <a:cubicBezTo>
                  <a:pt x="2862" y="10013"/>
                  <a:pt x="2895" y="10056"/>
                  <a:pt x="2927" y="10120"/>
                </a:cubicBezTo>
                <a:cubicBezTo>
                  <a:pt x="2960" y="10185"/>
                  <a:pt x="2979" y="10228"/>
                  <a:pt x="3001" y="10294"/>
                </a:cubicBezTo>
                <a:cubicBezTo>
                  <a:pt x="3021" y="10354"/>
                  <a:pt x="3060" y="10414"/>
                  <a:pt x="3076" y="10468"/>
                </a:cubicBezTo>
                <a:cubicBezTo>
                  <a:pt x="3080" y="10481"/>
                  <a:pt x="3102" y="10566"/>
                  <a:pt x="3101" y="10567"/>
                </a:cubicBezTo>
                <a:cubicBezTo>
                  <a:pt x="3093" y="10567"/>
                  <a:pt x="3084" y="10567"/>
                  <a:pt x="3076" y="10567"/>
                </a:cubicBezTo>
              </a:path>
              <a:path w="521" h="621">
                <a:moveTo>
                  <a:pt x="2853" y="10418"/>
                </a:moveTo>
                <a:cubicBezTo>
                  <a:pt x="2898" y="10464"/>
                  <a:pt x="2928" y="10488"/>
                  <a:pt x="2977" y="10517"/>
                </a:cubicBezTo>
                <a:cubicBezTo>
                  <a:pt x="3030" y="10548"/>
                  <a:pt x="3065" y="10542"/>
                  <a:pt x="3125" y="10542"/>
                </a:cubicBezTo>
                <a:cubicBezTo>
                  <a:pt x="3191" y="10542"/>
                  <a:pt x="3205" y="10512"/>
                  <a:pt x="3249" y="10468"/>
                </a:cubicBezTo>
                <a:cubicBezTo>
                  <a:pt x="3293" y="10424"/>
                  <a:pt x="3298" y="10393"/>
                  <a:pt x="3324" y="10344"/>
                </a:cubicBezTo>
                <a:cubicBezTo>
                  <a:pt x="3351" y="10293"/>
                  <a:pt x="3373" y="10275"/>
                  <a:pt x="3373" y="1022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919080" y="3598920"/>
            <a:ext cx="2216160" cy="696960"/>
          </a:xfrm>
          <a:custGeom>
            <a:avLst/>
            <a:gdLst/>
            <a:ahLst/>
            <a:rect l="l" t="t" r="r" b="b"/>
            <a:pathLst>
              <a:path w="6152" h="1936">
                <a:moveTo>
                  <a:pt x="2977" y="10964"/>
                </a:moveTo>
                <a:cubicBezTo>
                  <a:pt x="2977" y="11023"/>
                  <a:pt x="2987" y="11017"/>
                  <a:pt x="2977" y="11013"/>
                </a:cubicBezTo>
                <a:cubicBezTo>
                  <a:pt x="2943" y="10999"/>
                  <a:pt x="2952" y="10955"/>
                  <a:pt x="2927" y="10939"/>
                </a:cubicBezTo>
                <a:cubicBezTo>
                  <a:pt x="2900" y="10921"/>
                  <a:pt x="2898" y="10914"/>
                  <a:pt x="2853" y="10914"/>
                </a:cubicBezTo>
                <a:cubicBezTo>
                  <a:pt x="2799" y="10914"/>
                  <a:pt x="2776" y="10918"/>
                  <a:pt x="2753" y="10964"/>
                </a:cubicBezTo>
                <a:cubicBezTo>
                  <a:pt x="2718" y="11035"/>
                  <a:pt x="2666" y="11089"/>
                  <a:pt x="2629" y="11162"/>
                </a:cubicBezTo>
                <a:cubicBezTo>
                  <a:pt x="2593" y="11234"/>
                  <a:pt x="2567" y="11308"/>
                  <a:pt x="2555" y="11385"/>
                </a:cubicBezTo>
                <a:cubicBezTo>
                  <a:pt x="2545" y="11449"/>
                  <a:pt x="2554" y="11508"/>
                  <a:pt x="2580" y="11559"/>
                </a:cubicBezTo>
                <a:cubicBezTo>
                  <a:pt x="2617" y="11630"/>
                  <a:pt x="2643" y="11637"/>
                  <a:pt x="2704" y="11683"/>
                </a:cubicBezTo>
                <a:cubicBezTo>
                  <a:pt x="2761" y="11726"/>
                  <a:pt x="2782" y="11733"/>
                  <a:pt x="2853" y="11733"/>
                </a:cubicBezTo>
                <a:cubicBezTo>
                  <a:pt x="2869" y="11733"/>
                  <a:pt x="2886" y="11733"/>
                  <a:pt x="2902" y="11733"/>
                </a:cubicBezTo>
              </a:path>
              <a:path w="6152" h="1936">
                <a:moveTo>
                  <a:pt x="3373" y="11137"/>
                </a:moveTo>
                <a:cubicBezTo>
                  <a:pt x="3363" y="11168"/>
                  <a:pt x="3337" y="11194"/>
                  <a:pt x="3324" y="11237"/>
                </a:cubicBezTo>
                <a:cubicBezTo>
                  <a:pt x="3309" y="11288"/>
                  <a:pt x="3299" y="11330"/>
                  <a:pt x="3299" y="11385"/>
                </a:cubicBezTo>
                <a:cubicBezTo>
                  <a:pt x="3299" y="11455"/>
                  <a:pt x="3267" y="11495"/>
                  <a:pt x="3299" y="11559"/>
                </a:cubicBezTo>
                <a:cubicBezTo>
                  <a:pt x="3324" y="11610"/>
                  <a:pt x="3399" y="11648"/>
                  <a:pt x="3448" y="11658"/>
                </a:cubicBezTo>
                <a:cubicBezTo>
                  <a:pt x="3494" y="11667"/>
                  <a:pt x="3582" y="11635"/>
                  <a:pt x="3621" y="11609"/>
                </a:cubicBezTo>
                <a:cubicBezTo>
                  <a:pt x="3667" y="11578"/>
                  <a:pt x="3728" y="11514"/>
                  <a:pt x="3746" y="11460"/>
                </a:cubicBezTo>
                <a:cubicBezTo>
                  <a:pt x="3765" y="11403"/>
                  <a:pt x="3752" y="11286"/>
                  <a:pt x="3721" y="11237"/>
                </a:cubicBezTo>
                <a:cubicBezTo>
                  <a:pt x="3680" y="11172"/>
                  <a:pt x="3594" y="11094"/>
                  <a:pt x="3522" y="11088"/>
                </a:cubicBezTo>
                <a:cubicBezTo>
                  <a:pt x="3471" y="11084"/>
                  <a:pt x="3435" y="11080"/>
                  <a:pt x="3398" y="11112"/>
                </a:cubicBezTo>
                <a:cubicBezTo>
                  <a:pt x="3369" y="11137"/>
                  <a:pt x="3359" y="11199"/>
                  <a:pt x="3373" y="11237"/>
                </a:cubicBezTo>
                <a:cubicBezTo>
                  <a:pt x="3389" y="11281"/>
                  <a:pt x="3398" y="11302"/>
                  <a:pt x="3423" y="11336"/>
                </a:cubicBezTo>
              </a:path>
              <a:path w="6152" h="1936">
                <a:moveTo>
                  <a:pt x="4118" y="11063"/>
                </a:moveTo>
                <a:cubicBezTo>
                  <a:pt x="4051" y="11070"/>
                  <a:pt x="4019" y="11079"/>
                  <a:pt x="3969" y="11112"/>
                </a:cubicBezTo>
                <a:cubicBezTo>
                  <a:pt x="3946" y="11128"/>
                  <a:pt x="3929" y="11184"/>
                  <a:pt x="3944" y="11212"/>
                </a:cubicBezTo>
                <a:cubicBezTo>
                  <a:pt x="3960" y="11241"/>
                  <a:pt x="3992" y="11314"/>
                  <a:pt x="4018" y="11336"/>
                </a:cubicBezTo>
                <a:cubicBezTo>
                  <a:pt x="4067" y="11378"/>
                  <a:pt x="4127" y="11401"/>
                  <a:pt x="4167" y="11460"/>
                </a:cubicBezTo>
                <a:cubicBezTo>
                  <a:pt x="4204" y="11516"/>
                  <a:pt x="4227" y="11569"/>
                  <a:pt x="4242" y="11633"/>
                </a:cubicBezTo>
                <a:cubicBezTo>
                  <a:pt x="4247" y="11657"/>
                  <a:pt x="4212" y="11719"/>
                  <a:pt x="4192" y="11733"/>
                </a:cubicBezTo>
                <a:cubicBezTo>
                  <a:pt x="4157" y="11757"/>
                  <a:pt x="4083" y="11779"/>
                  <a:pt x="4043" y="11782"/>
                </a:cubicBezTo>
                <a:cubicBezTo>
                  <a:pt x="4006" y="11785"/>
                  <a:pt x="3942" y="11766"/>
                  <a:pt x="3919" y="11733"/>
                </a:cubicBezTo>
                <a:cubicBezTo>
                  <a:pt x="3911" y="11716"/>
                  <a:pt x="3902" y="11700"/>
                  <a:pt x="3894" y="11683"/>
                </a:cubicBezTo>
              </a:path>
              <a:path w="6152" h="1936">
                <a:moveTo>
                  <a:pt x="4663" y="10269"/>
                </a:moveTo>
                <a:cubicBezTo>
                  <a:pt x="4663" y="10325"/>
                  <a:pt x="4647" y="10352"/>
                  <a:pt x="4638" y="10393"/>
                </a:cubicBezTo>
                <a:cubicBezTo>
                  <a:pt x="4620" y="10476"/>
                  <a:pt x="4638" y="10581"/>
                  <a:pt x="4638" y="10666"/>
                </a:cubicBezTo>
              </a:path>
              <a:path w="6152" h="1936">
                <a:moveTo>
                  <a:pt x="4366" y="10740"/>
                </a:moveTo>
                <a:cubicBezTo>
                  <a:pt x="4490" y="10740"/>
                  <a:pt x="4614" y="10740"/>
                  <a:pt x="4738" y="10740"/>
                </a:cubicBezTo>
              </a:path>
              <a:path w="6152" h="1936">
                <a:moveTo>
                  <a:pt x="4539" y="10889"/>
                </a:moveTo>
                <a:cubicBezTo>
                  <a:pt x="4587" y="10925"/>
                  <a:pt x="4638" y="10914"/>
                  <a:pt x="4688" y="10939"/>
                </a:cubicBezTo>
                <a:cubicBezTo>
                  <a:pt x="4716" y="10953"/>
                  <a:pt x="4736" y="10969"/>
                  <a:pt x="4762" y="10988"/>
                </a:cubicBezTo>
                <a:cubicBezTo>
                  <a:pt x="4749" y="11042"/>
                  <a:pt x="4725" y="11038"/>
                  <a:pt x="4688" y="11063"/>
                </a:cubicBezTo>
                <a:cubicBezTo>
                  <a:pt x="4662" y="11080"/>
                  <a:pt x="4623" y="11133"/>
                  <a:pt x="4614" y="11137"/>
                </a:cubicBezTo>
                <a:cubicBezTo>
                  <a:pt x="4589" y="11137"/>
                  <a:pt x="4581" y="11137"/>
                  <a:pt x="4589" y="11162"/>
                </a:cubicBezTo>
                <a:cubicBezTo>
                  <a:pt x="4651" y="11189"/>
                  <a:pt x="4714" y="11187"/>
                  <a:pt x="4787" y="11187"/>
                </a:cubicBezTo>
              </a:path>
              <a:path w="6152" h="1936">
                <a:moveTo>
                  <a:pt x="5035" y="11237"/>
                </a:moveTo>
                <a:cubicBezTo>
                  <a:pt x="5085" y="11323"/>
                  <a:pt x="5164" y="11400"/>
                  <a:pt x="5209" y="11485"/>
                </a:cubicBezTo>
                <a:cubicBezTo>
                  <a:pt x="5258" y="11578"/>
                  <a:pt x="5306" y="11631"/>
                  <a:pt x="5383" y="11708"/>
                </a:cubicBezTo>
                <a:cubicBezTo>
                  <a:pt x="5448" y="11772"/>
                  <a:pt x="5494" y="11822"/>
                  <a:pt x="5556" y="11857"/>
                </a:cubicBezTo>
                <a:cubicBezTo>
                  <a:pt x="5579" y="11879"/>
                  <a:pt x="5584" y="11887"/>
                  <a:pt x="5606" y="11881"/>
                </a:cubicBezTo>
              </a:path>
              <a:path w="6152" h="1936">
                <a:moveTo>
                  <a:pt x="5556" y="11237"/>
                </a:moveTo>
                <a:cubicBezTo>
                  <a:pt x="5487" y="11313"/>
                  <a:pt x="5434" y="11371"/>
                  <a:pt x="5358" y="11435"/>
                </a:cubicBezTo>
                <a:cubicBezTo>
                  <a:pt x="5275" y="11504"/>
                  <a:pt x="5232" y="11614"/>
                  <a:pt x="5159" y="11683"/>
                </a:cubicBezTo>
                <a:cubicBezTo>
                  <a:pt x="5116" y="11723"/>
                  <a:pt x="5079" y="11762"/>
                  <a:pt x="5035" y="11807"/>
                </a:cubicBezTo>
                <a:cubicBezTo>
                  <a:pt x="4977" y="11866"/>
                  <a:pt x="5047" y="11817"/>
                  <a:pt x="5060" y="11807"/>
                </a:cubicBezTo>
              </a:path>
              <a:path w="6152" h="1936">
                <a:moveTo>
                  <a:pt x="6052" y="11385"/>
                </a:moveTo>
                <a:cubicBezTo>
                  <a:pt x="6080" y="11385"/>
                  <a:pt x="6091" y="11383"/>
                  <a:pt x="6102" y="11361"/>
                </a:cubicBezTo>
              </a:path>
              <a:path w="6152" h="1936">
                <a:moveTo>
                  <a:pt x="6772" y="11112"/>
                </a:moveTo>
                <a:cubicBezTo>
                  <a:pt x="6654" y="11086"/>
                  <a:pt x="6653" y="11095"/>
                  <a:pt x="6548" y="11112"/>
                </a:cubicBezTo>
                <a:cubicBezTo>
                  <a:pt x="6501" y="11120"/>
                  <a:pt x="6461" y="11137"/>
                  <a:pt x="6424" y="11162"/>
                </a:cubicBezTo>
                <a:cubicBezTo>
                  <a:pt x="6377" y="11194"/>
                  <a:pt x="6394" y="11232"/>
                  <a:pt x="6400" y="11261"/>
                </a:cubicBezTo>
                <a:cubicBezTo>
                  <a:pt x="6405" y="11285"/>
                  <a:pt x="6441" y="11338"/>
                  <a:pt x="6474" y="11361"/>
                </a:cubicBezTo>
                <a:cubicBezTo>
                  <a:pt x="6537" y="11405"/>
                  <a:pt x="6594" y="11442"/>
                  <a:pt x="6648" y="11485"/>
                </a:cubicBezTo>
                <a:cubicBezTo>
                  <a:pt x="6717" y="11540"/>
                  <a:pt x="6790" y="11590"/>
                  <a:pt x="6821" y="11683"/>
                </a:cubicBezTo>
                <a:cubicBezTo>
                  <a:pt x="6833" y="11720"/>
                  <a:pt x="6829" y="11811"/>
                  <a:pt x="6796" y="11832"/>
                </a:cubicBezTo>
                <a:cubicBezTo>
                  <a:pt x="6726" y="11877"/>
                  <a:pt x="6671" y="11842"/>
                  <a:pt x="6598" y="11832"/>
                </a:cubicBezTo>
                <a:cubicBezTo>
                  <a:pt x="6545" y="11824"/>
                  <a:pt x="6469" y="11810"/>
                  <a:pt x="6424" y="11782"/>
                </a:cubicBezTo>
                <a:cubicBezTo>
                  <a:pt x="6391" y="11762"/>
                  <a:pt x="6400" y="11740"/>
                  <a:pt x="6400" y="11708"/>
                </a:cubicBezTo>
              </a:path>
              <a:path w="6152" h="1936">
                <a:moveTo>
                  <a:pt x="7094" y="11261"/>
                </a:moveTo>
                <a:cubicBezTo>
                  <a:pt x="7094" y="11468"/>
                  <a:pt x="6974" y="12000"/>
                  <a:pt x="7094" y="11832"/>
                </a:cubicBezTo>
                <a:cubicBezTo>
                  <a:pt x="7125" y="11788"/>
                  <a:pt x="7119" y="11764"/>
                  <a:pt x="7119" y="11708"/>
                </a:cubicBezTo>
              </a:path>
              <a:path w="6152" h="1936">
                <a:moveTo>
                  <a:pt x="7169" y="10939"/>
                </a:moveTo>
                <a:cubicBezTo>
                  <a:pt x="7189" y="10898"/>
                  <a:pt x="7186" y="10881"/>
                  <a:pt x="7218" y="10889"/>
                </a:cubicBezTo>
              </a:path>
              <a:path w="6152" h="1936">
                <a:moveTo>
                  <a:pt x="7342" y="11584"/>
                </a:moveTo>
                <a:cubicBezTo>
                  <a:pt x="7358" y="11658"/>
                  <a:pt x="7367" y="11709"/>
                  <a:pt x="7367" y="11782"/>
                </a:cubicBezTo>
                <a:cubicBezTo>
                  <a:pt x="7391" y="11750"/>
                  <a:pt x="7406" y="11700"/>
                  <a:pt x="7417" y="11658"/>
                </a:cubicBezTo>
                <a:cubicBezTo>
                  <a:pt x="7429" y="11611"/>
                  <a:pt x="7457" y="11557"/>
                  <a:pt x="7466" y="11509"/>
                </a:cubicBezTo>
                <a:cubicBezTo>
                  <a:pt x="7477" y="11447"/>
                  <a:pt x="7496" y="11412"/>
                  <a:pt x="7541" y="11361"/>
                </a:cubicBezTo>
                <a:cubicBezTo>
                  <a:pt x="7560" y="11339"/>
                  <a:pt x="7609" y="11320"/>
                  <a:pt x="7640" y="11336"/>
                </a:cubicBezTo>
                <a:cubicBezTo>
                  <a:pt x="7738" y="11387"/>
                  <a:pt x="7732" y="11418"/>
                  <a:pt x="7764" y="11509"/>
                </a:cubicBezTo>
                <a:cubicBezTo>
                  <a:pt x="7790" y="11582"/>
                  <a:pt x="7818" y="11669"/>
                  <a:pt x="7863" y="11733"/>
                </a:cubicBezTo>
                <a:cubicBezTo>
                  <a:pt x="7887" y="11767"/>
                  <a:pt x="7912" y="11799"/>
                  <a:pt x="7938" y="11832"/>
                </a:cubicBezTo>
              </a:path>
              <a:path w="6152" h="1936">
                <a:moveTo>
                  <a:pt x="8062" y="11385"/>
                </a:moveTo>
                <a:cubicBezTo>
                  <a:pt x="8122" y="11455"/>
                  <a:pt x="8151" y="11537"/>
                  <a:pt x="8210" y="11609"/>
                </a:cubicBezTo>
                <a:cubicBezTo>
                  <a:pt x="8282" y="11697"/>
                  <a:pt x="8373" y="11760"/>
                  <a:pt x="8458" y="11832"/>
                </a:cubicBezTo>
                <a:cubicBezTo>
                  <a:pt x="8521" y="11886"/>
                  <a:pt x="8569" y="11925"/>
                  <a:pt x="8657" y="11931"/>
                </a:cubicBezTo>
                <a:cubicBezTo>
                  <a:pt x="8673" y="11931"/>
                  <a:pt x="8690" y="11931"/>
                  <a:pt x="8706" y="11931"/>
                </a:cubicBezTo>
              </a:path>
              <a:path w="6152" h="1936">
                <a:moveTo>
                  <a:pt x="8458" y="11435"/>
                </a:moveTo>
                <a:cubicBezTo>
                  <a:pt x="8331" y="11567"/>
                  <a:pt x="8244" y="11695"/>
                  <a:pt x="8136" y="11832"/>
                </a:cubicBezTo>
                <a:cubicBezTo>
                  <a:pt x="8085" y="11897"/>
                  <a:pt x="8063" y="11906"/>
                  <a:pt x="7987" y="11906"/>
                </a:cubicBezTo>
              </a:path>
              <a:path w="6152" h="1936">
                <a:moveTo>
                  <a:pt x="6672" y="9996"/>
                </a:moveTo>
                <a:cubicBezTo>
                  <a:pt x="6678" y="10098"/>
                  <a:pt x="6691" y="10197"/>
                  <a:pt x="6722" y="10294"/>
                </a:cubicBezTo>
                <a:cubicBezTo>
                  <a:pt x="6746" y="10371"/>
                  <a:pt x="6809" y="10444"/>
                  <a:pt x="6846" y="10517"/>
                </a:cubicBezTo>
                <a:cubicBezTo>
                  <a:pt x="6870" y="10564"/>
                  <a:pt x="6896" y="10627"/>
                  <a:pt x="6921" y="10666"/>
                </a:cubicBezTo>
                <a:cubicBezTo>
                  <a:pt x="6943" y="10688"/>
                  <a:pt x="6954" y="10697"/>
                  <a:pt x="6921" y="10691"/>
                </a:cubicBezTo>
              </a:path>
              <a:path w="6152" h="1936">
                <a:moveTo>
                  <a:pt x="6648" y="10567"/>
                </a:moveTo>
                <a:cubicBezTo>
                  <a:pt x="6690" y="10603"/>
                  <a:pt x="6725" y="10636"/>
                  <a:pt x="6772" y="10666"/>
                </a:cubicBezTo>
                <a:cubicBezTo>
                  <a:pt x="6819" y="10697"/>
                  <a:pt x="6892" y="10747"/>
                  <a:pt x="6945" y="10765"/>
                </a:cubicBezTo>
                <a:cubicBezTo>
                  <a:pt x="7013" y="10788"/>
                  <a:pt x="7017" y="10776"/>
                  <a:pt x="7069" y="10765"/>
                </a:cubicBezTo>
                <a:cubicBezTo>
                  <a:pt x="7154" y="10747"/>
                  <a:pt x="7141" y="10736"/>
                  <a:pt x="7193" y="10666"/>
                </a:cubicBezTo>
                <a:cubicBezTo>
                  <a:pt x="7242" y="10600"/>
                  <a:pt x="7209" y="10558"/>
                  <a:pt x="7193" y="1046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340080" y="4081320"/>
            <a:ext cx="17640" cy="9720"/>
          </a:xfrm>
          <a:custGeom>
            <a:avLst/>
            <a:gdLst/>
            <a:ahLst/>
            <a:rect l="l" t="t" r="r" b="b"/>
            <a:pathLst>
              <a:path w="51" h="26">
                <a:moveTo>
                  <a:pt x="9277" y="11336"/>
                </a:moveTo>
                <a:cubicBezTo>
                  <a:pt x="9277" y="11375"/>
                  <a:pt x="9294" y="11361"/>
                  <a:pt x="9327" y="1136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589200" y="3830760"/>
            <a:ext cx="1098720" cy="492120"/>
          </a:xfrm>
          <a:custGeom>
            <a:avLst/>
            <a:gdLst/>
            <a:ahLst/>
            <a:rect l="l" t="t" r="r" b="b"/>
            <a:pathLst>
              <a:path w="3052" h="1365">
                <a:moveTo>
                  <a:pt x="10319" y="11261"/>
                </a:moveTo>
                <a:cubicBezTo>
                  <a:pt x="10308" y="11199"/>
                  <a:pt x="10294" y="11191"/>
                  <a:pt x="10220" y="11187"/>
                </a:cubicBezTo>
                <a:cubicBezTo>
                  <a:pt x="10136" y="11182"/>
                  <a:pt x="10066" y="11189"/>
                  <a:pt x="9996" y="11212"/>
                </a:cubicBezTo>
                <a:cubicBezTo>
                  <a:pt x="9971" y="11212"/>
                  <a:pt x="9963" y="11212"/>
                  <a:pt x="9971" y="11237"/>
                </a:cubicBezTo>
                <a:cubicBezTo>
                  <a:pt x="10017" y="11282"/>
                  <a:pt x="10044" y="11276"/>
                  <a:pt x="10096" y="11311"/>
                </a:cubicBezTo>
                <a:cubicBezTo>
                  <a:pt x="10131" y="11335"/>
                  <a:pt x="10215" y="11404"/>
                  <a:pt x="10244" y="11435"/>
                </a:cubicBezTo>
                <a:cubicBezTo>
                  <a:pt x="10288" y="11483"/>
                  <a:pt x="10329" y="11560"/>
                  <a:pt x="10344" y="11609"/>
                </a:cubicBezTo>
                <a:cubicBezTo>
                  <a:pt x="10372" y="11699"/>
                  <a:pt x="10380" y="11697"/>
                  <a:pt x="10319" y="11757"/>
                </a:cubicBezTo>
                <a:cubicBezTo>
                  <a:pt x="10279" y="11796"/>
                  <a:pt x="10224" y="11782"/>
                  <a:pt x="10170" y="11782"/>
                </a:cubicBezTo>
                <a:cubicBezTo>
                  <a:pt x="10118" y="11782"/>
                  <a:pt x="10087" y="11746"/>
                  <a:pt x="10046" y="11733"/>
                </a:cubicBezTo>
                <a:cubicBezTo>
                  <a:pt x="9980" y="11712"/>
                  <a:pt x="10001" y="11703"/>
                  <a:pt x="10046" y="11658"/>
                </a:cubicBezTo>
                <a:cubicBezTo>
                  <a:pt x="10054" y="11650"/>
                  <a:pt x="10063" y="11641"/>
                  <a:pt x="10071" y="11633"/>
                </a:cubicBezTo>
              </a:path>
              <a:path w="3052" h="1365">
                <a:moveTo>
                  <a:pt x="10765" y="11509"/>
                </a:moveTo>
                <a:cubicBezTo>
                  <a:pt x="10765" y="11617"/>
                  <a:pt x="10774" y="11685"/>
                  <a:pt x="10790" y="11782"/>
                </a:cubicBezTo>
                <a:cubicBezTo>
                  <a:pt x="10793" y="11802"/>
                  <a:pt x="10790" y="11964"/>
                  <a:pt x="10790" y="11782"/>
                </a:cubicBezTo>
              </a:path>
              <a:path w="3052" h="1365">
                <a:moveTo>
                  <a:pt x="10765" y="11088"/>
                </a:moveTo>
                <a:cubicBezTo>
                  <a:pt x="10765" y="11030"/>
                  <a:pt x="10765" y="11021"/>
                  <a:pt x="10765" y="10988"/>
                </a:cubicBezTo>
              </a:path>
              <a:path w="3052" h="1365">
                <a:moveTo>
                  <a:pt x="11013" y="11385"/>
                </a:moveTo>
                <a:cubicBezTo>
                  <a:pt x="11036" y="11496"/>
                  <a:pt x="11082" y="11641"/>
                  <a:pt x="11088" y="11757"/>
                </a:cubicBezTo>
                <a:cubicBezTo>
                  <a:pt x="11088" y="11799"/>
                  <a:pt x="11088" y="11807"/>
                  <a:pt x="11088" y="11832"/>
                </a:cubicBezTo>
                <a:cubicBezTo>
                  <a:pt x="11088" y="11903"/>
                  <a:pt x="11084" y="11789"/>
                  <a:pt x="11088" y="11782"/>
                </a:cubicBezTo>
                <a:cubicBezTo>
                  <a:pt x="11112" y="11737"/>
                  <a:pt x="11128" y="11663"/>
                  <a:pt x="11137" y="11609"/>
                </a:cubicBezTo>
                <a:cubicBezTo>
                  <a:pt x="11150" y="11529"/>
                  <a:pt x="11162" y="11509"/>
                  <a:pt x="11187" y="11435"/>
                </a:cubicBezTo>
                <a:cubicBezTo>
                  <a:pt x="11200" y="11395"/>
                  <a:pt x="11213" y="11333"/>
                  <a:pt x="11261" y="11311"/>
                </a:cubicBezTo>
                <a:cubicBezTo>
                  <a:pt x="11324" y="11283"/>
                  <a:pt x="11335" y="11294"/>
                  <a:pt x="11385" y="11311"/>
                </a:cubicBezTo>
                <a:cubicBezTo>
                  <a:pt x="11422" y="11324"/>
                  <a:pt x="11436" y="11388"/>
                  <a:pt x="11460" y="11435"/>
                </a:cubicBezTo>
                <a:cubicBezTo>
                  <a:pt x="11496" y="11507"/>
                  <a:pt x="11523" y="11578"/>
                  <a:pt x="11534" y="11658"/>
                </a:cubicBezTo>
                <a:cubicBezTo>
                  <a:pt x="11546" y="11743"/>
                  <a:pt x="11532" y="11851"/>
                  <a:pt x="11559" y="11931"/>
                </a:cubicBezTo>
                <a:cubicBezTo>
                  <a:pt x="11580" y="11994"/>
                  <a:pt x="11582" y="12018"/>
                  <a:pt x="11609" y="11981"/>
                </a:cubicBezTo>
                <a:cubicBezTo>
                  <a:pt x="11637" y="11952"/>
                  <a:pt x="11645" y="11939"/>
                  <a:pt x="11633" y="11906"/>
                </a:cubicBezTo>
              </a:path>
              <a:path w="3052" h="1365">
                <a:moveTo>
                  <a:pt x="11584" y="10716"/>
                </a:moveTo>
                <a:cubicBezTo>
                  <a:pt x="11628" y="10662"/>
                  <a:pt x="11658" y="10645"/>
                  <a:pt x="11733" y="10641"/>
                </a:cubicBezTo>
                <a:cubicBezTo>
                  <a:pt x="11786" y="10638"/>
                  <a:pt x="11837" y="10667"/>
                  <a:pt x="11857" y="10691"/>
                </a:cubicBezTo>
                <a:cubicBezTo>
                  <a:pt x="11889" y="10729"/>
                  <a:pt x="11883" y="10772"/>
                  <a:pt x="11857" y="10815"/>
                </a:cubicBezTo>
                <a:cubicBezTo>
                  <a:pt x="11827" y="10865"/>
                  <a:pt x="11776" y="10907"/>
                  <a:pt x="11757" y="10964"/>
                </a:cubicBezTo>
                <a:cubicBezTo>
                  <a:pt x="11733" y="11033"/>
                  <a:pt x="11763" y="11069"/>
                  <a:pt x="11807" y="11112"/>
                </a:cubicBezTo>
                <a:cubicBezTo>
                  <a:pt x="11855" y="11159"/>
                  <a:pt x="11922" y="11182"/>
                  <a:pt x="11981" y="11212"/>
                </a:cubicBezTo>
                <a:cubicBezTo>
                  <a:pt x="12029" y="11236"/>
                  <a:pt x="12043" y="11245"/>
                  <a:pt x="12080" y="11237"/>
                </a:cubicBezTo>
              </a:path>
              <a:path w="3052" h="1365">
                <a:moveTo>
                  <a:pt x="12328" y="11460"/>
                </a:moveTo>
                <a:cubicBezTo>
                  <a:pt x="12443" y="11585"/>
                  <a:pt x="12536" y="11668"/>
                  <a:pt x="12650" y="11782"/>
                </a:cubicBezTo>
                <a:cubicBezTo>
                  <a:pt x="12717" y="11849"/>
                  <a:pt x="12790" y="11889"/>
                  <a:pt x="12874" y="11931"/>
                </a:cubicBezTo>
                <a:cubicBezTo>
                  <a:pt x="12934" y="11962"/>
                  <a:pt x="12969" y="11971"/>
                  <a:pt x="12998" y="11931"/>
                </a:cubicBezTo>
                <a:cubicBezTo>
                  <a:pt x="13006" y="11923"/>
                  <a:pt x="13014" y="11914"/>
                  <a:pt x="13022" y="11906"/>
                </a:cubicBezTo>
              </a:path>
              <a:path w="3052" h="1365">
                <a:moveTo>
                  <a:pt x="12700" y="11336"/>
                </a:moveTo>
                <a:cubicBezTo>
                  <a:pt x="12600" y="11451"/>
                  <a:pt x="12505" y="11573"/>
                  <a:pt x="12402" y="11683"/>
                </a:cubicBezTo>
                <a:cubicBezTo>
                  <a:pt x="12335" y="11754"/>
                  <a:pt x="12240" y="11814"/>
                  <a:pt x="12179" y="11881"/>
                </a:cubicBezTo>
                <a:cubicBezTo>
                  <a:pt x="12154" y="11914"/>
                  <a:pt x="12130" y="11948"/>
                  <a:pt x="12105" y="1198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938240" y="4483080"/>
            <a:ext cx="2813040" cy="527040"/>
          </a:xfrm>
          <a:custGeom>
            <a:avLst/>
            <a:gdLst/>
            <a:ahLst/>
            <a:rect l="l" t="t" r="r" b="b"/>
            <a:pathLst>
              <a:path w="7814" h="1464">
                <a:moveTo>
                  <a:pt x="5779" y="12973"/>
                </a:moveTo>
                <a:cubicBezTo>
                  <a:pt x="5789" y="12986"/>
                  <a:pt x="5836" y="13066"/>
                  <a:pt x="5804" y="13022"/>
                </a:cubicBezTo>
                <a:cubicBezTo>
                  <a:pt x="5786" y="12997"/>
                  <a:pt x="5749" y="12975"/>
                  <a:pt x="5730" y="12973"/>
                </a:cubicBezTo>
                <a:cubicBezTo>
                  <a:pt x="5664" y="12965"/>
                  <a:pt x="5610" y="12982"/>
                  <a:pt x="5556" y="12998"/>
                </a:cubicBezTo>
                <a:cubicBezTo>
                  <a:pt x="5513" y="13011"/>
                  <a:pt x="5492" y="13037"/>
                  <a:pt x="5457" y="13072"/>
                </a:cubicBezTo>
                <a:cubicBezTo>
                  <a:pt x="5424" y="13105"/>
                  <a:pt x="5431" y="13138"/>
                  <a:pt x="5457" y="13171"/>
                </a:cubicBezTo>
                <a:cubicBezTo>
                  <a:pt x="5497" y="13221"/>
                  <a:pt x="5553" y="13263"/>
                  <a:pt x="5606" y="13295"/>
                </a:cubicBezTo>
                <a:cubicBezTo>
                  <a:pt x="5659" y="13327"/>
                  <a:pt x="5741" y="13375"/>
                  <a:pt x="5779" y="13419"/>
                </a:cubicBezTo>
                <a:cubicBezTo>
                  <a:pt x="5813" y="13458"/>
                  <a:pt x="5852" y="13524"/>
                  <a:pt x="5879" y="13568"/>
                </a:cubicBezTo>
                <a:cubicBezTo>
                  <a:pt x="5909" y="13618"/>
                  <a:pt x="5917" y="13682"/>
                  <a:pt x="5854" y="13717"/>
                </a:cubicBezTo>
                <a:cubicBezTo>
                  <a:pt x="5818" y="13737"/>
                  <a:pt x="5749" y="13760"/>
                  <a:pt x="5705" y="13767"/>
                </a:cubicBezTo>
                <a:cubicBezTo>
                  <a:pt x="5669" y="13773"/>
                  <a:pt x="5569" y="13753"/>
                  <a:pt x="5531" y="13742"/>
                </a:cubicBezTo>
                <a:cubicBezTo>
                  <a:pt x="5488" y="13729"/>
                  <a:pt x="5420" y="13682"/>
                  <a:pt x="5407" y="13667"/>
                </a:cubicBezTo>
                <a:cubicBezTo>
                  <a:pt x="5379" y="13635"/>
                  <a:pt x="5383" y="13634"/>
                  <a:pt x="5383" y="13593"/>
                </a:cubicBezTo>
              </a:path>
              <a:path w="7814" h="1464">
                <a:moveTo>
                  <a:pt x="6226" y="13196"/>
                </a:moveTo>
                <a:cubicBezTo>
                  <a:pt x="6226" y="13311"/>
                  <a:pt x="6233" y="13412"/>
                  <a:pt x="6251" y="13519"/>
                </a:cubicBezTo>
                <a:cubicBezTo>
                  <a:pt x="6260" y="13573"/>
                  <a:pt x="6251" y="13637"/>
                  <a:pt x="6251" y="13692"/>
                </a:cubicBezTo>
                <a:cubicBezTo>
                  <a:pt x="6266" y="13678"/>
                  <a:pt x="6251" y="13600"/>
                  <a:pt x="6251" y="13543"/>
                </a:cubicBezTo>
              </a:path>
              <a:path w="7814" h="1464">
                <a:moveTo>
                  <a:pt x="6251" y="12774"/>
                </a:moveTo>
                <a:cubicBezTo>
                  <a:pt x="6304" y="12735"/>
                  <a:pt x="6282" y="12760"/>
                  <a:pt x="6325" y="12774"/>
                </a:cubicBezTo>
              </a:path>
              <a:path w="7814" h="1464">
                <a:moveTo>
                  <a:pt x="6548" y="13370"/>
                </a:moveTo>
                <a:cubicBezTo>
                  <a:pt x="6566" y="13469"/>
                  <a:pt x="6573" y="13545"/>
                  <a:pt x="6573" y="13643"/>
                </a:cubicBezTo>
                <a:cubicBezTo>
                  <a:pt x="6573" y="13689"/>
                  <a:pt x="6593" y="13673"/>
                  <a:pt x="6598" y="13667"/>
                </a:cubicBezTo>
                <a:cubicBezTo>
                  <a:pt x="6632" y="13621"/>
                  <a:pt x="6623" y="13578"/>
                  <a:pt x="6623" y="13519"/>
                </a:cubicBezTo>
                <a:cubicBezTo>
                  <a:pt x="6623" y="13472"/>
                  <a:pt x="6635" y="13392"/>
                  <a:pt x="6648" y="13345"/>
                </a:cubicBezTo>
                <a:cubicBezTo>
                  <a:pt x="6654" y="13325"/>
                  <a:pt x="6707" y="13210"/>
                  <a:pt x="6722" y="13196"/>
                </a:cubicBezTo>
                <a:cubicBezTo>
                  <a:pt x="6732" y="13187"/>
                  <a:pt x="6833" y="13140"/>
                  <a:pt x="6846" y="13146"/>
                </a:cubicBezTo>
                <a:cubicBezTo>
                  <a:pt x="6897" y="13169"/>
                  <a:pt x="6965" y="13276"/>
                  <a:pt x="6995" y="13320"/>
                </a:cubicBezTo>
                <a:cubicBezTo>
                  <a:pt x="7031" y="13374"/>
                  <a:pt x="7080" y="13537"/>
                  <a:pt x="7094" y="13593"/>
                </a:cubicBezTo>
                <a:cubicBezTo>
                  <a:pt x="7108" y="13647"/>
                  <a:pt x="7134" y="13719"/>
                  <a:pt x="7144" y="13767"/>
                </a:cubicBezTo>
                <a:cubicBezTo>
                  <a:pt x="7149" y="13791"/>
                  <a:pt x="7169" y="13868"/>
                  <a:pt x="7169" y="13816"/>
                </a:cubicBezTo>
                <a:cubicBezTo>
                  <a:pt x="7169" y="13808"/>
                  <a:pt x="7169" y="13799"/>
                  <a:pt x="7169" y="13791"/>
                </a:cubicBezTo>
              </a:path>
              <a:path w="7814" h="1464">
                <a:moveTo>
                  <a:pt x="7169" y="12477"/>
                </a:moveTo>
                <a:cubicBezTo>
                  <a:pt x="7177" y="12469"/>
                  <a:pt x="7185" y="12460"/>
                  <a:pt x="7193" y="12452"/>
                </a:cubicBezTo>
                <a:cubicBezTo>
                  <a:pt x="7231" y="12481"/>
                  <a:pt x="7244" y="12477"/>
                  <a:pt x="7293" y="12477"/>
                </a:cubicBezTo>
                <a:cubicBezTo>
                  <a:pt x="7319" y="12477"/>
                  <a:pt x="7421" y="12503"/>
                  <a:pt x="7441" y="12526"/>
                </a:cubicBezTo>
                <a:cubicBezTo>
                  <a:pt x="7451" y="12538"/>
                  <a:pt x="7479" y="12603"/>
                  <a:pt x="7466" y="12626"/>
                </a:cubicBezTo>
                <a:cubicBezTo>
                  <a:pt x="7459" y="12639"/>
                  <a:pt x="7382" y="12693"/>
                  <a:pt x="7367" y="12700"/>
                </a:cubicBezTo>
                <a:cubicBezTo>
                  <a:pt x="7340" y="12712"/>
                  <a:pt x="7303" y="12720"/>
                  <a:pt x="7293" y="12725"/>
                </a:cubicBezTo>
                <a:cubicBezTo>
                  <a:pt x="7277" y="12733"/>
                  <a:pt x="7277" y="12745"/>
                  <a:pt x="7317" y="12750"/>
                </a:cubicBezTo>
                <a:cubicBezTo>
                  <a:pt x="7363" y="12756"/>
                  <a:pt x="7378" y="12761"/>
                  <a:pt x="7417" y="12774"/>
                </a:cubicBezTo>
                <a:cubicBezTo>
                  <a:pt x="7459" y="12788"/>
                  <a:pt x="7482" y="12815"/>
                  <a:pt x="7516" y="12849"/>
                </a:cubicBezTo>
                <a:cubicBezTo>
                  <a:pt x="7552" y="12885"/>
                  <a:pt x="7541" y="12924"/>
                  <a:pt x="7541" y="12973"/>
                </a:cubicBezTo>
                <a:cubicBezTo>
                  <a:pt x="7541" y="13026"/>
                  <a:pt x="7508" y="13022"/>
                  <a:pt x="7466" y="13022"/>
                </a:cubicBezTo>
                <a:cubicBezTo>
                  <a:pt x="7451" y="13022"/>
                  <a:pt x="7263" y="13021"/>
                  <a:pt x="7293" y="12998"/>
                </a:cubicBezTo>
                <a:cubicBezTo>
                  <a:pt x="7301" y="12998"/>
                  <a:pt x="7309" y="12998"/>
                  <a:pt x="7317" y="12998"/>
                </a:cubicBezTo>
              </a:path>
              <a:path w="7814" h="1464">
                <a:moveTo>
                  <a:pt x="7789" y="13246"/>
                </a:moveTo>
                <a:cubicBezTo>
                  <a:pt x="7819" y="13308"/>
                  <a:pt x="7856" y="13359"/>
                  <a:pt x="7888" y="13419"/>
                </a:cubicBezTo>
                <a:cubicBezTo>
                  <a:pt x="7934" y="13505"/>
                  <a:pt x="8010" y="13559"/>
                  <a:pt x="8062" y="13643"/>
                </a:cubicBezTo>
                <a:cubicBezTo>
                  <a:pt x="8115" y="13729"/>
                  <a:pt x="8186" y="13773"/>
                  <a:pt x="8260" y="13841"/>
                </a:cubicBezTo>
                <a:cubicBezTo>
                  <a:pt x="8301" y="13879"/>
                  <a:pt x="8353" y="13910"/>
                  <a:pt x="8409" y="13915"/>
                </a:cubicBezTo>
                <a:cubicBezTo>
                  <a:pt x="8417" y="13915"/>
                  <a:pt x="8426" y="13915"/>
                  <a:pt x="8434" y="13915"/>
                </a:cubicBezTo>
              </a:path>
              <a:path w="7814" h="1464">
                <a:moveTo>
                  <a:pt x="8161" y="13370"/>
                </a:moveTo>
                <a:cubicBezTo>
                  <a:pt x="8075" y="13443"/>
                  <a:pt x="8018" y="13513"/>
                  <a:pt x="7938" y="13593"/>
                </a:cubicBezTo>
                <a:cubicBezTo>
                  <a:pt x="7872" y="13660"/>
                  <a:pt x="7850" y="13698"/>
                  <a:pt x="7764" y="13742"/>
                </a:cubicBezTo>
              </a:path>
              <a:path w="7814" h="1464">
                <a:moveTo>
                  <a:pt x="8458" y="13047"/>
                </a:moveTo>
                <a:cubicBezTo>
                  <a:pt x="8527" y="13034"/>
                  <a:pt x="8585" y="13024"/>
                  <a:pt x="8657" y="13022"/>
                </a:cubicBezTo>
                <a:cubicBezTo>
                  <a:pt x="8726" y="13020"/>
                  <a:pt x="8774" y="13021"/>
                  <a:pt x="8830" y="13047"/>
                </a:cubicBezTo>
                <a:cubicBezTo>
                  <a:pt x="8898" y="13079"/>
                  <a:pt x="8947" y="13129"/>
                  <a:pt x="8979" y="13196"/>
                </a:cubicBezTo>
                <a:cubicBezTo>
                  <a:pt x="9003" y="13246"/>
                  <a:pt x="9034" y="13337"/>
                  <a:pt x="9054" y="13395"/>
                </a:cubicBezTo>
                <a:cubicBezTo>
                  <a:pt x="9078" y="13468"/>
                  <a:pt x="9109" y="13541"/>
                  <a:pt x="9128" y="13618"/>
                </a:cubicBezTo>
                <a:cubicBezTo>
                  <a:pt x="9145" y="13688"/>
                  <a:pt x="9136" y="13772"/>
                  <a:pt x="9153" y="13841"/>
                </a:cubicBezTo>
                <a:cubicBezTo>
                  <a:pt x="9176" y="13864"/>
                  <a:pt x="9184" y="13868"/>
                  <a:pt x="9178" y="13891"/>
                </a:cubicBezTo>
                <a:cubicBezTo>
                  <a:pt x="9187" y="13845"/>
                  <a:pt x="9201" y="13802"/>
                  <a:pt x="9203" y="13742"/>
                </a:cubicBezTo>
                <a:cubicBezTo>
                  <a:pt x="9208" y="13557"/>
                  <a:pt x="9188" y="13375"/>
                  <a:pt x="9178" y="13196"/>
                </a:cubicBezTo>
                <a:cubicBezTo>
                  <a:pt x="9169" y="13040"/>
                  <a:pt x="9163" y="12874"/>
                  <a:pt x="9153" y="12725"/>
                </a:cubicBezTo>
                <a:cubicBezTo>
                  <a:pt x="9148" y="12648"/>
                  <a:pt x="9151" y="12593"/>
                  <a:pt x="9128" y="12526"/>
                </a:cubicBezTo>
                <a:cubicBezTo>
                  <a:pt x="9115" y="12486"/>
                  <a:pt x="9114" y="12519"/>
                  <a:pt x="9103" y="12477"/>
                </a:cubicBezTo>
                <a:cubicBezTo>
                  <a:pt x="9153" y="12488"/>
                  <a:pt x="9202" y="12490"/>
                  <a:pt x="9252" y="12502"/>
                </a:cubicBezTo>
                <a:cubicBezTo>
                  <a:pt x="9343" y="12524"/>
                  <a:pt x="9431" y="12545"/>
                  <a:pt x="9525" y="12551"/>
                </a:cubicBezTo>
                <a:cubicBezTo>
                  <a:pt x="10184" y="12592"/>
                  <a:pt x="10852" y="12529"/>
                  <a:pt x="11509" y="12576"/>
                </a:cubicBezTo>
                <a:cubicBezTo>
                  <a:pt x="11733" y="12592"/>
                  <a:pt x="11964" y="12567"/>
                  <a:pt x="12179" y="12551"/>
                </a:cubicBezTo>
                <a:cubicBezTo>
                  <a:pt x="12245" y="12546"/>
                  <a:pt x="12250" y="12552"/>
                  <a:pt x="12303" y="12526"/>
                </a:cubicBezTo>
                <a:cubicBezTo>
                  <a:pt x="12328" y="12526"/>
                  <a:pt x="12336" y="12526"/>
                  <a:pt x="12328" y="12502"/>
                </a:cubicBezTo>
                <a:cubicBezTo>
                  <a:pt x="12251" y="12510"/>
                  <a:pt x="12187" y="12515"/>
                  <a:pt x="12105" y="12526"/>
                </a:cubicBezTo>
              </a:path>
              <a:path w="7814" h="1464">
                <a:moveTo>
                  <a:pt x="9971" y="13122"/>
                </a:moveTo>
                <a:cubicBezTo>
                  <a:pt x="9971" y="13182"/>
                  <a:pt x="9990" y="13196"/>
                  <a:pt x="9996" y="13246"/>
                </a:cubicBezTo>
                <a:cubicBezTo>
                  <a:pt x="10003" y="13311"/>
                  <a:pt x="9996" y="13209"/>
                  <a:pt x="9996" y="13196"/>
                </a:cubicBezTo>
                <a:cubicBezTo>
                  <a:pt x="9996" y="13165"/>
                  <a:pt x="9953" y="13111"/>
                  <a:pt x="9922" y="13097"/>
                </a:cubicBezTo>
                <a:cubicBezTo>
                  <a:pt x="9889" y="13082"/>
                  <a:pt x="9817" y="13094"/>
                  <a:pt x="9798" y="13122"/>
                </a:cubicBezTo>
                <a:cubicBezTo>
                  <a:pt x="9754" y="13185"/>
                  <a:pt x="9725" y="13246"/>
                  <a:pt x="9699" y="13320"/>
                </a:cubicBezTo>
                <a:cubicBezTo>
                  <a:pt x="9665" y="13420"/>
                  <a:pt x="9683" y="13450"/>
                  <a:pt x="9699" y="13543"/>
                </a:cubicBezTo>
                <a:cubicBezTo>
                  <a:pt x="9715" y="13637"/>
                  <a:pt x="9735" y="13668"/>
                  <a:pt x="9823" y="13717"/>
                </a:cubicBezTo>
                <a:cubicBezTo>
                  <a:pt x="9893" y="13756"/>
                  <a:pt x="9913" y="13767"/>
                  <a:pt x="9996" y="13767"/>
                </a:cubicBezTo>
                <a:cubicBezTo>
                  <a:pt x="10013" y="13767"/>
                  <a:pt x="10029" y="13767"/>
                  <a:pt x="10046" y="13767"/>
                </a:cubicBezTo>
              </a:path>
              <a:path w="7814" h="1464">
                <a:moveTo>
                  <a:pt x="10294" y="13345"/>
                </a:moveTo>
                <a:cubicBezTo>
                  <a:pt x="10294" y="13391"/>
                  <a:pt x="10272" y="13404"/>
                  <a:pt x="10269" y="13444"/>
                </a:cubicBezTo>
                <a:cubicBezTo>
                  <a:pt x="10264" y="13520"/>
                  <a:pt x="10282" y="13574"/>
                  <a:pt x="10294" y="13643"/>
                </a:cubicBezTo>
                <a:cubicBezTo>
                  <a:pt x="10305" y="13708"/>
                  <a:pt x="10332" y="13748"/>
                  <a:pt x="10393" y="13791"/>
                </a:cubicBezTo>
                <a:cubicBezTo>
                  <a:pt x="10438" y="13823"/>
                  <a:pt x="10563" y="13852"/>
                  <a:pt x="10616" y="13841"/>
                </a:cubicBezTo>
                <a:cubicBezTo>
                  <a:pt x="10686" y="13826"/>
                  <a:pt x="10704" y="13766"/>
                  <a:pt x="10740" y="13717"/>
                </a:cubicBezTo>
                <a:cubicBezTo>
                  <a:pt x="10781" y="13662"/>
                  <a:pt x="10765" y="13589"/>
                  <a:pt x="10765" y="13519"/>
                </a:cubicBezTo>
                <a:cubicBezTo>
                  <a:pt x="10765" y="13473"/>
                  <a:pt x="10750" y="13355"/>
                  <a:pt x="10716" y="13320"/>
                </a:cubicBezTo>
                <a:cubicBezTo>
                  <a:pt x="10679" y="13283"/>
                  <a:pt x="10616" y="13200"/>
                  <a:pt x="10567" y="13171"/>
                </a:cubicBezTo>
                <a:cubicBezTo>
                  <a:pt x="10529" y="13148"/>
                  <a:pt x="10493" y="13146"/>
                  <a:pt x="10443" y="13146"/>
                </a:cubicBezTo>
                <a:cubicBezTo>
                  <a:pt x="10407" y="13146"/>
                  <a:pt x="10331" y="13179"/>
                  <a:pt x="10319" y="13221"/>
                </a:cubicBezTo>
                <a:cubicBezTo>
                  <a:pt x="10302" y="13282"/>
                  <a:pt x="10313" y="13342"/>
                  <a:pt x="10319" y="13395"/>
                </a:cubicBezTo>
                <a:cubicBezTo>
                  <a:pt x="10325" y="13450"/>
                  <a:pt x="10346" y="13503"/>
                  <a:pt x="10393" y="13543"/>
                </a:cubicBezTo>
                <a:cubicBezTo>
                  <a:pt x="10426" y="13568"/>
                  <a:pt x="10459" y="13593"/>
                  <a:pt x="10492" y="13618"/>
                </a:cubicBezTo>
              </a:path>
              <a:path w="7814" h="1464">
                <a:moveTo>
                  <a:pt x="11162" y="13171"/>
                </a:moveTo>
                <a:cubicBezTo>
                  <a:pt x="11119" y="13171"/>
                  <a:pt x="11019" y="13170"/>
                  <a:pt x="10988" y="13196"/>
                </a:cubicBezTo>
                <a:cubicBezTo>
                  <a:pt x="10978" y="13205"/>
                  <a:pt x="10952" y="13274"/>
                  <a:pt x="10964" y="13295"/>
                </a:cubicBezTo>
                <a:cubicBezTo>
                  <a:pt x="10990" y="13344"/>
                  <a:pt x="11048" y="13365"/>
                  <a:pt x="11088" y="13395"/>
                </a:cubicBezTo>
                <a:cubicBezTo>
                  <a:pt x="11136" y="13431"/>
                  <a:pt x="11183" y="13465"/>
                  <a:pt x="11237" y="13494"/>
                </a:cubicBezTo>
                <a:cubicBezTo>
                  <a:pt x="11285" y="13520"/>
                  <a:pt x="11347" y="13584"/>
                  <a:pt x="11361" y="13643"/>
                </a:cubicBezTo>
                <a:cubicBezTo>
                  <a:pt x="11372" y="13689"/>
                  <a:pt x="11365" y="13735"/>
                  <a:pt x="11336" y="13767"/>
                </a:cubicBezTo>
                <a:cubicBezTo>
                  <a:pt x="11288" y="13820"/>
                  <a:pt x="11243" y="13776"/>
                  <a:pt x="11187" y="13767"/>
                </a:cubicBezTo>
                <a:cubicBezTo>
                  <a:pt x="11125" y="13757"/>
                  <a:pt x="11089" y="13738"/>
                  <a:pt x="11038" y="13692"/>
                </a:cubicBezTo>
                <a:cubicBezTo>
                  <a:pt x="11005" y="13662"/>
                  <a:pt x="10996" y="13634"/>
                  <a:pt x="10988" y="13593"/>
                </a:cubicBezTo>
              </a:path>
              <a:path w="7814" h="1464">
                <a:moveTo>
                  <a:pt x="11534" y="13246"/>
                </a:moveTo>
                <a:cubicBezTo>
                  <a:pt x="11589" y="13332"/>
                  <a:pt x="11636" y="13396"/>
                  <a:pt x="11708" y="13469"/>
                </a:cubicBezTo>
                <a:cubicBezTo>
                  <a:pt x="11802" y="13564"/>
                  <a:pt x="11905" y="13642"/>
                  <a:pt x="12005" y="13717"/>
                </a:cubicBezTo>
                <a:cubicBezTo>
                  <a:pt x="12092" y="13783"/>
                  <a:pt x="12161" y="13860"/>
                  <a:pt x="12254" y="13841"/>
                </a:cubicBezTo>
                <a:cubicBezTo>
                  <a:pt x="12282" y="13841"/>
                  <a:pt x="12292" y="13838"/>
                  <a:pt x="12303" y="13816"/>
                </a:cubicBezTo>
              </a:path>
              <a:path w="7814" h="1464">
                <a:moveTo>
                  <a:pt x="12030" y="13146"/>
                </a:moveTo>
                <a:cubicBezTo>
                  <a:pt x="11948" y="13212"/>
                  <a:pt x="11902" y="13267"/>
                  <a:pt x="11832" y="13345"/>
                </a:cubicBezTo>
                <a:cubicBezTo>
                  <a:pt x="11761" y="13424"/>
                  <a:pt x="11702" y="13512"/>
                  <a:pt x="11633" y="13593"/>
                </a:cubicBezTo>
                <a:cubicBezTo>
                  <a:pt x="11587" y="13647"/>
                  <a:pt x="11532" y="13721"/>
                  <a:pt x="11509" y="13791"/>
                </a:cubicBezTo>
                <a:cubicBezTo>
                  <a:pt x="11497" y="13827"/>
                  <a:pt x="11515" y="13841"/>
                  <a:pt x="11534" y="13866"/>
                </a:cubicBezTo>
              </a:path>
              <a:path w="7814" h="1464">
                <a:moveTo>
                  <a:pt x="12973" y="13171"/>
                </a:moveTo>
                <a:cubicBezTo>
                  <a:pt x="13047" y="13171"/>
                  <a:pt x="13122" y="13171"/>
                  <a:pt x="13196" y="13171"/>
                </a:cubicBezTo>
              </a:path>
              <a:path w="7814" h="1464">
                <a:moveTo>
                  <a:pt x="12898" y="13419"/>
                </a:moveTo>
                <a:cubicBezTo>
                  <a:pt x="12989" y="13440"/>
                  <a:pt x="13053" y="13444"/>
                  <a:pt x="13146" y="1344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6b6b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Assignment:</a:t>
            </a:r>
            <a:br>
              <a:rPr sz="7500"/>
            </a:b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Pages 389-391</a:t>
            </a:r>
            <a:br>
              <a:rPr sz="7500"/>
            </a:b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#23,41,43,45,47,65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312920" y="6589800"/>
            <a:ext cx="1440" cy="19080"/>
          </a:xfrm>
          <a:custGeom>
            <a:avLst/>
            <a:gdLst/>
            <a:ahLst/>
            <a:rect l="l" t="t" r="r" b="b"/>
            <a:pathLst>
              <a:path w="1" h="50">
                <a:moveTo>
                  <a:pt x="3646" y="18306"/>
                </a:moveTo>
                <a:cubicBezTo>
                  <a:pt x="3646" y="18331"/>
                  <a:pt x="3646" y="18339"/>
                  <a:pt x="3646" y="1835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1T11:14:06Z</dcterms:created>
  <dc:creator>jnewman</dc:creator>
  <dc:description/>
  <dc:language>en-US</dc:language>
  <cp:lastModifiedBy>abeason</cp:lastModifiedBy>
  <dcterms:modified xsi:type="dcterms:W3CDTF">2008-12-01T18:23:30Z</dcterms:modified>
  <cp:revision>17</cp:revision>
  <dc:subject/>
  <dc:title>Lesson 5.2 part three</dc:title>
</cp:coreProperties>
</file>